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EC1-2BCC-4618-9078-356A2B6E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534-81F1-4105-9E95-2EAF4D3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2AF-5CFB-4EF3-91B2-842BD875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009-A100-4CFD-8C13-FDDB1A23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2EC0-9777-4181-84ED-6851D74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3CF-FC7D-40BF-86D9-340674E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5617-1DCC-415A-A12D-7CAAD073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5211-D7D6-48EC-917B-87D2D09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C27D-60F8-49A0-8C6A-75859C9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AD47-2290-4914-B8D7-65C00584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4575-F5E1-4E16-874A-B95604B6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741-FA47-4DEB-BFEC-5522955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1963-B753-4C01-A5A6-1ECCD85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1B3-CF57-4D5D-8555-FD36409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8BC-E725-45C4-AA16-840333A4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75E-0073-479A-88EC-F44D1C85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4F7-B7D3-44ED-8201-C1BCF848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B1B-26EE-43BB-9680-A9A0E4C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CFE-917E-4411-882D-38958B76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24C-86F7-46E2-B810-3A8CC07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D44-EC04-4BAC-B341-470CB6FC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B71-A085-44D5-9564-FC39E590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9FA-DF17-417B-A8EA-BBE49C7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969-ABD0-468A-AA9A-C42A5D9C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05B-C5C3-4A4F-AA68-593B223AE4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688-EE56-411C-BBBE-517C0FB57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210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2268360" y="3944520"/>
            <a:ext cx="0" cy="276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300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575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onship between radians and degre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4292640"/>
            <a:ext cx="2017800" cy="201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055200">
            <a:off x="2842920" y="4005000"/>
            <a:ext cx="671400" cy="1224000"/>
          </a:xfrm>
          <a:custGeom>
            <a:avLst/>
            <a:gdLst/>
            <a:ahLst/>
            <a:rect l="l" t="t" r="r" b="b"/>
            <a:pathLst>
              <a:path w="423" h="771">
                <a:moveTo>
                  <a:pt x="363" y="771"/>
                </a:moveTo>
                <a:cubicBezTo>
                  <a:pt x="393" y="608"/>
                  <a:pt x="423" y="446"/>
                  <a:pt x="363" y="318"/>
                </a:cubicBezTo>
                <a:cubicBezTo>
                  <a:pt x="303" y="190"/>
                  <a:pt x="151" y="95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93440" y="397944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9240" y="50608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/36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06400" y="3560760"/>
            <a:ext cx="12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165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43040" y="64911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539604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0/2</a:t>
            </a: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1360" y="3570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½ </a:t>
            </a: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09760" y="64911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3/2 </a:t>
            </a: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560" y="3244680"/>
            <a:ext cx="33703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8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66920" y="3995280"/>
            <a:ext cx="1265400" cy="1303560"/>
          </a:xfrm>
          <a:prstGeom prst="line">
            <a:avLst/>
          </a:prstGeom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64160" y="1765440"/>
            <a:ext cx="976320" cy="1380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7080" y="3633840"/>
            <a:ext cx="277920" cy="438120"/>
          </a:xfrm>
          <a:custGeom>
            <a:avLst/>
            <a:gdLst/>
            <a:ahLst/>
            <a:rect l="l" t="t" r="r" b="b"/>
            <a:pathLst>
              <a:path w="770" h="1216">
                <a:moveTo>
                  <a:pt x="18604" y="10195"/>
                </a:moveTo>
                <a:cubicBezTo>
                  <a:pt x="18604" y="10154"/>
                  <a:pt x="18595" y="10137"/>
                  <a:pt x="18628" y="10145"/>
                </a:cubicBezTo>
                <a:cubicBezTo>
                  <a:pt x="18628" y="10234"/>
                  <a:pt x="18617" y="10310"/>
                  <a:pt x="18604" y="10393"/>
                </a:cubicBezTo>
                <a:cubicBezTo>
                  <a:pt x="18599" y="10423"/>
                  <a:pt x="18604" y="10461"/>
                  <a:pt x="18604" y="10492"/>
                </a:cubicBezTo>
              </a:path>
              <a:path w="770" h="1216">
                <a:moveTo>
                  <a:pt x="18876" y="10120"/>
                </a:moveTo>
                <a:cubicBezTo>
                  <a:pt x="18884" y="10112"/>
                  <a:pt x="18893" y="10104"/>
                  <a:pt x="18901" y="10096"/>
                </a:cubicBezTo>
                <a:cubicBezTo>
                  <a:pt x="18901" y="10144"/>
                  <a:pt x="18890" y="10200"/>
                  <a:pt x="18876" y="10244"/>
                </a:cubicBezTo>
                <a:cubicBezTo>
                  <a:pt x="18857" y="10302"/>
                  <a:pt x="18828" y="10404"/>
                  <a:pt x="18852" y="10468"/>
                </a:cubicBezTo>
                <a:cubicBezTo>
                  <a:pt x="18877" y="10534"/>
                  <a:pt x="18935" y="10517"/>
                  <a:pt x="18976" y="10492"/>
                </a:cubicBezTo>
              </a:path>
              <a:path w="770" h="1216">
                <a:moveTo>
                  <a:pt x="19050" y="10096"/>
                </a:moveTo>
                <a:cubicBezTo>
                  <a:pt x="19035" y="10139"/>
                  <a:pt x="18978" y="10120"/>
                  <a:pt x="18926" y="10120"/>
                </a:cubicBezTo>
                <a:cubicBezTo>
                  <a:pt x="18789" y="10120"/>
                  <a:pt x="18659" y="10116"/>
                  <a:pt x="18529" y="10096"/>
                </a:cubicBezTo>
                <a:cubicBezTo>
                  <a:pt x="18474" y="10088"/>
                  <a:pt x="18411" y="10096"/>
                  <a:pt x="18355" y="10096"/>
                </a:cubicBezTo>
              </a:path>
              <a:path w="770" h="1216">
                <a:moveTo>
                  <a:pt x="19124" y="10740"/>
                </a:moveTo>
                <a:cubicBezTo>
                  <a:pt x="19108" y="10693"/>
                  <a:pt x="19094" y="10732"/>
                  <a:pt x="19050" y="10716"/>
                </a:cubicBezTo>
                <a:cubicBezTo>
                  <a:pt x="18964" y="10685"/>
                  <a:pt x="18892" y="10705"/>
                  <a:pt x="18802" y="10691"/>
                </a:cubicBezTo>
                <a:cubicBezTo>
                  <a:pt x="18721" y="10678"/>
                  <a:pt x="18607" y="10688"/>
                  <a:pt x="18529" y="10666"/>
                </a:cubicBezTo>
                <a:cubicBezTo>
                  <a:pt x="18477" y="10651"/>
                  <a:pt x="18479" y="10641"/>
                  <a:pt x="18430" y="10641"/>
                </a:cubicBezTo>
              </a:path>
              <a:path w="770" h="1216">
                <a:moveTo>
                  <a:pt x="18579" y="10815"/>
                </a:moveTo>
                <a:cubicBezTo>
                  <a:pt x="18579" y="10865"/>
                  <a:pt x="18561" y="10897"/>
                  <a:pt x="18529" y="10939"/>
                </a:cubicBezTo>
                <a:cubicBezTo>
                  <a:pt x="18498" y="10980"/>
                  <a:pt x="18504" y="11012"/>
                  <a:pt x="18504" y="11063"/>
                </a:cubicBezTo>
                <a:cubicBezTo>
                  <a:pt x="18504" y="11071"/>
                  <a:pt x="18504" y="11080"/>
                  <a:pt x="18504" y="11088"/>
                </a:cubicBezTo>
                <a:cubicBezTo>
                  <a:pt x="18611" y="11088"/>
                  <a:pt x="18702" y="11086"/>
                  <a:pt x="18802" y="11063"/>
                </a:cubicBezTo>
                <a:cubicBezTo>
                  <a:pt x="18838" y="11055"/>
                  <a:pt x="18937" y="11088"/>
                  <a:pt x="18901" y="11088"/>
                </a:cubicBezTo>
                <a:cubicBezTo>
                  <a:pt x="18893" y="11088"/>
                  <a:pt x="18884" y="11088"/>
                  <a:pt x="18876" y="11088"/>
                </a:cubicBezTo>
              </a:path>
              <a:path w="770" h="1216">
                <a:moveTo>
                  <a:pt x="18728" y="11013"/>
                </a:moveTo>
                <a:cubicBezTo>
                  <a:pt x="18688" y="11067"/>
                  <a:pt x="18681" y="11115"/>
                  <a:pt x="18678" y="11187"/>
                </a:cubicBezTo>
                <a:cubicBezTo>
                  <a:pt x="18678" y="11253"/>
                  <a:pt x="18678" y="11270"/>
                  <a:pt x="18678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24800" y="418788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8678" y="11733"/>
                </a:moveTo>
                <a:cubicBezTo>
                  <a:pt x="18685" y="11706"/>
                  <a:pt x="18718" y="11643"/>
                  <a:pt x="18752" y="11633"/>
                </a:cubicBezTo>
                <a:cubicBezTo>
                  <a:pt x="18818" y="11614"/>
                  <a:pt x="18856" y="11647"/>
                  <a:pt x="18876" y="11708"/>
                </a:cubicBezTo>
                <a:cubicBezTo>
                  <a:pt x="18902" y="11787"/>
                  <a:pt x="18851" y="11817"/>
                  <a:pt x="18802" y="11857"/>
                </a:cubicBezTo>
                <a:cubicBezTo>
                  <a:pt x="18766" y="11887"/>
                  <a:pt x="18738" y="11914"/>
                  <a:pt x="18728" y="11956"/>
                </a:cubicBezTo>
                <a:cubicBezTo>
                  <a:pt x="18806" y="11956"/>
                  <a:pt x="18888" y="11969"/>
                  <a:pt x="18951" y="11931"/>
                </a:cubicBezTo>
              </a:path>
              <a:path w="770" h="894">
                <a:moveTo>
                  <a:pt x="19124" y="11807"/>
                </a:moveTo>
                <a:cubicBezTo>
                  <a:pt x="19124" y="11782"/>
                  <a:pt x="19124" y="11774"/>
                  <a:pt x="19124" y="11757"/>
                </a:cubicBezTo>
                <a:cubicBezTo>
                  <a:pt x="19178" y="11775"/>
                  <a:pt x="19137" y="11807"/>
                  <a:pt x="19124" y="11857"/>
                </a:cubicBezTo>
                <a:cubicBezTo>
                  <a:pt x="19124" y="11881"/>
                  <a:pt x="19124" y="11890"/>
                  <a:pt x="19124" y="11906"/>
                </a:cubicBezTo>
              </a:path>
              <a:path w="770" h="894">
                <a:moveTo>
                  <a:pt x="19224" y="11708"/>
                </a:moveTo>
                <a:cubicBezTo>
                  <a:pt x="19232" y="11700"/>
                  <a:pt x="19240" y="11691"/>
                  <a:pt x="19248" y="11683"/>
                </a:cubicBezTo>
                <a:cubicBezTo>
                  <a:pt x="19248" y="11738"/>
                  <a:pt x="19227" y="11777"/>
                  <a:pt x="19224" y="11832"/>
                </a:cubicBezTo>
                <a:cubicBezTo>
                  <a:pt x="19221" y="11893"/>
                  <a:pt x="19245" y="11918"/>
                  <a:pt x="19298" y="11931"/>
                </a:cubicBezTo>
              </a:path>
              <a:path w="770" h="894">
                <a:moveTo>
                  <a:pt x="19447" y="11708"/>
                </a:moveTo>
                <a:cubicBezTo>
                  <a:pt x="19434" y="11668"/>
                  <a:pt x="19399" y="11683"/>
                  <a:pt x="19348" y="11683"/>
                </a:cubicBezTo>
                <a:cubicBezTo>
                  <a:pt x="19290" y="11683"/>
                  <a:pt x="19232" y="11683"/>
                  <a:pt x="19174" y="11683"/>
                </a:cubicBezTo>
              </a:path>
              <a:path w="770" h="894">
                <a:moveTo>
                  <a:pt x="19447" y="12105"/>
                </a:moveTo>
                <a:cubicBezTo>
                  <a:pt x="19384" y="12105"/>
                  <a:pt x="19339" y="12083"/>
                  <a:pt x="19273" y="12080"/>
                </a:cubicBezTo>
                <a:cubicBezTo>
                  <a:pt x="19084" y="12071"/>
                  <a:pt x="18892" y="12080"/>
                  <a:pt x="18703" y="12080"/>
                </a:cubicBezTo>
              </a:path>
              <a:path w="770" h="894">
                <a:moveTo>
                  <a:pt x="18976" y="12229"/>
                </a:moveTo>
                <a:cubicBezTo>
                  <a:pt x="19000" y="12204"/>
                  <a:pt x="19008" y="12195"/>
                  <a:pt x="19025" y="12179"/>
                </a:cubicBezTo>
                <a:cubicBezTo>
                  <a:pt x="18971" y="12193"/>
                  <a:pt x="18953" y="12227"/>
                  <a:pt x="18926" y="12278"/>
                </a:cubicBezTo>
                <a:cubicBezTo>
                  <a:pt x="18895" y="12336"/>
                  <a:pt x="18874" y="12447"/>
                  <a:pt x="18926" y="12502"/>
                </a:cubicBezTo>
                <a:cubicBezTo>
                  <a:pt x="18968" y="12547"/>
                  <a:pt x="19061" y="12534"/>
                  <a:pt x="19100" y="12502"/>
                </a:cubicBezTo>
                <a:cubicBezTo>
                  <a:pt x="19122" y="12479"/>
                  <a:pt x="19130" y="12474"/>
                  <a:pt x="19124" y="12452"/>
                </a:cubicBezTo>
                <a:cubicBezTo>
                  <a:pt x="19081" y="12419"/>
                  <a:pt x="19058" y="12427"/>
                  <a:pt x="19000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1120" y="4170240"/>
            <a:ext cx="403200" cy="322560"/>
          </a:xfrm>
          <a:custGeom>
            <a:avLst/>
            <a:gdLst/>
            <a:ahLst/>
            <a:rect l="l" t="t" r="r" b="b"/>
            <a:pathLst>
              <a:path w="1118" h="894">
                <a:moveTo>
                  <a:pt x="20067" y="12030"/>
                </a:moveTo>
                <a:cubicBezTo>
                  <a:pt x="20009" y="12030"/>
                  <a:pt x="19951" y="12030"/>
                  <a:pt x="19893" y="12030"/>
                </a:cubicBezTo>
              </a:path>
              <a:path w="1118" h="894">
                <a:moveTo>
                  <a:pt x="19993" y="12129"/>
                </a:moveTo>
                <a:cubicBezTo>
                  <a:pt x="20030" y="12145"/>
                  <a:pt x="20091" y="12165"/>
                  <a:pt x="20042" y="12179"/>
                </a:cubicBezTo>
                <a:cubicBezTo>
                  <a:pt x="20018" y="12186"/>
                  <a:pt x="19971" y="12179"/>
                  <a:pt x="19943" y="12179"/>
                </a:cubicBezTo>
              </a:path>
              <a:path w="1118" h="894">
                <a:moveTo>
                  <a:pt x="20588" y="11683"/>
                </a:moveTo>
                <a:cubicBezTo>
                  <a:pt x="20588" y="11650"/>
                  <a:pt x="20598" y="11580"/>
                  <a:pt x="20613" y="11609"/>
                </a:cubicBezTo>
                <a:cubicBezTo>
                  <a:pt x="20641" y="11662"/>
                  <a:pt x="20595" y="11758"/>
                  <a:pt x="20588" y="11807"/>
                </a:cubicBezTo>
                <a:cubicBezTo>
                  <a:pt x="20579" y="11867"/>
                  <a:pt x="20593" y="11902"/>
                  <a:pt x="20613" y="11956"/>
                </a:cubicBezTo>
              </a:path>
              <a:path w="1118" h="894">
                <a:moveTo>
                  <a:pt x="20886" y="12055"/>
                </a:moveTo>
                <a:cubicBezTo>
                  <a:pt x="20773" y="12055"/>
                  <a:pt x="20669" y="12048"/>
                  <a:pt x="20563" y="12030"/>
                </a:cubicBezTo>
                <a:cubicBezTo>
                  <a:pt x="20524" y="12024"/>
                  <a:pt x="20479" y="12030"/>
                  <a:pt x="20439" y="12030"/>
                </a:cubicBezTo>
              </a:path>
              <a:path w="1118" h="894">
                <a:moveTo>
                  <a:pt x="20563" y="12204"/>
                </a:moveTo>
                <a:cubicBezTo>
                  <a:pt x="20512" y="12179"/>
                  <a:pt x="20602" y="12156"/>
                  <a:pt x="20638" y="12154"/>
                </a:cubicBezTo>
                <a:cubicBezTo>
                  <a:pt x="20681" y="12151"/>
                  <a:pt x="20761" y="12138"/>
                  <a:pt x="20786" y="12179"/>
                </a:cubicBezTo>
                <a:cubicBezTo>
                  <a:pt x="20814" y="12224"/>
                  <a:pt x="20762" y="12244"/>
                  <a:pt x="20737" y="12254"/>
                </a:cubicBezTo>
                <a:cubicBezTo>
                  <a:pt x="20688" y="12275"/>
                  <a:pt x="20652" y="12273"/>
                  <a:pt x="20613" y="12303"/>
                </a:cubicBezTo>
                <a:cubicBezTo>
                  <a:pt x="20651" y="12312"/>
                  <a:pt x="20682" y="12326"/>
                  <a:pt x="20712" y="12353"/>
                </a:cubicBezTo>
                <a:cubicBezTo>
                  <a:pt x="20746" y="12383"/>
                  <a:pt x="20737" y="12409"/>
                  <a:pt x="20737" y="12452"/>
                </a:cubicBezTo>
                <a:cubicBezTo>
                  <a:pt x="20737" y="12460"/>
                  <a:pt x="20737" y="12469"/>
                  <a:pt x="20737" y="12477"/>
                </a:cubicBezTo>
                <a:cubicBezTo>
                  <a:pt x="20668" y="12477"/>
                  <a:pt x="20628" y="12467"/>
                  <a:pt x="20563" y="12452"/>
                </a:cubicBezTo>
                <a:cubicBezTo>
                  <a:pt x="20555" y="12452"/>
                  <a:pt x="20546" y="12452"/>
                  <a:pt x="20538" y="12452"/>
                </a:cubicBezTo>
              </a:path>
              <a:path w="1118" h="894">
                <a:moveTo>
                  <a:pt x="20836" y="11782"/>
                </a:move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</a:path>
              <a:path w="1118" h="894">
                <a:moveTo>
                  <a:pt x="20836" y="11782"/>
                </a:moveTo>
                <a:cubicBezTo>
                  <a:pt x="20807" y="11744"/>
                  <a:pt x="20811" y="11731"/>
                  <a:pt x="20811" y="11683"/>
                </a:cubicBezTo>
                <a:cubicBezTo>
                  <a:pt x="20780" y="11724"/>
                  <a:pt x="20765" y="11780"/>
                  <a:pt x="20762" y="11832"/>
                </a:cubicBezTo>
                <a:cubicBezTo>
                  <a:pt x="20758" y="11902"/>
                  <a:pt x="20789" y="11935"/>
                  <a:pt x="20836" y="11981"/>
                </a:cubicBezTo>
                <a:cubicBezTo>
                  <a:pt x="20877" y="12021"/>
                  <a:pt x="20926" y="12004"/>
                  <a:pt x="20960" y="11956"/>
                </a:cubicBezTo>
                <a:cubicBezTo>
                  <a:pt x="20980" y="11915"/>
                  <a:pt x="20989" y="11909"/>
                  <a:pt x="20985" y="11881"/>
                </a:cubicBezTo>
              </a:path>
              <a:path w="1118" h="894">
                <a:moveTo>
                  <a:pt x="20985" y="11609"/>
                </a:moveTo>
                <a:cubicBezTo>
                  <a:pt x="21010" y="11609"/>
                  <a:pt x="21018" y="11609"/>
                  <a:pt x="21010" y="11584"/>
                </a:cubicBezTo>
                <a:cubicBezTo>
                  <a:pt x="20853" y="11584"/>
                  <a:pt x="20695" y="11584"/>
                  <a:pt x="20538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4759200"/>
            <a:ext cx="563400" cy="169920"/>
          </a:xfrm>
          <a:custGeom>
            <a:avLst/>
            <a:gdLst/>
            <a:ahLst/>
            <a:rect l="l" t="t" r="r" b="b"/>
            <a:pathLst>
              <a:path w="1564" h="472">
                <a:moveTo>
                  <a:pt x="18728" y="13444"/>
                </a:moveTo>
                <a:cubicBezTo>
                  <a:pt x="18696" y="13444"/>
                  <a:pt x="18662" y="13436"/>
                  <a:pt x="18653" y="13419"/>
                </a:cubicBezTo>
                <a:cubicBezTo>
                  <a:pt x="18625" y="13364"/>
                  <a:pt x="18636" y="13370"/>
                  <a:pt x="18653" y="13320"/>
                </a:cubicBezTo>
                <a:cubicBezTo>
                  <a:pt x="18669" y="13271"/>
                  <a:pt x="18724" y="13227"/>
                  <a:pt x="18777" y="13221"/>
                </a:cubicBezTo>
                <a:cubicBezTo>
                  <a:pt x="18867" y="13210"/>
                  <a:pt x="18899" y="13214"/>
                  <a:pt x="18951" y="13271"/>
                </a:cubicBezTo>
                <a:cubicBezTo>
                  <a:pt x="19001" y="13325"/>
                  <a:pt x="18968" y="13412"/>
                  <a:pt x="18926" y="13469"/>
                </a:cubicBezTo>
                <a:cubicBezTo>
                  <a:pt x="18884" y="13526"/>
                  <a:pt x="18832" y="13567"/>
                  <a:pt x="18827" y="13643"/>
                </a:cubicBezTo>
                <a:cubicBezTo>
                  <a:pt x="18827" y="13659"/>
                  <a:pt x="18827" y="13676"/>
                  <a:pt x="18827" y="13692"/>
                </a:cubicBezTo>
                <a:cubicBezTo>
                  <a:pt x="18909" y="13692"/>
                  <a:pt x="18974" y="13680"/>
                  <a:pt x="19050" y="13667"/>
                </a:cubicBezTo>
                <a:cubicBezTo>
                  <a:pt x="19079" y="13662"/>
                  <a:pt x="19118" y="13667"/>
                  <a:pt x="19149" y="13667"/>
                </a:cubicBezTo>
              </a:path>
              <a:path w="1564" h="472">
                <a:moveTo>
                  <a:pt x="19224" y="13469"/>
                </a:moveTo>
                <a:cubicBezTo>
                  <a:pt x="19224" y="13543"/>
                  <a:pt x="19224" y="13618"/>
                  <a:pt x="19224" y="13692"/>
                </a:cubicBezTo>
              </a:path>
              <a:path w="1564" h="472">
                <a:moveTo>
                  <a:pt x="19422" y="13370"/>
                </a:moveTo>
                <a:cubicBezTo>
                  <a:pt x="19422" y="13329"/>
                  <a:pt x="19386" y="13389"/>
                  <a:pt x="19372" y="13419"/>
                </a:cubicBezTo>
                <a:cubicBezTo>
                  <a:pt x="19358" y="13450"/>
                  <a:pt x="19332" y="13529"/>
                  <a:pt x="19348" y="13568"/>
                </a:cubicBezTo>
                <a:cubicBezTo>
                  <a:pt x="19371" y="13624"/>
                  <a:pt x="19424" y="13618"/>
                  <a:pt x="19472" y="13618"/>
                </a:cubicBezTo>
                <a:cubicBezTo>
                  <a:pt x="19515" y="13618"/>
                  <a:pt x="19511" y="13619"/>
                  <a:pt x="19546" y="13593"/>
                </a:cubicBezTo>
              </a:path>
              <a:path w="1564" h="472">
                <a:moveTo>
                  <a:pt x="19546" y="13419"/>
                </a:moveTo>
                <a:cubicBezTo>
                  <a:pt x="19546" y="13411"/>
                  <a:pt x="19546" y="13403"/>
                  <a:pt x="19546" y="13395"/>
                </a:cubicBezTo>
                <a:cubicBezTo>
                  <a:pt x="19430" y="13395"/>
                  <a:pt x="19315" y="13395"/>
                  <a:pt x="19199" y="13395"/>
                </a:cubicBezTo>
              </a:path>
              <a:path w="1564" h="472">
                <a:moveTo>
                  <a:pt x="19968" y="13370"/>
                </a:moveTo>
                <a:cubicBezTo>
                  <a:pt x="19960" y="13370"/>
                  <a:pt x="19951" y="13370"/>
                  <a:pt x="19943" y="13370"/>
                </a:cubicBezTo>
                <a:cubicBezTo>
                  <a:pt x="19996" y="13370"/>
                  <a:pt x="20013" y="13350"/>
                  <a:pt x="20067" y="13345"/>
                </a:cubicBezTo>
                <a:cubicBezTo>
                  <a:pt x="20108" y="13342"/>
                  <a:pt x="20150" y="13345"/>
                  <a:pt x="20191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19960" y="4633920"/>
            <a:ext cx="216000" cy="33984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20786" y="12998"/>
                </a:moveTo>
                <a:cubicBezTo>
                  <a:pt x="20808" y="13027"/>
                  <a:pt x="20829" y="13083"/>
                  <a:pt x="20836" y="13122"/>
                </a:cubicBezTo>
                <a:cubicBezTo>
                  <a:pt x="20844" y="13169"/>
                  <a:pt x="20836" y="13223"/>
                  <a:pt x="20836" y="13271"/>
                </a:cubicBezTo>
              </a:path>
              <a:path w="596" h="943">
                <a:moveTo>
                  <a:pt x="20960" y="12923"/>
                </a:moveTo>
                <a:cubicBezTo>
                  <a:pt x="20960" y="12852"/>
                  <a:pt x="20964" y="12966"/>
                  <a:pt x="20960" y="12973"/>
                </a:cubicBezTo>
                <a:cubicBezTo>
                  <a:pt x="20927" y="13032"/>
                  <a:pt x="20928" y="13063"/>
                  <a:pt x="20960" y="13122"/>
                </a:cubicBezTo>
                <a:cubicBezTo>
                  <a:pt x="21000" y="13196"/>
                  <a:pt x="21031" y="13196"/>
                  <a:pt x="21109" y="13196"/>
                </a:cubicBezTo>
                <a:cubicBezTo>
                  <a:pt x="21160" y="13196"/>
                  <a:pt x="21178" y="13194"/>
                  <a:pt x="21183" y="13146"/>
                </a:cubicBezTo>
              </a:path>
              <a:path w="596" h="943">
                <a:moveTo>
                  <a:pt x="21084" y="12898"/>
                </a:moveTo>
                <a:cubicBezTo>
                  <a:pt x="21039" y="12883"/>
                  <a:pt x="21059" y="12874"/>
                  <a:pt x="20985" y="12874"/>
                </a:cubicBezTo>
                <a:cubicBezTo>
                  <a:pt x="20864" y="12874"/>
                  <a:pt x="20752" y="12872"/>
                  <a:pt x="20638" y="12898"/>
                </a:cubicBezTo>
                <a:cubicBezTo>
                  <a:pt x="20630" y="12898"/>
                  <a:pt x="20621" y="12898"/>
                  <a:pt x="20613" y="12898"/>
                </a:cubicBezTo>
              </a:path>
              <a:path w="596" h="943">
                <a:moveTo>
                  <a:pt x="21208" y="13370"/>
                </a:moveTo>
                <a:cubicBezTo>
                  <a:pt x="21195" y="13332"/>
                  <a:pt x="21179" y="13345"/>
                  <a:pt x="21134" y="13345"/>
                </a:cubicBezTo>
                <a:cubicBezTo>
                  <a:pt x="21057" y="13345"/>
                  <a:pt x="20992" y="13370"/>
                  <a:pt x="20910" y="13370"/>
                </a:cubicBezTo>
                <a:cubicBezTo>
                  <a:pt x="20852" y="13370"/>
                  <a:pt x="20795" y="13370"/>
                  <a:pt x="20737" y="13370"/>
                </a:cubicBezTo>
              </a:path>
              <a:path w="596" h="943">
                <a:moveTo>
                  <a:pt x="20935" y="13469"/>
                </a:moveTo>
                <a:cubicBezTo>
                  <a:pt x="20927" y="13477"/>
                  <a:pt x="20918" y="13486"/>
                  <a:pt x="20910" y="13494"/>
                </a:cubicBezTo>
                <a:cubicBezTo>
                  <a:pt x="20942" y="13483"/>
                  <a:pt x="20987" y="13487"/>
                  <a:pt x="21034" y="13469"/>
                </a:cubicBezTo>
                <a:cubicBezTo>
                  <a:pt x="21084" y="13450"/>
                  <a:pt x="21111" y="13458"/>
                  <a:pt x="21158" y="13494"/>
                </a:cubicBezTo>
                <a:cubicBezTo>
                  <a:pt x="21147" y="13570"/>
                  <a:pt x="21117" y="13586"/>
                  <a:pt x="21059" y="13643"/>
                </a:cubicBezTo>
                <a:cubicBezTo>
                  <a:pt x="21028" y="13674"/>
                  <a:pt x="21001" y="13684"/>
                  <a:pt x="20960" y="13692"/>
                </a:cubicBezTo>
                <a:cubicBezTo>
                  <a:pt x="20981" y="13724"/>
                  <a:pt x="21030" y="13738"/>
                  <a:pt x="21084" y="13742"/>
                </a:cubicBezTo>
                <a:cubicBezTo>
                  <a:pt x="21112" y="13742"/>
                  <a:pt x="21123" y="13744"/>
                  <a:pt x="21134" y="13767"/>
                </a:cubicBezTo>
                <a:cubicBezTo>
                  <a:pt x="21121" y="13816"/>
                  <a:pt x="21109" y="13816"/>
                  <a:pt x="21059" y="13816"/>
                </a:cubicBezTo>
                <a:cubicBezTo>
                  <a:pt x="21000" y="13816"/>
                  <a:pt x="20974" y="13813"/>
                  <a:pt x="20935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93000" y="4749840"/>
            <a:ext cx="63720" cy="63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22076" y="13246"/>
                </a:moveTo>
                <a:cubicBezTo>
                  <a:pt x="22084" y="13246"/>
                  <a:pt x="22093" y="13246"/>
                  <a:pt x="22101" y="13246"/>
                </a:cubicBezTo>
                <a:cubicBezTo>
                  <a:pt x="22044" y="13246"/>
                  <a:pt x="22023" y="13236"/>
                  <a:pt x="21977" y="13221"/>
                </a:cubicBezTo>
                <a:cubicBezTo>
                  <a:pt x="21949" y="13221"/>
                  <a:pt x="21938" y="13219"/>
                  <a:pt x="21927" y="13196"/>
                </a:cubicBezTo>
              </a:path>
              <a:path w="175" h="175">
                <a:moveTo>
                  <a:pt x="22051" y="13345"/>
                </a:moveTo>
                <a:cubicBezTo>
                  <a:pt x="22001" y="13345"/>
                  <a:pt x="21993" y="13356"/>
                  <a:pt x="21952" y="13370"/>
                </a:cubicBezTo>
                <a:cubicBezTo>
                  <a:pt x="21944" y="13370"/>
                  <a:pt x="21935" y="13370"/>
                  <a:pt x="21927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61200" y="4554360"/>
            <a:ext cx="285840" cy="411480"/>
          </a:xfrm>
          <a:custGeom>
            <a:avLst/>
            <a:gdLst/>
            <a:ahLst/>
            <a:rect l="l" t="t" r="r" b="b"/>
            <a:pathLst>
              <a:path w="795" h="1142">
                <a:moveTo>
                  <a:pt x="22671" y="12700"/>
                </a:moveTo>
                <a:cubicBezTo>
                  <a:pt x="22689" y="12687"/>
                  <a:pt x="22750" y="12635"/>
                  <a:pt x="22721" y="12675"/>
                </a:cubicBezTo>
                <a:cubicBezTo>
                  <a:pt x="22683" y="12728"/>
                  <a:pt x="22671" y="12727"/>
                  <a:pt x="22671" y="12799"/>
                </a:cubicBezTo>
                <a:cubicBezTo>
                  <a:pt x="22671" y="12868"/>
                  <a:pt x="22727" y="12859"/>
                  <a:pt x="22771" y="12874"/>
                </a:cubicBezTo>
                <a:cubicBezTo>
                  <a:pt x="22839" y="12898"/>
                  <a:pt x="22925" y="12940"/>
                  <a:pt x="22969" y="12998"/>
                </a:cubicBezTo>
                <a:cubicBezTo>
                  <a:pt x="23014" y="13056"/>
                  <a:pt x="23012" y="13122"/>
                  <a:pt x="22944" y="13146"/>
                </a:cubicBezTo>
                <a:cubicBezTo>
                  <a:pt x="22901" y="13161"/>
                  <a:pt x="22810" y="13135"/>
                  <a:pt x="22771" y="13122"/>
                </a:cubicBezTo>
                <a:cubicBezTo>
                  <a:pt x="22727" y="13100"/>
                  <a:pt x="22715" y="13097"/>
                  <a:pt x="22696" y="13072"/>
                </a:cubicBezTo>
              </a:path>
              <a:path w="795" h="1142">
                <a:moveTo>
                  <a:pt x="22920" y="12700"/>
                </a:moveTo>
                <a:cubicBezTo>
                  <a:pt x="22961" y="12700"/>
                  <a:pt x="22886" y="12700"/>
                  <a:pt x="22845" y="12700"/>
                </a:cubicBezTo>
                <a:cubicBezTo>
                  <a:pt x="22787" y="12700"/>
                  <a:pt x="22729" y="12700"/>
                  <a:pt x="22671" y="12700"/>
                </a:cubicBezTo>
              </a:path>
              <a:path w="795" h="1142">
                <a:moveTo>
                  <a:pt x="23168" y="12849"/>
                </a:moveTo>
                <a:cubicBezTo>
                  <a:pt x="23168" y="12841"/>
                  <a:pt x="23168" y="12832"/>
                  <a:pt x="23168" y="12824"/>
                </a:cubicBezTo>
                <a:cubicBezTo>
                  <a:pt x="23207" y="12838"/>
                  <a:pt x="23192" y="12874"/>
                  <a:pt x="23192" y="12923"/>
                </a:cubicBezTo>
                <a:cubicBezTo>
                  <a:pt x="23192" y="12981"/>
                  <a:pt x="23192" y="13039"/>
                  <a:pt x="23192" y="13097"/>
                </a:cubicBezTo>
              </a:path>
              <a:path w="795" h="1142">
                <a:moveTo>
                  <a:pt x="23316" y="12799"/>
                </a:moveTo>
                <a:cubicBezTo>
                  <a:pt x="23316" y="12842"/>
                  <a:pt x="23305" y="12885"/>
                  <a:pt x="23292" y="12923"/>
                </a:cubicBezTo>
                <a:cubicBezTo>
                  <a:pt x="23262" y="13009"/>
                  <a:pt x="23281" y="13042"/>
                  <a:pt x="23292" y="13122"/>
                </a:cubicBezTo>
                <a:cubicBezTo>
                  <a:pt x="23356" y="13122"/>
                  <a:pt x="23415" y="13135"/>
                  <a:pt x="23465" y="13097"/>
                </a:cubicBezTo>
              </a:path>
              <a:path w="795" h="1142">
                <a:moveTo>
                  <a:pt x="23416" y="12849"/>
                </a:moveTo>
                <a:cubicBezTo>
                  <a:pt x="23481" y="12849"/>
                  <a:pt x="23330" y="12849"/>
                  <a:pt x="23316" y="12849"/>
                </a:cubicBezTo>
                <a:cubicBezTo>
                  <a:pt x="23267" y="12849"/>
                  <a:pt x="23217" y="12849"/>
                  <a:pt x="23168" y="12849"/>
                </a:cubicBezTo>
              </a:path>
              <a:path w="795" h="1142">
                <a:moveTo>
                  <a:pt x="23465" y="13370"/>
                </a:moveTo>
                <a:cubicBezTo>
                  <a:pt x="23421" y="13337"/>
                  <a:pt x="23399" y="13345"/>
                  <a:pt x="23341" y="13345"/>
                </a:cubicBezTo>
                <a:cubicBezTo>
                  <a:pt x="23252" y="13345"/>
                  <a:pt x="23133" y="13336"/>
                  <a:pt x="23044" y="13320"/>
                </a:cubicBezTo>
                <a:cubicBezTo>
                  <a:pt x="22966" y="13306"/>
                  <a:pt x="22843" y="13320"/>
                  <a:pt x="22771" y="13295"/>
                </a:cubicBezTo>
                <a:cubicBezTo>
                  <a:pt x="22742" y="13267"/>
                  <a:pt x="22729" y="13259"/>
                  <a:pt x="22696" y="13271"/>
                </a:cubicBezTo>
              </a:path>
              <a:path w="795" h="1142">
                <a:moveTo>
                  <a:pt x="22994" y="13494"/>
                </a:moveTo>
                <a:cubicBezTo>
                  <a:pt x="22969" y="13494"/>
                  <a:pt x="22961" y="13494"/>
                  <a:pt x="22969" y="13469"/>
                </a:cubicBezTo>
                <a:cubicBezTo>
                  <a:pt x="23031" y="13469"/>
                  <a:pt x="23095" y="13456"/>
                  <a:pt x="23143" y="13494"/>
                </a:cubicBezTo>
                <a:cubicBezTo>
                  <a:pt x="23184" y="13527"/>
                  <a:pt x="23173" y="13559"/>
                  <a:pt x="23143" y="13593"/>
                </a:cubicBezTo>
                <a:cubicBezTo>
                  <a:pt x="23115" y="13624"/>
                  <a:pt x="23060" y="13639"/>
                  <a:pt x="23019" y="13643"/>
                </a:cubicBezTo>
                <a:cubicBezTo>
                  <a:pt x="23011" y="13643"/>
                  <a:pt x="23002" y="13643"/>
                  <a:pt x="22994" y="13643"/>
                </a:cubicBezTo>
                <a:cubicBezTo>
                  <a:pt x="23002" y="13675"/>
                  <a:pt x="23033" y="13709"/>
                  <a:pt x="23068" y="13717"/>
                </a:cubicBezTo>
                <a:cubicBezTo>
                  <a:pt x="23120" y="13728"/>
                  <a:pt x="23153" y="13723"/>
                  <a:pt x="23168" y="13767"/>
                </a:cubicBezTo>
                <a:cubicBezTo>
                  <a:pt x="23154" y="13806"/>
                  <a:pt x="23118" y="13791"/>
                  <a:pt x="23068" y="13791"/>
                </a:cubicBezTo>
                <a:cubicBezTo>
                  <a:pt x="23010" y="13791"/>
                  <a:pt x="22953" y="13791"/>
                  <a:pt x="22895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8160" y="5249880"/>
            <a:ext cx="849600" cy="411120"/>
          </a:xfrm>
          <a:custGeom>
            <a:avLst/>
            <a:gdLst/>
            <a:ahLst/>
            <a:rect l="l" t="t" r="r" b="b"/>
            <a:pathLst>
              <a:path w="2358" h="1142">
                <a:moveTo>
                  <a:pt x="19645" y="14982"/>
                </a:moveTo>
                <a:cubicBezTo>
                  <a:pt x="19645" y="15007"/>
                  <a:pt x="19645" y="15015"/>
                  <a:pt x="19621" y="15007"/>
                </a:cubicBezTo>
              </a:path>
              <a:path w="2358" h="1142">
                <a:moveTo>
                  <a:pt x="19645" y="14982"/>
                </a:moveTo>
                <a:cubicBezTo>
                  <a:pt x="19605" y="15002"/>
                  <a:pt x="19599" y="15011"/>
                  <a:pt x="19571" y="15007"/>
                </a:cubicBezTo>
                <a:cubicBezTo>
                  <a:pt x="19571" y="14957"/>
                  <a:pt x="19562" y="14922"/>
                  <a:pt x="19596" y="14883"/>
                </a:cubicBezTo>
                <a:cubicBezTo>
                  <a:pt x="19649" y="14821"/>
                  <a:pt x="19733" y="14768"/>
                  <a:pt x="19819" y="14784"/>
                </a:cubicBezTo>
                <a:cubicBezTo>
                  <a:pt x="19900" y="14799"/>
                  <a:pt x="19929" y="14886"/>
                  <a:pt x="19918" y="14957"/>
                </a:cubicBezTo>
                <a:cubicBezTo>
                  <a:pt x="19902" y="15059"/>
                  <a:pt x="19837" y="15112"/>
                  <a:pt x="19769" y="15180"/>
                </a:cubicBezTo>
                <a:cubicBezTo>
                  <a:pt x="19730" y="15219"/>
                  <a:pt x="19689" y="15241"/>
                  <a:pt x="19670" y="15280"/>
                </a:cubicBezTo>
                <a:cubicBezTo>
                  <a:pt x="19769" y="15280"/>
                  <a:pt x="19869" y="15280"/>
                  <a:pt x="19968" y="15280"/>
                </a:cubicBezTo>
              </a:path>
              <a:path w="2358" h="1142">
                <a:moveTo>
                  <a:pt x="20092" y="15131"/>
                </a:moveTo>
                <a:cubicBezTo>
                  <a:pt x="20114" y="15102"/>
                  <a:pt x="20125" y="15023"/>
                  <a:pt x="20141" y="15056"/>
                </a:cubicBezTo>
                <a:cubicBezTo>
                  <a:pt x="20150" y="15075"/>
                  <a:pt x="20117" y="15173"/>
                  <a:pt x="20117" y="15205"/>
                </a:cubicBezTo>
                <a:cubicBezTo>
                  <a:pt x="20117" y="15222"/>
                  <a:pt x="20117" y="15238"/>
                  <a:pt x="20117" y="15255"/>
                </a:cubicBezTo>
              </a:path>
              <a:path w="2358" h="1142">
                <a:moveTo>
                  <a:pt x="20340" y="14982"/>
                </a:moveTo>
                <a:cubicBezTo>
                  <a:pt x="20348" y="14965"/>
                  <a:pt x="20357" y="14949"/>
                  <a:pt x="20365" y="14932"/>
                </a:cubicBezTo>
                <a:cubicBezTo>
                  <a:pt x="20316" y="14981"/>
                  <a:pt x="20293" y="15009"/>
                  <a:pt x="20290" y="15081"/>
                </a:cubicBezTo>
                <a:cubicBezTo>
                  <a:pt x="20286" y="15163"/>
                  <a:pt x="20281" y="15219"/>
                  <a:pt x="20365" y="15255"/>
                </a:cubicBezTo>
                <a:cubicBezTo>
                  <a:pt x="20406" y="15272"/>
                  <a:pt x="20435" y="15248"/>
                  <a:pt x="20464" y="15230"/>
                </a:cubicBezTo>
              </a:path>
              <a:path w="2358" h="1142">
                <a:moveTo>
                  <a:pt x="20464" y="15032"/>
                </a:moveTo>
                <a:cubicBezTo>
                  <a:pt x="20432" y="14989"/>
                  <a:pt x="20445" y="14982"/>
                  <a:pt x="20389" y="14982"/>
                </a:cubicBezTo>
                <a:cubicBezTo>
                  <a:pt x="20273" y="14982"/>
                  <a:pt x="20158" y="14982"/>
                  <a:pt x="20042" y="14982"/>
                </a:cubicBezTo>
              </a:path>
              <a:path w="2358" h="1142">
                <a:moveTo>
                  <a:pt x="18107" y="14734"/>
                </a:moveTo>
                <a:cubicBezTo>
                  <a:pt x="18107" y="14688"/>
                  <a:pt x="18101" y="14670"/>
                  <a:pt x="18132" y="14635"/>
                </a:cubicBezTo>
                <a:cubicBezTo>
                  <a:pt x="18177" y="14585"/>
                  <a:pt x="18190" y="14585"/>
                  <a:pt x="18256" y="14585"/>
                </a:cubicBezTo>
                <a:cubicBezTo>
                  <a:pt x="18339" y="14585"/>
                  <a:pt x="18351" y="14640"/>
                  <a:pt x="18355" y="14709"/>
                </a:cubicBezTo>
                <a:cubicBezTo>
                  <a:pt x="18359" y="14789"/>
                  <a:pt x="18302" y="14849"/>
                  <a:pt x="18256" y="14908"/>
                </a:cubicBezTo>
                <a:cubicBezTo>
                  <a:pt x="18229" y="14943"/>
                  <a:pt x="18215" y="14963"/>
                  <a:pt x="18207" y="15007"/>
                </a:cubicBezTo>
                <a:cubicBezTo>
                  <a:pt x="18240" y="15032"/>
                  <a:pt x="18284" y="15046"/>
                  <a:pt x="18331" y="15032"/>
                </a:cubicBezTo>
                <a:cubicBezTo>
                  <a:pt x="18386" y="15016"/>
                  <a:pt x="18420" y="15007"/>
                  <a:pt x="18479" y="15007"/>
                </a:cubicBezTo>
                <a:cubicBezTo>
                  <a:pt x="18504" y="15007"/>
                  <a:pt x="18512" y="15007"/>
                  <a:pt x="18529" y="15007"/>
                </a:cubicBezTo>
              </a:path>
              <a:path w="2358" h="1142">
                <a:moveTo>
                  <a:pt x="18653" y="14883"/>
                </a:moveTo>
                <a:cubicBezTo>
                  <a:pt x="18640" y="14845"/>
                  <a:pt x="18628" y="14862"/>
                  <a:pt x="18628" y="14808"/>
                </a:cubicBezTo>
                <a:cubicBezTo>
                  <a:pt x="18628" y="14786"/>
                  <a:pt x="18639" y="14714"/>
                  <a:pt x="18653" y="14709"/>
                </a:cubicBezTo>
                <a:cubicBezTo>
                  <a:pt x="18721" y="14684"/>
                  <a:pt x="18766" y="14782"/>
                  <a:pt x="18777" y="14833"/>
                </a:cubicBezTo>
                <a:cubicBezTo>
                  <a:pt x="18785" y="14870"/>
                  <a:pt x="18777" y="14919"/>
                  <a:pt x="18777" y="14957"/>
                </a:cubicBezTo>
                <a:cubicBezTo>
                  <a:pt x="18724" y="14957"/>
                  <a:pt x="18697" y="14955"/>
                  <a:pt x="18653" y="14932"/>
                </a:cubicBezTo>
                <a:cubicBezTo>
                  <a:pt x="18637" y="14924"/>
                  <a:pt x="18620" y="14916"/>
                  <a:pt x="18604" y="14908"/>
                </a:cubicBezTo>
              </a:path>
              <a:path w="2358" h="1142">
                <a:moveTo>
                  <a:pt x="19050" y="15230"/>
                </a:moveTo>
                <a:cubicBezTo>
                  <a:pt x="19095" y="15196"/>
                  <a:pt x="19119" y="15219"/>
                  <a:pt x="19100" y="15205"/>
                </a:cubicBezTo>
                <a:cubicBezTo>
                  <a:pt x="19066" y="15180"/>
                  <a:pt x="19024" y="15166"/>
                  <a:pt x="18976" y="15180"/>
                </a:cubicBezTo>
                <a:cubicBezTo>
                  <a:pt x="18899" y="15203"/>
                  <a:pt x="18835" y="15205"/>
                  <a:pt x="18752" y="15205"/>
                </a:cubicBezTo>
                <a:cubicBezTo>
                  <a:pt x="18622" y="15205"/>
                  <a:pt x="18503" y="15201"/>
                  <a:pt x="18380" y="15180"/>
                </a:cubicBezTo>
                <a:cubicBezTo>
                  <a:pt x="18303" y="15167"/>
                  <a:pt x="18243" y="15185"/>
                  <a:pt x="18182" y="15205"/>
                </a:cubicBezTo>
                <a:cubicBezTo>
                  <a:pt x="18157" y="15205"/>
                  <a:pt x="18149" y="15205"/>
                  <a:pt x="18132" y="15205"/>
                </a:cubicBezTo>
              </a:path>
              <a:path w="2358" h="1142">
                <a:moveTo>
                  <a:pt x="18231" y="15354"/>
                </a:moveTo>
                <a:cubicBezTo>
                  <a:pt x="18209" y="15377"/>
                  <a:pt x="18204" y="15385"/>
                  <a:pt x="18182" y="15379"/>
                </a:cubicBezTo>
                <a:cubicBezTo>
                  <a:pt x="18240" y="15344"/>
                  <a:pt x="18283" y="15333"/>
                  <a:pt x="18355" y="15329"/>
                </a:cubicBezTo>
                <a:cubicBezTo>
                  <a:pt x="18420" y="15326"/>
                  <a:pt x="18458" y="15367"/>
                  <a:pt x="18479" y="15429"/>
                </a:cubicBezTo>
                <a:cubicBezTo>
                  <a:pt x="18489" y="15460"/>
                  <a:pt x="18428" y="15513"/>
                  <a:pt x="18405" y="15528"/>
                </a:cubicBezTo>
                <a:cubicBezTo>
                  <a:pt x="18360" y="15557"/>
                  <a:pt x="18331" y="15553"/>
                  <a:pt x="18281" y="15553"/>
                </a:cubicBezTo>
                <a:cubicBezTo>
                  <a:pt x="18330" y="15591"/>
                  <a:pt x="18396" y="15598"/>
                  <a:pt x="18430" y="15652"/>
                </a:cubicBezTo>
                <a:cubicBezTo>
                  <a:pt x="18442" y="15670"/>
                  <a:pt x="18449" y="15703"/>
                  <a:pt x="18455" y="15726"/>
                </a:cubicBezTo>
                <a:cubicBezTo>
                  <a:pt x="18372" y="15726"/>
                  <a:pt x="18307" y="15714"/>
                  <a:pt x="18231" y="15701"/>
                </a:cubicBezTo>
                <a:cubicBezTo>
                  <a:pt x="18187" y="15701"/>
                  <a:pt x="18174" y="15704"/>
                  <a:pt x="18157" y="15677"/>
                </a:cubicBezTo>
              </a:path>
              <a:path w="2358" h="1142">
                <a:moveTo>
                  <a:pt x="18678" y="15404"/>
                </a:moveTo>
                <a:cubicBezTo>
                  <a:pt x="18701" y="15381"/>
                  <a:pt x="18709" y="15377"/>
                  <a:pt x="18703" y="15354"/>
                </a:cubicBezTo>
                <a:cubicBezTo>
                  <a:pt x="18678" y="15362"/>
                  <a:pt x="18639" y="15403"/>
                  <a:pt x="18604" y="15429"/>
                </a:cubicBezTo>
                <a:cubicBezTo>
                  <a:pt x="18567" y="15457"/>
                  <a:pt x="18567" y="15558"/>
                  <a:pt x="18579" y="15602"/>
                </a:cubicBezTo>
                <a:cubicBezTo>
                  <a:pt x="18592" y="15648"/>
                  <a:pt x="18631" y="15698"/>
                  <a:pt x="18678" y="15701"/>
                </a:cubicBezTo>
                <a:cubicBezTo>
                  <a:pt x="18747" y="15706"/>
                  <a:pt x="18770" y="15669"/>
                  <a:pt x="18777" y="15602"/>
                </a:cubicBezTo>
                <a:cubicBezTo>
                  <a:pt x="18782" y="15549"/>
                  <a:pt x="18720" y="15532"/>
                  <a:pt x="18678" y="15528"/>
                </a:cubicBezTo>
                <a:cubicBezTo>
                  <a:pt x="18643" y="15528"/>
                  <a:pt x="18626" y="15533"/>
                  <a:pt x="18604" y="15553"/>
                </a:cubicBezTo>
              </a:path>
              <a:path w="2358" h="1142">
                <a:moveTo>
                  <a:pt x="18926" y="15553"/>
                </a:moveTo>
                <a:cubicBezTo>
                  <a:pt x="18926" y="15492"/>
                  <a:pt x="18936" y="15505"/>
                  <a:pt x="18976" y="15478"/>
                </a:cubicBezTo>
                <a:cubicBezTo>
                  <a:pt x="19022" y="15447"/>
                  <a:pt x="19051" y="15438"/>
                  <a:pt x="19100" y="15478"/>
                </a:cubicBezTo>
                <a:cubicBezTo>
                  <a:pt x="19160" y="15527"/>
                  <a:pt x="19161" y="15590"/>
                  <a:pt x="19124" y="15652"/>
                </a:cubicBezTo>
                <a:cubicBezTo>
                  <a:pt x="19096" y="15699"/>
                  <a:pt x="19036" y="15676"/>
                  <a:pt x="19000" y="15652"/>
                </a:cubicBezTo>
                <a:cubicBezTo>
                  <a:pt x="18974" y="15634"/>
                  <a:pt x="18949" y="15600"/>
                  <a:pt x="18926" y="15577"/>
                </a:cubicBezTo>
              </a:path>
              <a:path w="2358" h="1142">
                <a:moveTo>
                  <a:pt x="19472" y="15156"/>
                </a:moveTo>
                <a:cubicBezTo>
                  <a:pt x="19496" y="15156"/>
                  <a:pt x="19504" y="15156"/>
                  <a:pt x="19496" y="15131"/>
                </a:cubicBezTo>
                <a:cubicBezTo>
                  <a:pt x="19490" y="15150"/>
                  <a:pt x="19453" y="15191"/>
                  <a:pt x="19422" y="15205"/>
                </a:cubicBezTo>
                <a:cubicBezTo>
                  <a:pt x="19383" y="15222"/>
                  <a:pt x="19360" y="15219"/>
                  <a:pt x="19348" y="15255"/>
                </a:cubicBezTo>
              </a:path>
              <a:path w="2358" h="1142">
                <a:moveTo>
                  <a:pt x="19472" y="15329"/>
                </a:moveTo>
                <a:cubicBezTo>
                  <a:pt x="19480" y="15329"/>
                  <a:pt x="19488" y="15329"/>
                  <a:pt x="19496" y="15329"/>
                </a:cubicBezTo>
                <a:cubicBezTo>
                  <a:pt x="19483" y="15289"/>
                  <a:pt x="19485" y="15319"/>
                  <a:pt x="19472" y="15280"/>
                </a:cubicBezTo>
                <a:cubicBezTo>
                  <a:pt x="19419" y="15267"/>
                  <a:pt x="19422" y="15242"/>
                  <a:pt x="19397" y="15205"/>
                </a:cubicBezTo>
                <a:cubicBezTo>
                  <a:pt x="19365" y="15158"/>
                  <a:pt x="19363" y="15201"/>
                  <a:pt x="19348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15160" y="5392800"/>
            <a:ext cx="1108080" cy="189000"/>
          </a:xfrm>
          <a:custGeom>
            <a:avLst/>
            <a:gdLst/>
            <a:ahLst/>
            <a:rect l="l" t="t" r="r" b="b"/>
            <a:pathLst>
              <a:path w="3077" h="522">
                <a:moveTo>
                  <a:pt x="21630" y="15131"/>
                </a:moveTo>
                <a:cubicBezTo>
                  <a:pt x="21630" y="15106"/>
                  <a:pt x="21630" y="15098"/>
                  <a:pt x="21654" y="15106"/>
                </a:cubicBezTo>
                <a:cubicBezTo>
                  <a:pt x="21580" y="15106"/>
                  <a:pt x="21505" y="15106"/>
                  <a:pt x="21431" y="15106"/>
                </a:cubicBezTo>
              </a:path>
              <a:path w="3077" h="522">
                <a:moveTo>
                  <a:pt x="21754" y="15230"/>
                </a:moveTo>
                <a:cubicBezTo>
                  <a:pt x="21794" y="15250"/>
                  <a:pt x="21810" y="15249"/>
                  <a:pt x="21803" y="15280"/>
                </a:cubicBezTo>
                <a:cubicBezTo>
                  <a:pt x="21712" y="15280"/>
                  <a:pt x="21621" y="15280"/>
                  <a:pt x="21530" y="15280"/>
                </a:cubicBezTo>
              </a:path>
              <a:path w="3077" h="522">
                <a:moveTo>
                  <a:pt x="22225" y="15131"/>
                </a:moveTo>
                <a:cubicBezTo>
                  <a:pt x="22172" y="15131"/>
                  <a:pt x="22188" y="15119"/>
                  <a:pt x="22151" y="15106"/>
                </a:cubicBezTo>
                <a:cubicBezTo>
                  <a:pt x="22157" y="15080"/>
                  <a:pt x="22190" y="15014"/>
                  <a:pt x="22225" y="15007"/>
                </a:cubicBezTo>
                <a:cubicBezTo>
                  <a:pt x="22292" y="14993"/>
                  <a:pt x="22422" y="15005"/>
                  <a:pt x="22473" y="15056"/>
                </a:cubicBezTo>
                <a:cubicBezTo>
                  <a:pt x="22545" y="15127"/>
                  <a:pt x="22592" y="15231"/>
                  <a:pt x="22597" y="15329"/>
                </a:cubicBezTo>
                <a:cubicBezTo>
                  <a:pt x="22602" y="15420"/>
                  <a:pt x="22495" y="15418"/>
                  <a:pt x="22423" y="15404"/>
                </a:cubicBezTo>
                <a:cubicBezTo>
                  <a:pt x="22361" y="15392"/>
                  <a:pt x="22220" y="15354"/>
                  <a:pt x="22175" y="15304"/>
                </a:cubicBezTo>
                <a:cubicBezTo>
                  <a:pt x="22175" y="15296"/>
                  <a:pt x="22175" y="15288"/>
                  <a:pt x="22175" y="15280"/>
                </a:cubicBezTo>
              </a:path>
              <a:path w="3077" h="522">
                <a:moveTo>
                  <a:pt x="22820" y="15354"/>
                </a:moveTo>
                <a:cubicBezTo>
                  <a:pt x="22828" y="15354"/>
                  <a:pt x="22837" y="15354"/>
                  <a:pt x="22845" y="15354"/>
                </a:cubicBezTo>
              </a:path>
              <a:path w="3077" h="522">
                <a:moveTo>
                  <a:pt x="23118" y="15180"/>
                </a:moveTo>
                <a:cubicBezTo>
                  <a:pt x="23093" y="15162"/>
                  <a:pt x="23044" y="15149"/>
                  <a:pt x="23068" y="15106"/>
                </a:cubicBezTo>
                <a:cubicBezTo>
                  <a:pt x="23095" y="15058"/>
                  <a:pt x="23169" y="15040"/>
                  <a:pt x="23217" y="15032"/>
                </a:cubicBezTo>
                <a:cubicBezTo>
                  <a:pt x="23286" y="15021"/>
                  <a:pt x="23322" y="15062"/>
                  <a:pt x="23366" y="15106"/>
                </a:cubicBezTo>
                <a:cubicBezTo>
                  <a:pt x="23427" y="15167"/>
                  <a:pt x="23386" y="15193"/>
                  <a:pt x="23341" y="15230"/>
                </a:cubicBezTo>
                <a:cubicBezTo>
                  <a:pt x="23298" y="15265"/>
                  <a:pt x="23298" y="15280"/>
                  <a:pt x="23242" y="15280"/>
                </a:cubicBezTo>
                <a:cubicBezTo>
                  <a:pt x="23259" y="15329"/>
                  <a:pt x="23294" y="15305"/>
                  <a:pt x="23341" y="15329"/>
                </a:cubicBezTo>
                <a:cubicBezTo>
                  <a:pt x="23370" y="15343"/>
                  <a:pt x="23384" y="15403"/>
                  <a:pt x="23391" y="15429"/>
                </a:cubicBezTo>
                <a:cubicBezTo>
                  <a:pt x="23334" y="15429"/>
                  <a:pt x="23295" y="15413"/>
                  <a:pt x="23242" y="15404"/>
                </a:cubicBezTo>
                <a:cubicBezTo>
                  <a:pt x="23194" y="15396"/>
                  <a:pt x="23184" y="15389"/>
                  <a:pt x="23143" y="15379"/>
                </a:cubicBezTo>
              </a:path>
              <a:path w="3077" h="522">
                <a:moveTo>
                  <a:pt x="23589" y="15081"/>
                </a:moveTo>
                <a:cubicBezTo>
                  <a:pt x="23606" y="15065"/>
                  <a:pt x="23622" y="15048"/>
                  <a:pt x="23639" y="15032"/>
                </a:cubicBezTo>
                <a:cubicBezTo>
                  <a:pt x="23606" y="15075"/>
                  <a:pt x="23594" y="15099"/>
                  <a:pt x="23589" y="15156"/>
                </a:cubicBezTo>
                <a:cubicBezTo>
                  <a:pt x="23583" y="15223"/>
                  <a:pt x="23587" y="15232"/>
                  <a:pt x="23639" y="15255"/>
                </a:cubicBezTo>
                <a:cubicBezTo>
                  <a:pt x="23713" y="15287"/>
                  <a:pt x="23780" y="15280"/>
                  <a:pt x="23862" y="15280"/>
                </a:cubicBezTo>
                <a:cubicBezTo>
                  <a:pt x="23938" y="15280"/>
                  <a:pt x="23990" y="15288"/>
                  <a:pt x="24061" y="15304"/>
                </a:cubicBezTo>
                <a:cubicBezTo>
                  <a:pt x="24085" y="15304"/>
                  <a:pt x="24093" y="15304"/>
                  <a:pt x="24085" y="15329"/>
                </a:cubicBezTo>
                <a:cubicBezTo>
                  <a:pt x="24043" y="15329"/>
                  <a:pt x="24048" y="15339"/>
                  <a:pt x="24036" y="15304"/>
                </a:cubicBezTo>
              </a:path>
              <a:path w="3077" h="522">
                <a:moveTo>
                  <a:pt x="23912" y="15180"/>
                </a:moveTo>
                <a:cubicBezTo>
                  <a:pt x="23871" y="15151"/>
                  <a:pt x="23853" y="15143"/>
                  <a:pt x="23812" y="15180"/>
                </a:cubicBezTo>
                <a:cubicBezTo>
                  <a:pt x="23768" y="15219"/>
                  <a:pt x="23788" y="15299"/>
                  <a:pt x="23788" y="15354"/>
                </a:cubicBezTo>
                <a:cubicBezTo>
                  <a:pt x="23788" y="15371"/>
                  <a:pt x="23788" y="15387"/>
                  <a:pt x="23788" y="15404"/>
                </a:cubicBezTo>
              </a:path>
              <a:path w="3077" h="522">
                <a:moveTo>
                  <a:pt x="24433" y="15081"/>
                </a:moveTo>
                <a:cubicBezTo>
                  <a:pt x="24475" y="15049"/>
                  <a:pt x="24482" y="15062"/>
                  <a:pt x="24482" y="15007"/>
                </a:cubicBezTo>
                <a:cubicBezTo>
                  <a:pt x="24448" y="14982"/>
                  <a:pt x="24405" y="14966"/>
                  <a:pt x="24358" y="14982"/>
                </a:cubicBezTo>
                <a:cubicBezTo>
                  <a:pt x="24290" y="15005"/>
                  <a:pt x="24264" y="15069"/>
                  <a:pt x="24259" y="15131"/>
                </a:cubicBezTo>
                <a:cubicBezTo>
                  <a:pt x="24255" y="15178"/>
                  <a:pt x="24312" y="15250"/>
                  <a:pt x="24358" y="15205"/>
                </a:cubicBezTo>
                <a:cubicBezTo>
                  <a:pt x="24384" y="15179"/>
                  <a:pt x="24415" y="15113"/>
                  <a:pt x="24433" y="15081"/>
                </a:cubicBezTo>
                <a:cubicBezTo>
                  <a:pt x="24474" y="15110"/>
                  <a:pt x="24480" y="15212"/>
                  <a:pt x="24482" y="15280"/>
                </a:cubicBezTo>
                <a:cubicBezTo>
                  <a:pt x="24485" y="15361"/>
                  <a:pt x="24498" y="15425"/>
                  <a:pt x="24507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3800" y="5830920"/>
            <a:ext cx="812520" cy="447480"/>
          </a:xfrm>
          <a:custGeom>
            <a:avLst/>
            <a:gdLst/>
            <a:ahLst/>
            <a:rect l="l" t="t" r="r" b="b"/>
            <a:pathLst>
              <a:path w="2258" h="1242">
                <a:moveTo>
                  <a:pt x="19918" y="16842"/>
                </a:moveTo>
                <a:cubicBezTo>
                  <a:pt x="19869" y="16842"/>
                  <a:pt x="19859" y="16831"/>
                  <a:pt x="19819" y="16818"/>
                </a:cubicBezTo>
                <a:cubicBezTo>
                  <a:pt x="19768" y="16802"/>
                  <a:pt x="19797" y="16760"/>
                  <a:pt x="19819" y="16718"/>
                </a:cubicBezTo>
                <a:cubicBezTo>
                  <a:pt x="19855" y="16652"/>
                  <a:pt x="19919" y="16600"/>
                  <a:pt x="19993" y="16594"/>
                </a:cubicBezTo>
                <a:cubicBezTo>
                  <a:pt x="20079" y="16586"/>
                  <a:pt x="20171" y="16580"/>
                  <a:pt x="20216" y="16669"/>
                </a:cubicBezTo>
                <a:cubicBezTo>
                  <a:pt x="20267" y="16770"/>
                  <a:pt x="20235" y="16818"/>
                  <a:pt x="20166" y="16892"/>
                </a:cubicBezTo>
                <a:cubicBezTo>
                  <a:pt x="20110" y="16952"/>
                  <a:pt x="20056" y="16994"/>
                  <a:pt x="19993" y="17041"/>
                </a:cubicBezTo>
                <a:cubicBezTo>
                  <a:pt x="19985" y="17049"/>
                  <a:pt x="19976" y="17058"/>
                  <a:pt x="19968" y="17066"/>
                </a:cubicBezTo>
                <a:cubicBezTo>
                  <a:pt x="19978" y="17096"/>
                  <a:pt x="20023" y="17103"/>
                  <a:pt x="20067" y="17090"/>
                </a:cubicBezTo>
                <a:cubicBezTo>
                  <a:pt x="20134" y="17071"/>
                  <a:pt x="20176" y="17046"/>
                  <a:pt x="20241" y="17090"/>
                </a:cubicBezTo>
                <a:cubicBezTo>
                  <a:pt x="20278" y="17114"/>
                  <a:pt x="20270" y="17115"/>
                  <a:pt x="20315" y="17115"/>
                </a:cubicBezTo>
              </a:path>
              <a:path w="2258" h="1242">
                <a:moveTo>
                  <a:pt x="20365" y="16917"/>
                </a:moveTo>
                <a:cubicBezTo>
                  <a:pt x="20373" y="16909"/>
                  <a:pt x="20381" y="16900"/>
                  <a:pt x="20389" y="16892"/>
                </a:cubicBezTo>
                <a:cubicBezTo>
                  <a:pt x="20389" y="16939"/>
                  <a:pt x="20368" y="16971"/>
                  <a:pt x="20365" y="17016"/>
                </a:cubicBezTo>
                <a:cubicBezTo>
                  <a:pt x="20365" y="17057"/>
                  <a:pt x="20365" y="17065"/>
                  <a:pt x="20365" y="17090"/>
                </a:cubicBezTo>
              </a:path>
              <a:path w="2258" h="1242">
                <a:moveTo>
                  <a:pt x="20563" y="16818"/>
                </a:moveTo>
                <a:cubicBezTo>
                  <a:pt x="20583" y="16777"/>
                  <a:pt x="20581" y="16761"/>
                  <a:pt x="20613" y="16768"/>
                </a:cubicBezTo>
                <a:cubicBezTo>
                  <a:pt x="20579" y="16793"/>
                  <a:pt x="20526" y="16820"/>
                  <a:pt x="20513" y="16867"/>
                </a:cubicBezTo>
                <a:cubicBezTo>
                  <a:pt x="20499" y="16920"/>
                  <a:pt x="20507" y="17002"/>
                  <a:pt x="20538" y="17041"/>
                </a:cubicBezTo>
                <a:cubicBezTo>
                  <a:pt x="20584" y="17099"/>
                  <a:pt x="20635" y="17054"/>
                  <a:pt x="20687" y="17041"/>
                </a:cubicBezTo>
                <a:cubicBezTo>
                  <a:pt x="20695" y="17041"/>
                  <a:pt x="20704" y="17041"/>
                  <a:pt x="20712" y="17041"/>
                </a:cubicBezTo>
              </a:path>
              <a:path w="2258" h="1242">
                <a:moveTo>
                  <a:pt x="20712" y="16867"/>
                </a:moveTo>
                <a:cubicBezTo>
                  <a:pt x="20712" y="16842"/>
                  <a:pt x="20712" y="16834"/>
                  <a:pt x="20712" y="16818"/>
                </a:cubicBezTo>
                <a:cubicBezTo>
                  <a:pt x="20563" y="16818"/>
                  <a:pt x="20414" y="16818"/>
                  <a:pt x="20265" y="16818"/>
                </a:cubicBezTo>
              </a:path>
              <a:path w="2258" h="1242">
                <a:moveTo>
                  <a:pt x="18455" y="16247"/>
                </a:moveTo>
                <a:cubicBezTo>
                  <a:pt x="18479" y="16247"/>
                  <a:pt x="18487" y="16247"/>
                  <a:pt x="18479" y="16222"/>
                </a:cubicBezTo>
                <a:cubicBezTo>
                  <a:pt x="18479" y="16310"/>
                  <a:pt x="18467" y="16385"/>
                  <a:pt x="18455" y="16470"/>
                </a:cubicBezTo>
                <a:cubicBezTo>
                  <a:pt x="18455" y="16520"/>
                  <a:pt x="18455" y="16537"/>
                  <a:pt x="18455" y="16570"/>
                </a:cubicBezTo>
              </a:path>
              <a:path w="2258" h="1242">
                <a:moveTo>
                  <a:pt x="18901" y="16222"/>
                </a:moveTo>
                <a:cubicBezTo>
                  <a:pt x="18909" y="16214"/>
                  <a:pt x="18918" y="16205"/>
                  <a:pt x="18926" y="16197"/>
                </a:cubicBezTo>
                <a:cubicBezTo>
                  <a:pt x="18875" y="16197"/>
                  <a:pt x="18868" y="16208"/>
                  <a:pt x="18827" y="16222"/>
                </a:cubicBezTo>
                <a:cubicBezTo>
                  <a:pt x="18790" y="16234"/>
                  <a:pt x="18732" y="16264"/>
                  <a:pt x="18728" y="16297"/>
                </a:cubicBezTo>
                <a:cubicBezTo>
                  <a:pt x="18721" y="16351"/>
                  <a:pt x="18736" y="16354"/>
                  <a:pt x="18777" y="16371"/>
                </a:cubicBezTo>
                <a:cubicBezTo>
                  <a:pt x="18835" y="16396"/>
                  <a:pt x="18902" y="16437"/>
                  <a:pt x="18926" y="16495"/>
                </a:cubicBezTo>
                <a:cubicBezTo>
                  <a:pt x="18936" y="16518"/>
                  <a:pt x="18926" y="16568"/>
                  <a:pt x="18926" y="16594"/>
                </a:cubicBezTo>
                <a:cubicBezTo>
                  <a:pt x="18873" y="16594"/>
                  <a:pt x="18844" y="16600"/>
                  <a:pt x="18802" y="16570"/>
                </a:cubicBezTo>
                <a:cubicBezTo>
                  <a:pt x="18814" y="16523"/>
                  <a:pt x="18850" y="16489"/>
                  <a:pt x="18876" y="16446"/>
                </a:cubicBezTo>
                <a:cubicBezTo>
                  <a:pt x="18902" y="16402"/>
                  <a:pt x="18916" y="16381"/>
                  <a:pt x="18951" y="16346"/>
                </a:cubicBezTo>
              </a:path>
              <a:path w="2258" h="1242">
                <a:moveTo>
                  <a:pt x="19224" y="16421"/>
                </a:moveTo>
                <a:cubicBezTo>
                  <a:pt x="19211" y="16370"/>
                  <a:pt x="19182" y="16368"/>
                  <a:pt x="19224" y="16321"/>
                </a:cubicBezTo>
                <a:cubicBezTo>
                  <a:pt x="19248" y="16294"/>
                  <a:pt x="19312" y="16283"/>
                  <a:pt x="19348" y="16297"/>
                </a:cubicBezTo>
                <a:cubicBezTo>
                  <a:pt x="19380" y="16310"/>
                  <a:pt x="19412" y="16330"/>
                  <a:pt x="19397" y="16371"/>
                </a:cubicBezTo>
                <a:cubicBezTo>
                  <a:pt x="19373" y="16437"/>
                  <a:pt x="19343" y="16440"/>
                  <a:pt x="19298" y="16470"/>
                </a:cubicBezTo>
                <a:cubicBezTo>
                  <a:pt x="19264" y="16492"/>
                  <a:pt x="19273" y="16511"/>
                  <a:pt x="19273" y="16545"/>
                </a:cubicBezTo>
                <a:cubicBezTo>
                  <a:pt x="19339" y="16545"/>
                  <a:pt x="19406" y="16545"/>
                  <a:pt x="19472" y="16545"/>
                </a:cubicBezTo>
              </a:path>
              <a:path w="2258" h="1242">
                <a:moveTo>
                  <a:pt x="19521" y="16793"/>
                </a:moveTo>
                <a:cubicBezTo>
                  <a:pt x="19579" y="16793"/>
                  <a:pt x="19471" y="16769"/>
                  <a:pt x="19447" y="16768"/>
                </a:cubicBezTo>
                <a:cubicBezTo>
                  <a:pt x="19336" y="16762"/>
                  <a:pt x="19232" y="16755"/>
                  <a:pt x="19124" y="16743"/>
                </a:cubicBezTo>
                <a:cubicBezTo>
                  <a:pt x="19018" y="16731"/>
                  <a:pt x="18924" y="16752"/>
                  <a:pt x="18827" y="16768"/>
                </a:cubicBezTo>
                <a:cubicBezTo>
                  <a:pt x="18769" y="16778"/>
                  <a:pt x="18752" y="16777"/>
                  <a:pt x="18703" y="16793"/>
                </a:cubicBezTo>
                <a:cubicBezTo>
                  <a:pt x="18678" y="16793"/>
                  <a:pt x="18670" y="16793"/>
                  <a:pt x="18653" y="16793"/>
                </a:cubicBezTo>
              </a:path>
              <a:path w="2258" h="1242">
                <a:moveTo>
                  <a:pt x="18628" y="16942"/>
                </a:moveTo>
                <a:cubicBezTo>
                  <a:pt x="18628" y="16966"/>
                  <a:pt x="18628" y="16974"/>
                  <a:pt x="18604" y="16966"/>
                </a:cubicBezTo>
                <a:cubicBezTo>
                  <a:pt x="18683" y="16966"/>
                  <a:pt x="18784" y="16945"/>
                  <a:pt x="18852" y="16991"/>
                </a:cubicBezTo>
                <a:cubicBezTo>
                  <a:pt x="18898" y="17022"/>
                  <a:pt x="18879" y="17081"/>
                  <a:pt x="18852" y="17115"/>
                </a:cubicBezTo>
                <a:cubicBezTo>
                  <a:pt x="18819" y="17157"/>
                  <a:pt x="18771" y="17177"/>
                  <a:pt x="18728" y="17190"/>
                </a:cubicBezTo>
                <a:cubicBezTo>
                  <a:pt x="18703" y="17190"/>
                  <a:pt x="18695" y="17190"/>
                  <a:pt x="18703" y="17214"/>
                </a:cubicBezTo>
                <a:cubicBezTo>
                  <a:pt x="18749" y="17221"/>
                  <a:pt x="18804" y="17236"/>
                  <a:pt x="18827" y="17289"/>
                </a:cubicBezTo>
                <a:cubicBezTo>
                  <a:pt x="18838" y="17314"/>
                  <a:pt x="18827" y="17360"/>
                  <a:pt x="18827" y="17388"/>
                </a:cubicBezTo>
                <a:cubicBezTo>
                  <a:pt x="18762" y="17388"/>
                  <a:pt x="18738" y="17378"/>
                  <a:pt x="18678" y="17363"/>
                </a:cubicBezTo>
                <a:cubicBezTo>
                  <a:pt x="18650" y="17363"/>
                  <a:pt x="18639" y="17361"/>
                  <a:pt x="18628" y="17338"/>
                </a:cubicBezTo>
              </a:path>
              <a:path w="2258" h="1242">
                <a:moveTo>
                  <a:pt x="19174" y="16991"/>
                </a:moveTo>
                <a:cubicBezTo>
                  <a:pt x="19182" y="16983"/>
                  <a:pt x="19191" y="16974"/>
                  <a:pt x="19199" y="16966"/>
                </a:cubicBezTo>
                <a:cubicBezTo>
                  <a:pt x="19141" y="16980"/>
                  <a:pt x="19122" y="17033"/>
                  <a:pt x="19100" y="17090"/>
                </a:cubicBezTo>
                <a:cubicBezTo>
                  <a:pt x="19069" y="17169"/>
                  <a:pt x="19055" y="17263"/>
                  <a:pt x="19100" y="17338"/>
                </a:cubicBezTo>
                <a:cubicBezTo>
                  <a:pt x="19132" y="17391"/>
                  <a:pt x="19190" y="17363"/>
                  <a:pt x="19224" y="17338"/>
                </a:cubicBezTo>
                <a:cubicBezTo>
                  <a:pt x="19212" y="17293"/>
                  <a:pt x="19194" y="17275"/>
                  <a:pt x="19149" y="17264"/>
                </a:cubicBezTo>
              </a:path>
              <a:path w="2258" h="1242">
                <a:moveTo>
                  <a:pt x="19496" y="17239"/>
                </a:moveTo>
                <a:cubicBezTo>
                  <a:pt x="19468" y="17227"/>
                  <a:pt x="19404" y="17203"/>
                  <a:pt x="19397" y="17190"/>
                </a:cubicBezTo>
                <a:cubicBezTo>
                  <a:pt x="19397" y="17165"/>
                  <a:pt x="19397" y="17157"/>
                  <a:pt x="19397" y="17140"/>
                </a:cubicBezTo>
                <a:cubicBezTo>
                  <a:pt x="19454" y="17140"/>
                  <a:pt x="19503" y="17128"/>
                  <a:pt x="19546" y="17165"/>
                </a:cubicBezTo>
                <a:cubicBezTo>
                  <a:pt x="19610" y="17220"/>
                  <a:pt x="19652" y="17328"/>
                  <a:pt x="19621" y="17413"/>
                </a:cubicBezTo>
                <a:cubicBezTo>
                  <a:pt x="19602" y="17466"/>
                  <a:pt x="19522" y="17436"/>
                  <a:pt x="19496" y="17413"/>
                </a:cubicBezTo>
                <a:cubicBezTo>
                  <a:pt x="19455" y="17371"/>
                  <a:pt x="19447" y="17363"/>
                  <a:pt x="19422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78800" y="608976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21555" y="16966"/>
                </a:moveTo>
                <a:cubicBezTo>
                  <a:pt x="21563" y="16966"/>
                  <a:pt x="21572" y="16966"/>
                  <a:pt x="21580" y="16966"/>
                </a:cubicBezTo>
                <a:cubicBezTo>
                  <a:pt x="21549" y="16948"/>
                  <a:pt x="21489" y="16924"/>
                  <a:pt x="21456" y="16917"/>
                </a:cubicBezTo>
                <a:cubicBezTo>
                  <a:pt x="21420" y="16909"/>
                  <a:pt x="21369" y="16917"/>
                  <a:pt x="21332" y="16917"/>
                </a:cubicBezTo>
              </a:path>
              <a:path w="249" h="224">
                <a:moveTo>
                  <a:pt x="21506" y="17066"/>
                </a:moveTo>
                <a:cubicBezTo>
                  <a:pt x="21526" y="17106"/>
                  <a:pt x="21534" y="17113"/>
                  <a:pt x="21530" y="17140"/>
                </a:cubicBezTo>
                <a:cubicBezTo>
                  <a:pt x="21472" y="17140"/>
                  <a:pt x="21415" y="17140"/>
                  <a:pt x="21357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12080" y="6000840"/>
            <a:ext cx="615960" cy="2142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22027" y="16768"/>
                </a:moveTo>
                <a:cubicBezTo>
                  <a:pt x="22019" y="16768"/>
                  <a:pt x="22010" y="16768"/>
                  <a:pt x="22002" y="16768"/>
                </a:cubicBezTo>
                <a:cubicBezTo>
                  <a:pt x="22002" y="16725"/>
                  <a:pt x="22007" y="16708"/>
                  <a:pt x="22051" y="16694"/>
                </a:cubicBezTo>
                <a:cubicBezTo>
                  <a:pt x="22101" y="16678"/>
                  <a:pt x="22169" y="16653"/>
                  <a:pt x="22225" y="16669"/>
                </a:cubicBezTo>
                <a:cubicBezTo>
                  <a:pt x="22285" y="16686"/>
                  <a:pt x="22358" y="16728"/>
                  <a:pt x="22374" y="16793"/>
                </a:cubicBezTo>
                <a:cubicBezTo>
                  <a:pt x="22387" y="16846"/>
                  <a:pt x="22368" y="16888"/>
                  <a:pt x="22324" y="16917"/>
                </a:cubicBezTo>
                <a:cubicBezTo>
                  <a:pt x="22269" y="16953"/>
                  <a:pt x="22213" y="16942"/>
                  <a:pt x="22151" y="16942"/>
                </a:cubicBezTo>
                <a:cubicBezTo>
                  <a:pt x="22143" y="16942"/>
                  <a:pt x="22134" y="16942"/>
                  <a:pt x="22126" y="16942"/>
                </a:cubicBezTo>
                <a:cubicBezTo>
                  <a:pt x="22138" y="16959"/>
                  <a:pt x="22208" y="17002"/>
                  <a:pt x="22250" y="17016"/>
                </a:cubicBezTo>
                <a:cubicBezTo>
                  <a:pt x="22297" y="17032"/>
                  <a:pt x="22299" y="17038"/>
                  <a:pt x="22299" y="17090"/>
                </a:cubicBezTo>
                <a:cubicBezTo>
                  <a:pt x="22192" y="17090"/>
                  <a:pt x="22084" y="17090"/>
                  <a:pt x="21977" y="17090"/>
                </a:cubicBezTo>
              </a:path>
              <a:path w="1712" h="596">
                <a:moveTo>
                  <a:pt x="22523" y="17214"/>
                </a:moveTo>
                <a:cubicBezTo>
                  <a:pt x="22531" y="17222"/>
                  <a:pt x="22539" y="17231"/>
                  <a:pt x="22547" y="17239"/>
                </a:cubicBezTo>
              </a:path>
              <a:path w="1712" h="596">
                <a:moveTo>
                  <a:pt x="22771" y="16942"/>
                </a:moveTo>
                <a:cubicBezTo>
                  <a:pt x="22771" y="16880"/>
                  <a:pt x="22749" y="17026"/>
                  <a:pt x="22746" y="17041"/>
                </a:cubicBezTo>
                <a:cubicBezTo>
                  <a:pt x="22735" y="17108"/>
                  <a:pt x="22729" y="17173"/>
                  <a:pt x="22721" y="17239"/>
                </a:cubicBezTo>
              </a:path>
              <a:path w="1712" h="596">
                <a:moveTo>
                  <a:pt x="22994" y="16892"/>
                </a:moveTo>
                <a:cubicBezTo>
                  <a:pt x="22986" y="16884"/>
                  <a:pt x="22977" y="16875"/>
                  <a:pt x="22969" y="16867"/>
                </a:cubicBezTo>
                <a:cubicBezTo>
                  <a:pt x="23022" y="16854"/>
                  <a:pt x="23054" y="16842"/>
                  <a:pt x="23118" y="16842"/>
                </a:cubicBezTo>
                <a:cubicBezTo>
                  <a:pt x="23178" y="16842"/>
                  <a:pt x="23251" y="16853"/>
                  <a:pt x="23267" y="16917"/>
                </a:cubicBezTo>
                <a:cubicBezTo>
                  <a:pt x="23280" y="16970"/>
                  <a:pt x="23221" y="17103"/>
                  <a:pt x="23192" y="17140"/>
                </a:cubicBezTo>
                <a:cubicBezTo>
                  <a:pt x="23168" y="17165"/>
                  <a:pt x="23160" y="17174"/>
                  <a:pt x="23143" y="17190"/>
                </a:cubicBezTo>
              </a:path>
              <a:path w="1712" h="596">
                <a:moveTo>
                  <a:pt x="23614" y="16768"/>
                </a:moveTo>
                <a:cubicBezTo>
                  <a:pt x="23614" y="16743"/>
                  <a:pt x="23614" y="16735"/>
                  <a:pt x="23614" y="16718"/>
                </a:cubicBezTo>
                <a:cubicBezTo>
                  <a:pt x="23574" y="16728"/>
                  <a:pt x="23516" y="16786"/>
                  <a:pt x="23490" y="16818"/>
                </a:cubicBezTo>
                <a:cubicBezTo>
                  <a:pt x="23418" y="16907"/>
                  <a:pt x="23416" y="16981"/>
                  <a:pt x="23416" y="17090"/>
                </a:cubicBezTo>
                <a:cubicBezTo>
                  <a:pt x="23416" y="17185"/>
                  <a:pt x="23405" y="17239"/>
                  <a:pt x="23515" y="17264"/>
                </a:cubicBezTo>
                <a:cubicBezTo>
                  <a:pt x="23601" y="17283"/>
                  <a:pt x="23625" y="17218"/>
                  <a:pt x="23664" y="17165"/>
                </a:cubicBezTo>
                <a:cubicBezTo>
                  <a:pt x="23686" y="17142"/>
                  <a:pt x="23694" y="17137"/>
                  <a:pt x="23688" y="17115"/>
                </a:cubicBezTo>
                <a:cubicBezTo>
                  <a:pt x="23667" y="17099"/>
                  <a:pt x="23613" y="17048"/>
                  <a:pt x="23589" y="17041"/>
                </a:cubicBezTo>
                <a:cubicBezTo>
                  <a:pt x="23548" y="17041"/>
                  <a:pt x="23540" y="17041"/>
                  <a:pt x="23515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940360" y="4365720"/>
                <a:ext cx="161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468360" y="2541600"/>
            <a:ext cx="2232000" cy="887400"/>
          </a:xfrm>
          <a:custGeom>
            <a:avLst/>
            <a:gdLst/>
            <a:ahLst/>
            <a:rect l="l" t="t" r="r" b="b"/>
            <a:pathLst>
              <a:path w="1406" h="559">
                <a:moveTo>
                  <a:pt x="0" y="468"/>
                </a:moveTo>
                <a:cubicBezTo>
                  <a:pt x="268" y="234"/>
                  <a:pt x="537" y="0"/>
                  <a:pt x="771" y="15"/>
                </a:cubicBezTo>
                <a:cubicBezTo>
                  <a:pt x="1005" y="30"/>
                  <a:pt x="1205" y="294"/>
                  <a:pt x="1406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3270240"/>
            <a:ext cx="57636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058760" y="3411000"/>
            <a:ext cx="1641600" cy="237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85960" y="4859280"/>
            <a:ext cx="739800" cy="192240"/>
          </a:xfrm>
          <a:custGeom>
            <a:avLst/>
            <a:gdLst/>
            <a:ahLst/>
            <a:rect l="l" t="t" r="r" b="b"/>
            <a:pathLst>
              <a:path w="466" h="121">
                <a:moveTo>
                  <a:pt x="0" y="121"/>
                </a:moveTo>
                <a:cubicBezTo>
                  <a:pt x="79" y="71"/>
                  <a:pt x="159" y="22"/>
                  <a:pt x="237" y="11"/>
                </a:cubicBezTo>
                <a:cubicBezTo>
                  <a:pt x="315" y="0"/>
                  <a:pt x="390" y="28"/>
                  <a:pt x="466" y="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93560" y="3279600"/>
            <a:ext cx="22068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96600" y="2641680"/>
            <a:ext cx="841320" cy="566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98480" y="2612880"/>
            <a:ext cx="9000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914400" y="2627280"/>
            <a:ext cx="9144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73160" y="2685960"/>
            <a:ext cx="812880" cy="5796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160280" y="2714760"/>
            <a:ext cx="812520" cy="5792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334880" y="2771640"/>
            <a:ext cx="711000" cy="4939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465200" y="2816280"/>
            <a:ext cx="625680" cy="4633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68600" y="2903400"/>
            <a:ext cx="450720" cy="36216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55360" y="2932200"/>
            <a:ext cx="451080" cy="377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887120" y="2989440"/>
            <a:ext cx="376200" cy="3204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046240" y="3062160"/>
            <a:ext cx="262080" cy="2318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118960" y="3121200"/>
            <a:ext cx="245880" cy="1728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20480" y="3149640"/>
            <a:ext cx="189000" cy="2030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4608000">
            <a:off x="-120960" y="441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00240" y="445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84720" y="4365720"/>
            <a:ext cx="936720" cy="604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940360" y="458136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0360" y="4365720"/>
                <a:ext cx="161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468360" y="2541600"/>
            <a:ext cx="2232000" cy="887400"/>
          </a:xfrm>
          <a:custGeom>
            <a:avLst/>
            <a:gdLst/>
            <a:ahLst/>
            <a:rect l="l" t="t" r="r" b="b"/>
            <a:pathLst>
              <a:path w="1406" h="559">
                <a:moveTo>
                  <a:pt x="0" y="468"/>
                </a:moveTo>
                <a:cubicBezTo>
                  <a:pt x="268" y="234"/>
                  <a:pt x="537" y="0"/>
                  <a:pt x="771" y="15"/>
                </a:cubicBezTo>
                <a:cubicBezTo>
                  <a:pt x="1005" y="30"/>
                  <a:pt x="1205" y="294"/>
                  <a:pt x="1406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3270240"/>
            <a:ext cx="57636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058760" y="3411000"/>
            <a:ext cx="1641600" cy="237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5960" y="4859280"/>
            <a:ext cx="739800" cy="192240"/>
          </a:xfrm>
          <a:custGeom>
            <a:avLst/>
            <a:gdLst/>
            <a:ahLst/>
            <a:rect l="l" t="t" r="r" b="b"/>
            <a:pathLst>
              <a:path w="466" h="121">
                <a:moveTo>
                  <a:pt x="0" y="121"/>
                </a:moveTo>
                <a:cubicBezTo>
                  <a:pt x="79" y="71"/>
                  <a:pt x="159" y="22"/>
                  <a:pt x="237" y="11"/>
                </a:cubicBezTo>
                <a:cubicBezTo>
                  <a:pt x="315" y="0"/>
                  <a:pt x="390" y="28"/>
                  <a:pt x="466" y="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3560" y="3279600"/>
            <a:ext cx="22068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96600" y="2641680"/>
            <a:ext cx="841320" cy="566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98480" y="2612880"/>
            <a:ext cx="9000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914400" y="2627280"/>
            <a:ext cx="9144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073160" y="2685960"/>
            <a:ext cx="812880" cy="5796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60280" y="2714760"/>
            <a:ext cx="812520" cy="5792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334880" y="2771640"/>
            <a:ext cx="711000" cy="4939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465200" y="2816280"/>
            <a:ext cx="625680" cy="4633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68600" y="2903400"/>
            <a:ext cx="450720" cy="36216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755360" y="2932200"/>
            <a:ext cx="451080" cy="377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87120" y="2989440"/>
            <a:ext cx="376200" cy="3204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46240" y="3062160"/>
            <a:ext cx="262080" cy="2318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18960" y="3121200"/>
            <a:ext cx="245880" cy="1728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20480" y="3149640"/>
            <a:ext cx="189000" cy="2030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608000">
            <a:off x="-120960" y="441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00240" y="445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811840" y="4960800"/>
                <a:ext cx="1990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936720" cy="68112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6012000" y="2492280"/>
            <a:ext cx="792000" cy="511200"/>
            <a:chOff x="6012000" y="2492280"/>
            <a:chExt cx="792000" cy="51120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6012000" y="2492280"/>
              <a:ext cx="7920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6012000" y="2492280"/>
              <a:ext cx="792000" cy="5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cccc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84720" y="4365720"/>
            <a:ext cx="936720" cy="604800"/>
            <a:chOff x="6084720" y="4365720"/>
            <a:chExt cx="936720" cy="604800"/>
          </a:xfrm>
        </p:grpSpPr>
        <p:pic>
          <p:nvPicPr>
            <p:cNvPr id="285" name="" descr=""/>
            <p:cNvPicPr/>
            <p:nvPr/>
          </p:nvPicPr>
          <p:blipFill>
            <a:blip r:embed="rId3"/>
            <a:stretch/>
          </p:blipFill>
          <p:spPr>
            <a:xfrm>
              <a:off x="6084720" y="4365720"/>
              <a:ext cx="936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 txBox="1"/>
            <p:nvPr/>
          </p:nvSpPr>
          <p:spPr>
            <a:xfrm>
              <a:off x="6084720" y="4365720"/>
              <a:ext cx="936720" cy="604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cccc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940360" y="458136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398760" y="1730520"/>
            <a:ext cx="5413320" cy="467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1413000"/>
            <a:ext cx="2881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-1908000" y="1773360"/>
            <a:ext cx="5903280" cy="6048000"/>
            <a:chOff x="-1908000" y="1773360"/>
            <a:chExt cx="5903280" cy="6048000"/>
          </a:xfrm>
        </p:grpSpPr>
        <p:sp>
          <p:nvSpPr>
            <p:cNvPr id="294" name=""/>
            <p:cNvSpPr/>
            <p:nvPr/>
          </p:nvSpPr>
          <p:spPr>
            <a:xfrm>
              <a:off x="-1785600" y="2090880"/>
              <a:ext cx="5412600" cy="466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1908000" y="1773360"/>
              <a:ext cx="2952720" cy="60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044720" y="2090880"/>
              <a:ext cx="0" cy="23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044720" y="4108320"/>
              <a:ext cx="2581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432720" y="4108320"/>
              <a:ext cx="4428000" cy="3181680"/>
            </a:xfrm>
            <a:custGeom>
              <a:avLst/>
              <a:gdLst/>
              <a:ahLst/>
              <a:rect l="l" t="t" r="r" b="b"/>
              <a:pathLst>
                <a:path w="1633" h="1360">
                  <a:moveTo>
                    <a:pt x="363" y="181"/>
                  </a:moveTo>
                  <a:lnTo>
                    <a:pt x="1270" y="45"/>
                  </a:lnTo>
                  <a:lnTo>
                    <a:pt x="1633" y="0"/>
                  </a:lnTo>
                  <a:lnTo>
                    <a:pt x="1452" y="1360"/>
                  </a:lnTo>
                  <a:lnTo>
                    <a:pt x="0" y="1360"/>
                  </a:lnTo>
                  <a:lnTo>
                    <a:pt x="36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V="1">
            <a:off x="6229440" y="1730520"/>
            <a:ext cx="0" cy="23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229440" y="2708280"/>
            <a:ext cx="20876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2637000"/>
            <a:ext cx="4033800" cy="3960720"/>
          </a:xfrm>
          <a:custGeom>
            <a:avLst/>
            <a:gdLst/>
            <a:ahLst/>
            <a:rect l="l" t="t" r="r" b="b"/>
            <a:pathLst>
              <a:path w="2541" h="2495">
                <a:moveTo>
                  <a:pt x="772" y="998"/>
                </a:moveTo>
                <a:lnTo>
                  <a:pt x="2223" y="0"/>
                </a:lnTo>
                <a:lnTo>
                  <a:pt x="2541" y="454"/>
                </a:lnTo>
                <a:lnTo>
                  <a:pt x="2450" y="2223"/>
                </a:lnTo>
                <a:lnTo>
                  <a:pt x="1361" y="2495"/>
                </a:lnTo>
                <a:lnTo>
                  <a:pt x="0" y="2495"/>
                </a:lnTo>
                <a:lnTo>
                  <a:pt x="772" y="9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3933720"/>
            <a:ext cx="504720" cy="432000"/>
          </a:xfrm>
          <a:custGeom>
            <a:avLst/>
            <a:gdLst/>
            <a:ahLst/>
            <a:rect l="l" t="t" r="r" b="b"/>
            <a:pathLst>
              <a:path w="318" h="272">
                <a:moveTo>
                  <a:pt x="0" y="0"/>
                </a:moveTo>
                <a:cubicBezTo>
                  <a:pt x="41" y="0"/>
                  <a:pt x="83" y="0"/>
                  <a:pt x="136" y="45"/>
                </a:cubicBezTo>
                <a:cubicBezTo>
                  <a:pt x="189" y="90"/>
                  <a:pt x="253" y="181"/>
                  <a:pt x="318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27640" y="3392640"/>
            <a:ext cx="649440" cy="252360"/>
          </a:xfrm>
          <a:custGeom>
            <a:avLst/>
            <a:gdLst/>
            <a:ahLst/>
            <a:rect l="l" t="t" r="r" b="b"/>
            <a:pathLst>
              <a:path w="409" h="159">
                <a:moveTo>
                  <a:pt x="0" y="23"/>
                </a:moveTo>
                <a:cubicBezTo>
                  <a:pt x="79" y="11"/>
                  <a:pt x="159" y="0"/>
                  <a:pt x="227" y="23"/>
                </a:cubicBezTo>
                <a:cubicBezTo>
                  <a:pt x="295" y="46"/>
                  <a:pt x="352" y="102"/>
                  <a:pt x="409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4437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d the length of the minor a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27640" y="4149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d the area of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8960" y="2982960"/>
            <a:ext cx="36684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761" y="8434"/>
                </a:moveTo>
                <a:cubicBezTo>
                  <a:pt x="1761" y="8409"/>
                  <a:pt x="1761" y="8401"/>
                  <a:pt x="1761" y="8384"/>
                </a:cubicBezTo>
                <a:cubicBezTo>
                  <a:pt x="1702" y="8399"/>
                  <a:pt x="1699" y="8435"/>
                  <a:pt x="1662" y="8483"/>
                </a:cubicBezTo>
                <a:cubicBezTo>
                  <a:pt x="1640" y="8512"/>
                  <a:pt x="1604" y="8610"/>
                  <a:pt x="1662" y="8632"/>
                </a:cubicBezTo>
                <a:cubicBezTo>
                  <a:pt x="1699" y="8646"/>
                  <a:pt x="1799" y="8651"/>
                  <a:pt x="1836" y="8657"/>
                </a:cubicBezTo>
                <a:cubicBezTo>
                  <a:pt x="1902" y="8668"/>
                  <a:pt x="1955" y="8684"/>
                  <a:pt x="1984" y="8756"/>
                </a:cubicBezTo>
                <a:cubicBezTo>
                  <a:pt x="2008" y="8815"/>
                  <a:pt x="1967" y="8867"/>
                  <a:pt x="1910" y="8880"/>
                </a:cubicBezTo>
                <a:cubicBezTo>
                  <a:pt x="1848" y="8895"/>
                  <a:pt x="1774" y="8924"/>
                  <a:pt x="1712" y="8930"/>
                </a:cubicBezTo>
                <a:cubicBezTo>
                  <a:pt x="1687" y="8930"/>
                  <a:pt x="1679" y="8930"/>
                  <a:pt x="1662" y="8930"/>
                </a:cubicBezTo>
              </a:path>
              <a:path w="1018" h="646">
                <a:moveTo>
                  <a:pt x="1860" y="8334"/>
                </a:moveTo>
                <a:cubicBezTo>
                  <a:pt x="1883" y="8312"/>
                  <a:pt x="1891" y="8307"/>
                  <a:pt x="1885" y="8285"/>
                </a:cubicBezTo>
                <a:cubicBezTo>
                  <a:pt x="1818" y="8285"/>
                  <a:pt x="1770" y="8294"/>
                  <a:pt x="1712" y="8334"/>
                </a:cubicBezTo>
                <a:cubicBezTo>
                  <a:pt x="1689" y="8357"/>
                  <a:pt x="1685" y="8365"/>
                  <a:pt x="1662" y="8359"/>
                </a:cubicBezTo>
              </a:path>
              <a:path w="1018" h="646">
                <a:moveTo>
                  <a:pt x="2208" y="8682"/>
                </a:moveTo>
                <a:cubicBezTo>
                  <a:pt x="2208" y="8750"/>
                  <a:pt x="2193" y="8826"/>
                  <a:pt x="2232" y="8880"/>
                </a:cubicBezTo>
                <a:cubicBezTo>
                  <a:pt x="2271" y="8828"/>
                  <a:pt x="2233" y="8813"/>
                  <a:pt x="2257" y="8756"/>
                </a:cubicBezTo>
                <a:cubicBezTo>
                  <a:pt x="2275" y="8713"/>
                  <a:pt x="2278" y="8663"/>
                  <a:pt x="2332" y="8657"/>
                </a:cubicBezTo>
                <a:cubicBezTo>
                  <a:pt x="2386" y="8651"/>
                  <a:pt x="2388" y="8665"/>
                  <a:pt x="2406" y="8706"/>
                </a:cubicBezTo>
                <a:cubicBezTo>
                  <a:pt x="2437" y="8779"/>
                  <a:pt x="2440" y="8733"/>
                  <a:pt x="2456" y="8781"/>
                </a:cubicBezTo>
                <a:cubicBezTo>
                  <a:pt x="2478" y="8727"/>
                  <a:pt x="2512" y="8687"/>
                  <a:pt x="2530" y="8632"/>
                </a:cubicBezTo>
                <a:cubicBezTo>
                  <a:pt x="2530" y="8607"/>
                  <a:pt x="2530" y="8599"/>
                  <a:pt x="2555" y="8607"/>
                </a:cubicBezTo>
                <a:cubicBezTo>
                  <a:pt x="2597" y="8628"/>
                  <a:pt x="2637" y="8700"/>
                  <a:pt x="2654" y="8756"/>
                </a:cubicBezTo>
                <a:cubicBezTo>
                  <a:pt x="2654" y="8764"/>
                  <a:pt x="2654" y="8773"/>
                  <a:pt x="2654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35000" y="2081160"/>
            <a:ext cx="2573280" cy="2044800"/>
          </a:xfrm>
          <a:custGeom>
            <a:avLst/>
            <a:gdLst/>
            <a:ahLst/>
            <a:rect l="l" t="t" r="r" b="b"/>
            <a:pathLst>
              <a:path w="7145" h="5682">
                <a:moveTo>
                  <a:pt x="10021" y="11460"/>
                </a:moveTo>
                <a:cubicBezTo>
                  <a:pt x="10021" y="11383"/>
                  <a:pt x="10018" y="11326"/>
                  <a:pt x="9996" y="11261"/>
                </a:cubicBezTo>
                <a:cubicBezTo>
                  <a:pt x="9987" y="11235"/>
                  <a:pt x="9996" y="11189"/>
                  <a:pt x="9996" y="11162"/>
                </a:cubicBezTo>
                <a:cubicBezTo>
                  <a:pt x="9958" y="11149"/>
                  <a:pt x="9971" y="11133"/>
                  <a:pt x="9971" y="11088"/>
                </a:cubicBezTo>
                <a:cubicBezTo>
                  <a:pt x="9950" y="11081"/>
                  <a:pt x="9932" y="11044"/>
                  <a:pt x="9922" y="11013"/>
                </a:cubicBezTo>
                <a:cubicBezTo>
                  <a:pt x="9916" y="10994"/>
                  <a:pt x="9922" y="10959"/>
                  <a:pt x="9922" y="10939"/>
                </a:cubicBezTo>
                <a:cubicBezTo>
                  <a:pt x="9887" y="10927"/>
                  <a:pt x="9897" y="10932"/>
                  <a:pt x="9897" y="10889"/>
                </a:cubicBezTo>
                <a:cubicBezTo>
                  <a:pt x="9859" y="10876"/>
                  <a:pt x="9872" y="10860"/>
                  <a:pt x="9872" y="10815"/>
                </a:cubicBezTo>
                <a:cubicBezTo>
                  <a:pt x="9872" y="10807"/>
                  <a:pt x="9872" y="10798"/>
                  <a:pt x="9872" y="10790"/>
                </a:cubicBezTo>
                <a:cubicBezTo>
                  <a:pt x="9849" y="10782"/>
                  <a:pt x="9833" y="10748"/>
                  <a:pt x="9823" y="10716"/>
                </a:cubicBezTo>
                <a:cubicBezTo>
                  <a:pt x="9817" y="10697"/>
                  <a:pt x="9823" y="10661"/>
                  <a:pt x="9823" y="10641"/>
                </a:cubicBezTo>
                <a:cubicBezTo>
                  <a:pt x="9798" y="10641"/>
                  <a:pt x="9790" y="10641"/>
                  <a:pt x="9798" y="10616"/>
                </a:cubicBezTo>
              </a:path>
              <a:path w="7145" h="5682">
                <a:moveTo>
                  <a:pt x="9748" y="10418"/>
                </a:moveTo>
                <a:cubicBezTo>
                  <a:pt x="9734" y="10375"/>
                  <a:pt x="9733" y="10343"/>
                  <a:pt x="9723" y="10294"/>
                </a:cubicBezTo>
                <a:cubicBezTo>
                  <a:pt x="9714" y="10274"/>
                  <a:pt x="9703" y="10267"/>
                  <a:pt x="9699" y="10220"/>
                </a:cubicBezTo>
                <a:cubicBezTo>
                  <a:pt x="9699" y="10212"/>
                  <a:pt x="9699" y="10203"/>
                  <a:pt x="9699" y="10195"/>
                </a:cubicBezTo>
                <a:cubicBezTo>
                  <a:pt x="9696" y="10187"/>
                  <a:pt x="9685" y="10147"/>
                  <a:pt x="9674" y="10120"/>
                </a:cubicBezTo>
                <a:cubicBezTo>
                  <a:pt x="9660" y="10084"/>
                  <a:pt x="9636" y="10060"/>
                  <a:pt x="9624" y="10021"/>
                </a:cubicBezTo>
                <a:cubicBezTo>
                  <a:pt x="9613" y="9985"/>
                  <a:pt x="9610" y="9956"/>
                  <a:pt x="9599" y="9922"/>
                </a:cubicBezTo>
                <a:cubicBezTo>
                  <a:pt x="9590" y="9895"/>
                  <a:pt x="9583" y="9875"/>
                  <a:pt x="9575" y="9847"/>
                </a:cubicBezTo>
                <a:cubicBezTo>
                  <a:pt x="9564" y="9825"/>
                  <a:pt x="9554" y="9823"/>
                  <a:pt x="9550" y="9773"/>
                </a:cubicBezTo>
                <a:cubicBezTo>
                  <a:pt x="9550" y="9765"/>
                  <a:pt x="9550" y="9756"/>
                  <a:pt x="9550" y="9748"/>
                </a:cubicBezTo>
                <a:cubicBezTo>
                  <a:pt x="9515" y="9725"/>
                  <a:pt x="9533" y="9748"/>
                  <a:pt x="9525" y="9699"/>
                </a:cubicBezTo>
                <a:cubicBezTo>
                  <a:pt x="9510" y="9675"/>
                  <a:pt x="9507" y="9675"/>
                  <a:pt x="9500" y="9624"/>
                </a:cubicBezTo>
                <a:cubicBezTo>
                  <a:pt x="9465" y="9601"/>
                  <a:pt x="9483" y="9624"/>
                  <a:pt x="9475" y="9575"/>
                </a:cubicBezTo>
                <a:cubicBezTo>
                  <a:pt x="9462" y="9559"/>
                  <a:pt x="9443" y="9530"/>
                  <a:pt x="9426" y="9500"/>
                </a:cubicBezTo>
                <a:cubicBezTo>
                  <a:pt x="9391" y="9477"/>
                  <a:pt x="9409" y="9500"/>
                  <a:pt x="9401" y="9451"/>
                </a:cubicBezTo>
                <a:cubicBezTo>
                  <a:pt x="9374" y="9444"/>
                  <a:pt x="9372" y="9442"/>
                  <a:pt x="9351" y="9426"/>
                </a:cubicBezTo>
                <a:cubicBezTo>
                  <a:pt x="9346" y="9385"/>
                  <a:pt x="9340" y="9363"/>
                  <a:pt x="9327" y="9327"/>
                </a:cubicBezTo>
                <a:cubicBezTo>
                  <a:pt x="9313" y="9306"/>
                  <a:pt x="9294" y="9268"/>
                  <a:pt x="9277" y="9227"/>
                </a:cubicBezTo>
                <a:cubicBezTo>
                  <a:pt x="9266" y="9213"/>
                  <a:pt x="9244" y="9179"/>
                  <a:pt x="9227" y="9153"/>
                </a:cubicBezTo>
                <a:cubicBezTo>
                  <a:pt x="9210" y="9126"/>
                  <a:pt x="9191" y="9103"/>
                  <a:pt x="9178" y="9079"/>
                </a:cubicBezTo>
                <a:cubicBezTo>
                  <a:pt x="9143" y="9056"/>
                  <a:pt x="9161" y="9079"/>
                  <a:pt x="9153" y="9029"/>
                </a:cubicBezTo>
                <a:cubicBezTo>
                  <a:pt x="9115" y="9010"/>
                  <a:pt x="9125" y="9012"/>
                  <a:pt x="9103" y="8979"/>
                </a:cubicBezTo>
                <a:cubicBezTo>
                  <a:pt x="9070" y="8957"/>
                  <a:pt x="9087" y="8978"/>
                  <a:pt x="9079" y="8930"/>
                </a:cubicBezTo>
                <a:cubicBezTo>
                  <a:pt x="9041" y="8911"/>
                  <a:pt x="9051" y="8913"/>
                  <a:pt x="9029" y="8880"/>
                </a:cubicBezTo>
                <a:cubicBezTo>
                  <a:pt x="9002" y="8873"/>
                  <a:pt x="9000" y="8871"/>
                  <a:pt x="8979" y="8855"/>
                </a:cubicBezTo>
                <a:cubicBezTo>
                  <a:pt x="8964" y="8821"/>
                  <a:pt x="8969" y="8825"/>
                  <a:pt x="8954" y="8781"/>
                </a:cubicBezTo>
                <a:cubicBezTo>
                  <a:pt x="8932" y="8758"/>
                  <a:pt x="8924" y="8753"/>
                  <a:pt x="8930" y="8731"/>
                </a:cubicBezTo>
                <a:cubicBezTo>
                  <a:pt x="8903" y="8724"/>
                  <a:pt x="8901" y="8722"/>
                  <a:pt x="8880" y="8706"/>
                </a:cubicBezTo>
                <a:cubicBezTo>
                  <a:pt x="8865" y="8676"/>
                  <a:pt x="8845" y="8637"/>
                  <a:pt x="8830" y="8607"/>
                </a:cubicBezTo>
                <a:cubicBezTo>
                  <a:pt x="8811" y="8587"/>
                  <a:pt x="8782" y="8592"/>
                  <a:pt x="8756" y="8558"/>
                </a:cubicBezTo>
                <a:cubicBezTo>
                  <a:pt x="8756" y="8550"/>
                  <a:pt x="8756" y="8541"/>
                  <a:pt x="8756" y="8533"/>
                </a:cubicBezTo>
                <a:cubicBezTo>
                  <a:pt x="8729" y="8526"/>
                  <a:pt x="8727" y="8524"/>
                  <a:pt x="8706" y="8508"/>
                </a:cubicBezTo>
                <a:cubicBezTo>
                  <a:pt x="8691" y="8477"/>
                  <a:pt x="8672" y="8439"/>
                  <a:pt x="8657" y="8409"/>
                </a:cubicBezTo>
                <a:cubicBezTo>
                  <a:pt x="8630" y="8402"/>
                  <a:pt x="8628" y="8400"/>
                  <a:pt x="8607" y="8384"/>
                </a:cubicBezTo>
                <a:cubicBezTo>
                  <a:pt x="8601" y="8357"/>
                  <a:pt x="8593" y="8335"/>
                  <a:pt x="8582" y="8310"/>
                </a:cubicBezTo>
                <a:cubicBezTo>
                  <a:pt x="8558" y="8292"/>
                  <a:pt x="8545" y="8284"/>
                  <a:pt x="8508" y="8260"/>
                </a:cubicBezTo>
                <a:cubicBezTo>
                  <a:pt x="8488" y="8247"/>
                  <a:pt x="8448" y="8221"/>
                  <a:pt x="8434" y="8210"/>
                </a:cubicBezTo>
                <a:cubicBezTo>
                  <a:pt x="8427" y="8184"/>
                  <a:pt x="8424" y="8181"/>
                  <a:pt x="8409" y="8161"/>
                </a:cubicBezTo>
                <a:cubicBezTo>
                  <a:pt x="8382" y="8154"/>
                  <a:pt x="8380" y="8152"/>
                  <a:pt x="8359" y="8136"/>
                </a:cubicBezTo>
                <a:cubicBezTo>
                  <a:pt x="8352" y="8109"/>
                  <a:pt x="8350" y="8107"/>
                  <a:pt x="8334" y="8086"/>
                </a:cubicBezTo>
                <a:cubicBezTo>
                  <a:pt x="8297" y="8067"/>
                  <a:pt x="8306" y="8068"/>
                  <a:pt x="8285" y="8037"/>
                </a:cubicBezTo>
                <a:cubicBezTo>
                  <a:pt x="8247" y="8018"/>
                  <a:pt x="8257" y="8020"/>
                  <a:pt x="8235" y="7987"/>
                </a:cubicBezTo>
                <a:cubicBezTo>
                  <a:pt x="8197" y="7968"/>
                  <a:pt x="8207" y="7970"/>
                  <a:pt x="8186" y="7938"/>
                </a:cubicBezTo>
                <a:cubicBezTo>
                  <a:pt x="8120" y="7921"/>
                  <a:pt x="8167" y="7921"/>
                  <a:pt x="8111" y="7888"/>
                </a:cubicBezTo>
                <a:cubicBezTo>
                  <a:pt x="8103" y="7888"/>
                  <a:pt x="8094" y="7888"/>
                  <a:pt x="8086" y="7888"/>
                </a:cubicBezTo>
                <a:cubicBezTo>
                  <a:pt x="8079" y="7860"/>
                  <a:pt x="8077" y="7859"/>
                  <a:pt x="8062" y="7838"/>
                </a:cubicBezTo>
                <a:cubicBezTo>
                  <a:pt x="8030" y="7819"/>
                  <a:pt x="8035" y="7820"/>
                  <a:pt x="7987" y="7813"/>
                </a:cubicBezTo>
                <a:cubicBezTo>
                  <a:pt x="7970" y="7793"/>
                  <a:pt x="7955" y="7770"/>
                  <a:pt x="7938" y="7739"/>
                </a:cubicBezTo>
                <a:cubicBezTo>
                  <a:pt x="7900" y="7720"/>
                  <a:pt x="7910" y="7722"/>
                  <a:pt x="7888" y="7689"/>
                </a:cubicBezTo>
                <a:cubicBezTo>
                  <a:pt x="7860" y="7682"/>
                  <a:pt x="7859" y="7680"/>
                  <a:pt x="7838" y="7665"/>
                </a:cubicBezTo>
                <a:cubicBezTo>
                  <a:pt x="7831" y="7638"/>
                  <a:pt x="7829" y="7636"/>
                  <a:pt x="7813" y="7615"/>
                </a:cubicBezTo>
                <a:cubicBezTo>
                  <a:pt x="7793" y="7599"/>
                  <a:pt x="7770" y="7583"/>
                  <a:pt x="7739" y="7565"/>
                </a:cubicBezTo>
                <a:cubicBezTo>
                  <a:pt x="7727" y="7518"/>
                  <a:pt x="7734" y="7542"/>
                  <a:pt x="7714" y="7516"/>
                </a:cubicBezTo>
                <a:cubicBezTo>
                  <a:pt x="7707" y="7489"/>
                  <a:pt x="7705" y="7487"/>
                  <a:pt x="7689" y="7466"/>
                </a:cubicBezTo>
                <a:cubicBezTo>
                  <a:pt x="7658" y="7447"/>
                  <a:pt x="7663" y="7448"/>
                  <a:pt x="7615" y="7441"/>
                </a:cubicBezTo>
                <a:cubicBezTo>
                  <a:pt x="7595" y="7421"/>
                  <a:pt x="7599" y="7394"/>
                  <a:pt x="7565" y="7367"/>
                </a:cubicBezTo>
                <a:cubicBezTo>
                  <a:pt x="7557" y="7367"/>
                  <a:pt x="7549" y="7367"/>
                  <a:pt x="7541" y="7367"/>
                </a:cubicBezTo>
                <a:cubicBezTo>
                  <a:pt x="7526" y="7355"/>
                  <a:pt x="7500" y="7312"/>
                  <a:pt x="7466" y="7293"/>
                </a:cubicBezTo>
                <a:cubicBezTo>
                  <a:pt x="7458" y="7293"/>
                  <a:pt x="7449" y="7293"/>
                  <a:pt x="7441" y="7293"/>
                </a:cubicBezTo>
                <a:cubicBezTo>
                  <a:pt x="7422" y="7254"/>
                  <a:pt x="7424" y="7265"/>
                  <a:pt x="7392" y="7243"/>
                </a:cubicBezTo>
                <a:cubicBezTo>
                  <a:pt x="7369" y="7208"/>
                  <a:pt x="7392" y="7226"/>
                  <a:pt x="7342" y="7218"/>
                </a:cubicBezTo>
                <a:cubicBezTo>
                  <a:pt x="7330" y="7209"/>
                  <a:pt x="7301" y="7157"/>
                  <a:pt x="7268" y="7144"/>
                </a:cubicBezTo>
                <a:cubicBezTo>
                  <a:pt x="7243" y="7144"/>
                  <a:pt x="7235" y="7144"/>
                  <a:pt x="7218" y="7144"/>
                </a:cubicBezTo>
                <a:cubicBezTo>
                  <a:pt x="7195" y="7109"/>
                  <a:pt x="7218" y="7127"/>
                  <a:pt x="7169" y="7119"/>
                </a:cubicBezTo>
                <a:cubicBezTo>
                  <a:pt x="7146" y="7084"/>
                  <a:pt x="7169" y="7102"/>
                  <a:pt x="7119" y="7094"/>
                </a:cubicBezTo>
                <a:cubicBezTo>
                  <a:pt x="7103" y="7087"/>
                  <a:pt x="7059" y="7055"/>
                  <a:pt x="7020" y="7045"/>
                </a:cubicBezTo>
                <a:cubicBezTo>
                  <a:pt x="7012" y="7045"/>
                  <a:pt x="7003" y="7045"/>
                  <a:pt x="6995" y="7045"/>
                </a:cubicBezTo>
                <a:cubicBezTo>
                  <a:pt x="6972" y="7010"/>
                  <a:pt x="6995" y="7028"/>
                  <a:pt x="6945" y="7020"/>
                </a:cubicBezTo>
                <a:cubicBezTo>
                  <a:pt x="6938" y="6992"/>
                  <a:pt x="6936" y="6991"/>
                  <a:pt x="6921" y="6970"/>
                </a:cubicBezTo>
                <a:cubicBezTo>
                  <a:pt x="6890" y="6956"/>
                  <a:pt x="6853" y="6934"/>
                  <a:pt x="6821" y="6921"/>
                </a:cubicBezTo>
                <a:cubicBezTo>
                  <a:pt x="6797" y="6912"/>
                  <a:pt x="6770" y="6907"/>
                  <a:pt x="6747" y="6896"/>
                </a:cubicBezTo>
                <a:cubicBezTo>
                  <a:pt x="6724" y="6861"/>
                  <a:pt x="6747" y="6879"/>
                  <a:pt x="6697" y="6871"/>
                </a:cubicBezTo>
                <a:cubicBezTo>
                  <a:pt x="6674" y="6836"/>
                  <a:pt x="6697" y="6854"/>
                  <a:pt x="6648" y="6846"/>
                </a:cubicBezTo>
                <a:cubicBezTo>
                  <a:pt x="6624" y="6831"/>
                  <a:pt x="6624" y="6828"/>
                  <a:pt x="6573" y="6821"/>
                </a:cubicBezTo>
                <a:cubicBezTo>
                  <a:pt x="6566" y="6794"/>
                  <a:pt x="6564" y="6792"/>
                  <a:pt x="6548" y="6772"/>
                </a:cubicBezTo>
                <a:cubicBezTo>
                  <a:pt x="6501" y="6760"/>
                  <a:pt x="6525" y="6767"/>
                  <a:pt x="6499" y="6747"/>
                </a:cubicBezTo>
                <a:cubicBezTo>
                  <a:pt x="6451" y="6735"/>
                  <a:pt x="6475" y="6742"/>
                  <a:pt x="6449" y="6722"/>
                </a:cubicBezTo>
                <a:cubicBezTo>
                  <a:pt x="6422" y="6716"/>
                  <a:pt x="6400" y="6708"/>
                  <a:pt x="6375" y="6697"/>
                </a:cubicBezTo>
                <a:cubicBezTo>
                  <a:pt x="6352" y="6662"/>
                  <a:pt x="6375" y="6680"/>
                  <a:pt x="6325" y="6672"/>
                </a:cubicBezTo>
                <a:cubicBezTo>
                  <a:pt x="6302" y="6659"/>
                  <a:pt x="6299" y="6655"/>
                  <a:pt x="6251" y="6648"/>
                </a:cubicBezTo>
                <a:cubicBezTo>
                  <a:pt x="6229" y="6631"/>
                  <a:pt x="6219" y="6586"/>
                  <a:pt x="6176" y="6573"/>
                </a:cubicBezTo>
                <a:cubicBezTo>
                  <a:pt x="6152" y="6573"/>
                  <a:pt x="6143" y="6573"/>
                  <a:pt x="6127" y="6573"/>
                </a:cubicBezTo>
                <a:cubicBezTo>
                  <a:pt x="6117" y="6568"/>
                  <a:pt x="6082" y="6536"/>
                  <a:pt x="6052" y="6524"/>
                </a:cubicBezTo>
                <a:cubicBezTo>
                  <a:pt x="6035" y="6517"/>
                  <a:pt x="5994" y="6507"/>
                  <a:pt x="5978" y="6499"/>
                </a:cubicBezTo>
                <a:cubicBezTo>
                  <a:pt x="5955" y="6464"/>
                  <a:pt x="5978" y="6482"/>
                  <a:pt x="5928" y="6474"/>
                </a:cubicBezTo>
                <a:cubicBezTo>
                  <a:pt x="5905" y="6439"/>
                  <a:pt x="5929" y="6458"/>
                  <a:pt x="5879" y="6449"/>
                </a:cubicBezTo>
                <a:cubicBezTo>
                  <a:pt x="5856" y="6414"/>
                  <a:pt x="5879" y="6432"/>
                  <a:pt x="5829" y="6424"/>
                </a:cubicBezTo>
                <a:cubicBezTo>
                  <a:pt x="5809" y="6415"/>
                  <a:pt x="5802" y="6404"/>
                  <a:pt x="5755" y="6400"/>
                </a:cubicBezTo>
                <a:cubicBezTo>
                  <a:pt x="5747" y="6400"/>
                  <a:pt x="5738" y="6400"/>
                  <a:pt x="5730" y="6400"/>
                </a:cubicBezTo>
                <a:cubicBezTo>
                  <a:pt x="5709" y="6389"/>
                  <a:pt x="5705" y="6379"/>
                  <a:pt x="5655" y="6375"/>
                </a:cubicBezTo>
                <a:cubicBezTo>
                  <a:pt x="5647" y="6375"/>
                  <a:pt x="5639" y="6375"/>
                  <a:pt x="5631" y="6375"/>
                </a:cubicBezTo>
                <a:cubicBezTo>
                  <a:pt x="5627" y="6374"/>
                  <a:pt x="5587" y="6357"/>
                  <a:pt x="5556" y="6350"/>
                </a:cubicBezTo>
                <a:cubicBezTo>
                  <a:pt x="5527" y="6344"/>
                  <a:pt x="5493" y="6332"/>
                  <a:pt x="5457" y="6325"/>
                </a:cubicBezTo>
                <a:cubicBezTo>
                  <a:pt x="5446" y="6321"/>
                  <a:pt x="5393" y="6285"/>
                  <a:pt x="5358" y="6276"/>
                </a:cubicBezTo>
                <a:cubicBezTo>
                  <a:pt x="5321" y="6266"/>
                  <a:pt x="5294" y="6260"/>
                  <a:pt x="5259" y="6251"/>
                </a:cubicBezTo>
                <a:cubicBezTo>
                  <a:pt x="5251" y="6251"/>
                  <a:pt x="5242" y="6251"/>
                  <a:pt x="5234" y="6251"/>
                </a:cubicBezTo>
                <a:cubicBezTo>
                  <a:pt x="5210" y="6236"/>
                  <a:pt x="5210" y="6233"/>
                  <a:pt x="5159" y="6226"/>
                </a:cubicBezTo>
                <a:cubicBezTo>
                  <a:pt x="5152" y="6198"/>
                  <a:pt x="5150" y="6197"/>
                  <a:pt x="5135" y="6176"/>
                </a:cubicBezTo>
                <a:cubicBezTo>
                  <a:pt x="5101" y="6165"/>
                  <a:pt x="5069" y="6162"/>
                  <a:pt x="5035" y="6152"/>
                </a:cubicBezTo>
                <a:cubicBezTo>
                  <a:pt x="4995" y="6140"/>
                  <a:pt x="4952" y="6115"/>
                  <a:pt x="4911" y="6102"/>
                </a:cubicBezTo>
                <a:cubicBezTo>
                  <a:pt x="4877" y="6091"/>
                  <a:pt x="4845" y="6087"/>
                  <a:pt x="4812" y="6077"/>
                </a:cubicBezTo>
                <a:cubicBezTo>
                  <a:pt x="4771" y="6065"/>
                  <a:pt x="4731" y="6039"/>
                  <a:pt x="4688" y="6028"/>
                </a:cubicBezTo>
                <a:cubicBezTo>
                  <a:pt x="4625" y="6012"/>
                  <a:pt x="4550" y="6011"/>
                  <a:pt x="4490" y="6003"/>
                </a:cubicBezTo>
                <a:cubicBezTo>
                  <a:pt x="4465" y="6003"/>
                  <a:pt x="4457" y="6003"/>
                  <a:pt x="4440" y="6003"/>
                </a:cubicBezTo>
                <a:cubicBezTo>
                  <a:pt x="4407" y="5999"/>
                  <a:pt x="4399" y="5979"/>
                  <a:pt x="4366" y="5978"/>
                </a:cubicBezTo>
                <a:cubicBezTo>
                  <a:pt x="4240" y="5975"/>
                  <a:pt x="4133" y="5968"/>
                  <a:pt x="4018" y="5953"/>
                </a:cubicBezTo>
                <a:cubicBezTo>
                  <a:pt x="3941" y="5943"/>
                  <a:pt x="3865" y="5933"/>
                  <a:pt x="3795" y="5928"/>
                </a:cubicBezTo>
                <a:cubicBezTo>
                  <a:pt x="3746" y="5925"/>
                  <a:pt x="3695" y="5930"/>
                  <a:pt x="3646" y="5928"/>
                </a:cubicBezTo>
                <a:cubicBezTo>
                  <a:pt x="3614" y="5923"/>
                  <a:pt x="3604" y="5909"/>
                  <a:pt x="3572" y="5904"/>
                </a:cubicBezTo>
                <a:cubicBezTo>
                  <a:pt x="3523" y="5897"/>
                  <a:pt x="3491" y="5886"/>
                  <a:pt x="3448" y="5879"/>
                </a:cubicBezTo>
                <a:cubicBezTo>
                  <a:pt x="3375" y="5868"/>
                  <a:pt x="3316" y="5867"/>
                  <a:pt x="3249" y="5854"/>
                </a:cubicBezTo>
                <a:cubicBezTo>
                  <a:pt x="3228" y="5850"/>
                  <a:pt x="3178" y="5836"/>
                  <a:pt x="3150" y="5829"/>
                </a:cubicBezTo>
                <a:cubicBezTo>
                  <a:pt x="3138" y="5825"/>
                  <a:pt x="3119" y="5807"/>
                  <a:pt x="3076" y="5804"/>
                </a:cubicBezTo>
                <a:cubicBezTo>
                  <a:pt x="3051" y="5804"/>
                  <a:pt x="3043" y="5804"/>
                  <a:pt x="3026" y="5804"/>
                </a:cubicBezTo>
                <a:cubicBezTo>
                  <a:pt x="2993" y="5799"/>
                  <a:pt x="2985" y="5781"/>
                  <a:pt x="2952" y="5779"/>
                </a:cubicBezTo>
                <a:cubicBezTo>
                  <a:pt x="2928" y="5778"/>
                  <a:pt x="2901" y="5783"/>
                  <a:pt x="2877" y="5779"/>
                </a:cubicBezTo>
              </a:path>
              <a:path w="7145" h="5682">
                <a:moveTo>
                  <a:pt x="9798" y="10616"/>
                </a:moveTo>
                <a:cubicBezTo>
                  <a:pt x="9798" y="10608"/>
                  <a:pt x="9798" y="10600"/>
                  <a:pt x="9798" y="10592"/>
                </a:cubicBezTo>
                <a:cubicBezTo>
                  <a:pt x="9775" y="10584"/>
                  <a:pt x="9759" y="10549"/>
                  <a:pt x="9748" y="10517"/>
                </a:cubicBezTo>
                <a:cubicBezTo>
                  <a:pt x="9748" y="10489"/>
                  <a:pt x="9746" y="10478"/>
                  <a:pt x="9723" y="1046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1803240"/>
            <a:ext cx="1652760" cy="1501920"/>
          </a:xfrm>
          <a:custGeom>
            <a:avLst/>
            <a:gdLst/>
            <a:ahLst/>
            <a:rect l="l" t="t" r="r" b="b"/>
            <a:pathLst>
              <a:path w="4590" h="4168">
                <a:moveTo>
                  <a:pt x="18182" y="5035"/>
                </a:moveTo>
                <a:cubicBezTo>
                  <a:pt x="18182" y="5027"/>
                  <a:pt x="18182" y="5019"/>
                  <a:pt x="18182" y="5011"/>
                </a:cubicBezTo>
                <a:cubicBezTo>
                  <a:pt x="18231" y="5035"/>
                  <a:pt x="18121" y="5047"/>
                  <a:pt x="18083" y="5060"/>
                </a:cubicBezTo>
                <a:cubicBezTo>
                  <a:pt x="17964" y="5102"/>
                  <a:pt x="17848" y="5154"/>
                  <a:pt x="17735" y="5209"/>
                </a:cubicBezTo>
                <a:cubicBezTo>
                  <a:pt x="17682" y="5236"/>
                  <a:pt x="17662" y="5248"/>
                  <a:pt x="17636" y="5283"/>
                </a:cubicBezTo>
              </a:path>
              <a:path w="4590" h="4168">
                <a:moveTo>
                  <a:pt x="19075" y="5333"/>
                </a:moveTo>
                <a:cubicBezTo>
                  <a:pt x="19047" y="5371"/>
                  <a:pt x="19042" y="5362"/>
                  <a:pt x="19000" y="5383"/>
                </a:cubicBezTo>
                <a:cubicBezTo>
                  <a:pt x="18881" y="5442"/>
                  <a:pt x="18745" y="5469"/>
                  <a:pt x="18628" y="5531"/>
                </a:cubicBezTo>
                <a:cubicBezTo>
                  <a:pt x="18513" y="5593"/>
                  <a:pt x="18399" y="5647"/>
                  <a:pt x="18281" y="5705"/>
                </a:cubicBezTo>
                <a:cubicBezTo>
                  <a:pt x="18159" y="5765"/>
                  <a:pt x="18047" y="5829"/>
                  <a:pt x="17934" y="5904"/>
                </a:cubicBezTo>
                <a:cubicBezTo>
                  <a:pt x="17832" y="5971"/>
                  <a:pt x="17700" y="6030"/>
                  <a:pt x="17587" y="6077"/>
                </a:cubicBezTo>
                <a:cubicBezTo>
                  <a:pt x="17509" y="6110"/>
                  <a:pt x="17472" y="6142"/>
                  <a:pt x="17413" y="6201"/>
                </a:cubicBezTo>
              </a:path>
              <a:path w="4590" h="4168">
                <a:moveTo>
                  <a:pt x="20315" y="5705"/>
                </a:moveTo>
                <a:cubicBezTo>
                  <a:pt x="20323" y="5697"/>
                  <a:pt x="20332" y="5688"/>
                  <a:pt x="20340" y="5680"/>
                </a:cubicBezTo>
                <a:cubicBezTo>
                  <a:pt x="20294" y="5704"/>
                  <a:pt x="20241" y="5726"/>
                  <a:pt x="20191" y="5755"/>
                </a:cubicBezTo>
                <a:cubicBezTo>
                  <a:pt x="20093" y="5812"/>
                  <a:pt x="20022" y="5903"/>
                  <a:pt x="19918" y="5953"/>
                </a:cubicBezTo>
                <a:cubicBezTo>
                  <a:pt x="19803" y="6008"/>
                  <a:pt x="19688" y="6076"/>
                  <a:pt x="19571" y="6127"/>
                </a:cubicBezTo>
                <a:cubicBezTo>
                  <a:pt x="19460" y="6175"/>
                  <a:pt x="19354" y="6220"/>
                  <a:pt x="19248" y="6276"/>
                </a:cubicBezTo>
                <a:cubicBezTo>
                  <a:pt x="19145" y="6331"/>
                  <a:pt x="19035" y="6384"/>
                  <a:pt x="18926" y="6424"/>
                </a:cubicBezTo>
                <a:cubicBezTo>
                  <a:pt x="18841" y="6455"/>
                  <a:pt x="18728" y="6488"/>
                  <a:pt x="18653" y="6524"/>
                </a:cubicBezTo>
                <a:cubicBezTo>
                  <a:pt x="18592" y="6554"/>
                  <a:pt x="18568" y="6556"/>
                  <a:pt x="18504" y="6573"/>
                </a:cubicBezTo>
                <a:cubicBezTo>
                  <a:pt x="18445" y="6588"/>
                  <a:pt x="18389" y="6600"/>
                  <a:pt x="18331" y="6623"/>
                </a:cubicBezTo>
                <a:cubicBezTo>
                  <a:pt x="18263" y="6650"/>
                  <a:pt x="18195" y="6666"/>
                  <a:pt x="18132" y="6697"/>
                </a:cubicBezTo>
                <a:cubicBezTo>
                  <a:pt x="18075" y="6725"/>
                  <a:pt x="18022" y="6773"/>
                  <a:pt x="17959" y="6796"/>
                </a:cubicBezTo>
                <a:cubicBezTo>
                  <a:pt x="17912" y="6814"/>
                  <a:pt x="17856" y="6828"/>
                  <a:pt x="17810" y="6846"/>
                </a:cubicBezTo>
                <a:cubicBezTo>
                  <a:pt x="17759" y="6866"/>
                  <a:pt x="17734" y="6868"/>
                  <a:pt x="17686" y="6896"/>
                </a:cubicBezTo>
                <a:cubicBezTo>
                  <a:pt x="17632" y="6928"/>
                  <a:pt x="17590" y="6940"/>
                  <a:pt x="17537" y="6970"/>
                </a:cubicBezTo>
                <a:cubicBezTo>
                  <a:pt x="17510" y="6985"/>
                  <a:pt x="17491" y="6997"/>
                  <a:pt x="17462" y="7020"/>
                </a:cubicBezTo>
              </a:path>
              <a:path w="4590" h="4168">
                <a:moveTo>
                  <a:pt x="21134" y="6325"/>
                </a:moveTo>
                <a:cubicBezTo>
                  <a:pt x="21093" y="6339"/>
                  <a:pt x="21072" y="6360"/>
                  <a:pt x="21034" y="6375"/>
                </a:cubicBezTo>
                <a:cubicBezTo>
                  <a:pt x="20962" y="6403"/>
                  <a:pt x="20909" y="6438"/>
                  <a:pt x="20836" y="6474"/>
                </a:cubicBezTo>
                <a:cubicBezTo>
                  <a:pt x="20750" y="6516"/>
                  <a:pt x="20653" y="6543"/>
                  <a:pt x="20563" y="6573"/>
                </a:cubicBezTo>
                <a:cubicBezTo>
                  <a:pt x="20451" y="6610"/>
                  <a:pt x="20351" y="6663"/>
                  <a:pt x="20241" y="6697"/>
                </a:cubicBezTo>
                <a:cubicBezTo>
                  <a:pt x="20140" y="6729"/>
                  <a:pt x="20042" y="6760"/>
                  <a:pt x="19943" y="6796"/>
                </a:cubicBezTo>
                <a:cubicBezTo>
                  <a:pt x="19838" y="6834"/>
                  <a:pt x="19729" y="6866"/>
                  <a:pt x="19621" y="6896"/>
                </a:cubicBezTo>
                <a:cubicBezTo>
                  <a:pt x="19501" y="6929"/>
                  <a:pt x="19393" y="6981"/>
                  <a:pt x="19273" y="7020"/>
                </a:cubicBezTo>
                <a:cubicBezTo>
                  <a:pt x="19166" y="7055"/>
                  <a:pt x="19076" y="7099"/>
                  <a:pt x="18976" y="7144"/>
                </a:cubicBezTo>
                <a:cubicBezTo>
                  <a:pt x="18890" y="7182"/>
                  <a:pt x="18792" y="7212"/>
                  <a:pt x="18703" y="7243"/>
                </a:cubicBezTo>
                <a:cubicBezTo>
                  <a:pt x="18606" y="7277"/>
                  <a:pt x="18524" y="7329"/>
                  <a:pt x="18430" y="7367"/>
                </a:cubicBezTo>
                <a:cubicBezTo>
                  <a:pt x="18355" y="7398"/>
                  <a:pt x="18282" y="7436"/>
                  <a:pt x="18207" y="7466"/>
                </a:cubicBezTo>
                <a:cubicBezTo>
                  <a:pt x="18151" y="7488"/>
                  <a:pt x="18091" y="7493"/>
                  <a:pt x="18033" y="7516"/>
                </a:cubicBezTo>
                <a:cubicBezTo>
                  <a:pt x="17957" y="7546"/>
                  <a:pt x="17884" y="7588"/>
                  <a:pt x="17810" y="7615"/>
                </a:cubicBezTo>
                <a:cubicBezTo>
                  <a:pt x="17787" y="7623"/>
                  <a:pt x="17756" y="7633"/>
                  <a:pt x="17735" y="7640"/>
                </a:cubicBezTo>
              </a:path>
              <a:path w="4590" h="4168">
                <a:moveTo>
                  <a:pt x="22002" y="6796"/>
                </a:moveTo>
                <a:cubicBezTo>
                  <a:pt x="21945" y="6808"/>
                  <a:pt x="21887" y="6810"/>
                  <a:pt x="21828" y="6821"/>
                </a:cubicBezTo>
                <a:cubicBezTo>
                  <a:pt x="21731" y="6839"/>
                  <a:pt x="21629" y="6882"/>
                  <a:pt x="21530" y="6896"/>
                </a:cubicBezTo>
                <a:cubicBezTo>
                  <a:pt x="21442" y="6908"/>
                  <a:pt x="21346" y="6918"/>
                  <a:pt x="21258" y="6921"/>
                </a:cubicBezTo>
                <a:cubicBezTo>
                  <a:pt x="21155" y="6925"/>
                  <a:pt x="21061" y="6959"/>
                  <a:pt x="20960" y="6970"/>
                </a:cubicBezTo>
                <a:cubicBezTo>
                  <a:pt x="20859" y="6981"/>
                  <a:pt x="20761" y="7009"/>
                  <a:pt x="20662" y="7020"/>
                </a:cubicBezTo>
                <a:cubicBezTo>
                  <a:pt x="20572" y="7030"/>
                  <a:pt x="20478" y="7049"/>
                  <a:pt x="20389" y="7069"/>
                </a:cubicBezTo>
                <a:cubicBezTo>
                  <a:pt x="20297" y="7089"/>
                  <a:pt x="20207" y="7120"/>
                  <a:pt x="20117" y="7144"/>
                </a:cubicBezTo>
                <a:cubicBezTo>
                  <a:pt x="20028" y="7168"/>
                  <a:pt x="19933" y="7185"/>
                  <a:pt x="19844" y="7218"/>
                </a:cubicBezTo>
                <a:cubicBezTo>
                  <a:pt x="19762" y="7248"/>
                  <a:pt x="19676" y="7282"/>
                  <a:pt x="19596" y="7317"/>
                </a:cubicBezTo>
                <a:cubicBezTo>
                  <a:pt x="19429" y="7391"/>
                  <a:pt x="19271" y="7476"/>
                  <a:pt x="19100" y="7541"/>
                </a:cubicBezTo>
                <a:cubicBezTo>
                  <a:pt x="18951" y="7598"/>
                  <a:pt x="18801" y="7655"/>
                  <a:pt x="18653" y="7714"/>
                </a:cubicBezTo>
                <a:cubicBezTo>
                  <a:pt x="18563" y="7750"/>
                  <a:pt x="18473" y="7783"/>
                  <a:pt x="18380" y="7813"/>
                </a:cubicBezTo>
              </a:path>
              <a:path w="4590" h="4168">
                <a:moveTo>
                  <a:pt x="18132" y="7938"/>
                </a:moveTo>
                <a:lnTo>
                  <a:pt x="18132" y="7938"/>
                </a:lnTo>
              </a:path>
              <a:path w="4590" h="4168">
                <a:moveTo>
                  <a:pt x="17512" y="8756"/>
                </a:moveTo>
                <a:cubicBezTo>
                  <a:pt x="17544" y="8743"/>
                  <a:pt x="17579" y="8718"/>
                  <a:pt x="17611" y="8706"/>
                </a:cubicBezTo>
                <a:cubicBezTo>
                  <a:pt x="17686" y="8679"/>
                  <a:pt x="17757" y="8657"/>
                  <a:pt x="17835" y="8632"/>
                </a:cubicBezTo>
                <a:cubicBezTo>
                  <a:pt x="17927" y="8602"/>
                  <a:pt x="18015" y="8564"/>
                  <a:pt x="18107" y="8533"/>
                </a:cubicBezTo>
                <a:cubicBezTo>
                  <a:pt x="18283" y="8474"/>
                  <a:pt x="18450" y="8449"/>
                  <a:pt x="18628" y="8409"/>
                </a:cubicBezTo>
                <a:cubicBezTo>
                  <a:pt x="18743" y="8383"/>
                  <a:pt x="18840" y="8370"/>
                  <a:pt x="18951" y="8334"/>
                </a:cubicBezTo>
                <a:cubicBezTo>
                  <a:pt x="19066" y="8297"/>
                  <a:pt x="19182" y="8308"/>
                  <a:pt x="19298" y="8285"/>
                </a:cubicBezTo>
                <a:cubicBezTo>
                  <a:pt x="19392" y="8266"/>
                  <a:pt x="19479" y="8231"/>
                  <a:pt x="19571" y="8210"/>
                </a:cubicBezTo>
                <a:cubicBezTo>
                  <a:pt x="19673" y="8186"/>
                  <a:pt x="19791" y="8185"/>
                  <a:pt x="19893" y="8161"/>
                </a:cubicBezTo>
                <a:cubicBezTo>
                  <a:pt x="19987" y="8139"/>
                  <a:pt x="20073" y="8128"/>
                  <a:pt x="20166" y="8111"/>
                </a:cubicBezTo>
                <a:cubicBezTo>
                  <a:pt x="20264" y="8093"/>
                  <a:pt x="20365" y="8070"/>
                  <a:pt x="20464" y="8037"/>
                </a:cubicBezTo>
                <a:cubicBezTo>
                  <a:pt x="20538" y="8012"/>
                  <a:pt x="20612" y="7995"/>
                  <a:pt x="20687" y="7987"/>
                </a:cubicBezTo>
                <a:cubicBezTo>
                  <a:pt x="20771" y="7978"/>
                  <a:pt x="20829" y="7961"/>
                  <a:pt x="20910" y="7938"/>
                </a:cubicBezTo>
                <a:cubicBezTo>
                  <a:pt x="20967" y="7922"/>
                  <a:pt x="21026" y="7904"/>
                  <a:pt x="21084" y="7888"/>
                </a:cubicBezTo>
                <a:cubicBezTo>
                  <a:pt x="21146" y="7871"/>
                  <a:pt x="21219" y="7850"/>
                  <a:pt x="21282" y="7838"/>
                </a:cubicBezTo>
                <a:cubicBezTo>
                  <a:pt x="21374" y="7820"/>
                  <a:pt x="21463" y="7817"/>
                  <a:pt x="21555" y="7789"/>
                </a:cubicBezTo>
                <a:cubicBezTo>
                  <a:pt x="21600" y="7789"/>
                  <a:pt x="21613" y="7792"/>
                  <a:pt x="21630" y="7764"/>
                </a:cubicBezTo>
              </a:path>
              <a:path w="4590" h="4168">
                <a:moveTo>
                  <a:pt x="20241" y="8756"/>
                </a:moveTo>
                <a:cubicBezTo>
                  <a:pt x="20190" y="8762"/>
                  <a:pt x="20170" y="8778"/>
                  <a:pt x="20117" y="8781"/>
                </a:cubicBezTo>
                <a:cubicBezTo>
                  <a:pt x="20046" y="8785"/>
                  <a:pt x="19984" y="8797"/>
                  <a:pt x="19918" y="8806"/>
                </a:cubicBezTo>
                <a:cubicBezTo>
                  <a:pt x="19817" y="8819"/>
                  <a:pt x="19720" y="8826"/>
                  <a:pt x="19621" y="8855"/>
                </a:cubicBezTo>
                <a:cubicBezTo>
                  <a:pt x="19519" y="8885"/>
                  <a:pt x="19423" y="8901"/>
                  <a:pt x="19323" y="8930"/>
                </a:cubicBezTo>
                <a:cubicBezTo>
                  <a:pt x="19225" y="8958"/>
                  <a:pt x="19101" y="8991"/>
                  <a:pt x="19000" y="9004"/>
                </a:cubicBezTo>
                <a:cubicBezTo>
                  <a:pt x="18865" y="9021"/>
                  <a:pt x="18737" y="9061"/>
                  <a:pt x="18604" y="9079"/>
                </a:cubicBezTo>
                <a:cubicBezTo>
                  <a:pt x="18516" y="9091"/>
                  <a:pt x="18418" y="9094"/>
                  <a:pt x="18331" y="9103"/>
                </a:cubicBezTo>
                <a:cubicBezTo>
                  <a:pt x="18229" y="9114"/>
                  <a:pt x="18157" y="9159"/>
                  <a:pt x="18058" y="9178"/>
                </a:cubicBezTo>
                <a:cubicBezTo>
                  <a:pt x="18041" y="9178"/>
                  <a:pt x="18025" y="9178"/>
                  <a:pt x="18008" y="9178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13320" y="3419640"/>
            <a:ext cx="47340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17711" y="9550"/>
                </a:moveTo>
                <a:cubicBezTo>
                  <a:pt x="17703" y="9553"/>
                  <a:pt x="17641" y="9591"/>
                  <a:pt x="17636" y="9599"/>
                </a:cubicBezTo>
                <a:cubicBezTo>
                  <a:pt x="17624" y="9617"/>
                  <a:pt x="17595" y="9676"/>
                  <a:pt x="17587" y="9699"/>
                </a:cubicBezTo>
                <a:cubicBezTo>
                  <a:pt x="17568" y="9758"/>
                  <a:pt x="17562" y="9807"/>
                  <a:pt x="17562" y="9872"/>
                </a:cubicBezTo>
                <a:cubicBezTo>
                  <a:pt x="17562" y="9944"/>
                  <a:pt x="17510" y="10021"/>
                  <a:pt x="17537" y="10096"/>
                </a:cubicBezTo>
                <a:cubicBezTo>
                  <a:pt x="17555" y="10146"/>
                  <a:pt x="17619" y="10167"/>
                  <a:pt x="17661" y="10170"/>
                </a:cubicBezTo>
                <a:cubicBezTo>
                  <a:pt x="17726" y="10175"/>
                  <a:pt x="17741" y="10163"/>
                  <a:pt x="17785" y="10120"/>
                </a:cubicBezTo>
                <a:cubicBezTo>
                  <a:pt x="17822" y="10084"/>
                  <a:pt x="17810" y="10047"/>
                  <a:pt x="17810" y="9996"/>
                </a:cubicBezTo>
                <a:cubicBezTo>
                  <a:pt x="17810" y="9949"/>
                  <a:pt x="17752" y="9932"/>
                  <a:pt x="17711" y="9922"/>
                </a:cubicBezTo>
                <a:cubicBezTo>
                  <a:pt x="17686" y="9922"/>
                  <a:pt x="17678" y="9922"/>
                  <a:pt x="17661" y="9922"/>
                </a:cubicBezTo>
              </a:path>
              <a:path w="1316" h="671">
                <a:moveTo>
                  <a:pt x="18107" y="9723"/>
                </a:moveTo>
                <a:cubicBezTo>
                  <a:pt x="18083" y="9723"/>
                  <a:pt x="18074" y="9723"/>
                  <a:pt x="18058" y="9723"/>
                </a:cubicBezTo>
                <a:cubicBezTo>
                  <a:pt x="18058" y="9765"/>
                  <a:pt x="18073" y="9818"/>
                  <a:pt x="18107" y="9847"/>
                </a:cubicBezTo>
                <a:cubicBezTo>
                  <a:pt x="18164" y="9896"/>
                  <a:pt x="18185" y="9909"/>
                  <a:pt x="18231" y="9971"/>
                </a:cubicBezTo>
                <a:cubicBezTo>
                  <a:pt x="18253" y="10001"/>
                  <a:pt x="18277" y="10054"/>
                  <a:pt x="18256" y="10096"/>
                </a:cubicBezTo>
                <a:cubicBezTo>
                  <a:pt x="18229" y="10149"/>
                  <a:pt x="18222" y="10165"/>
                  <a:pt x="18157" y="10170"/>
                </a:cubicBezTo>
                <a:cubicBezTo>
                  <a:pt x="18130" y="10172"/>
                  <a:pt x="18055" y="10133"/>
                  <a:pt x="18033" y="10120"/>
                </a:cubicBezTo>
                <a:cubicBezTo>
                  <a:pt x="18025" y="10112"/>
                  <a:pt x="18016" y="10104"/>
                  <a:pt x="18008" y="10096"/>
                </a:cubicBezTo>
              </a:path>
              <a:path w="1316" h="671">
                <a:moveTo>
                  <a:pt x="18455" y="9674"/>
                </a:moveTo>
                <a:cubicBezTo>
                  <a:pt x="18372" y="9674"/>
                  <a:pt x="18308" y="9662"/>
                  <a:pt x="18231" y="9649"/>
                </a:cubicBezTo>
                <a:cubicBezTo>
                  <a:pt x="18215" y="9649"/>
                  <a:pt x="18198" y="9649"/>
                  <a:pt x="18182" y="9649"/>
                </a:cubicBezTo>
              </a:path>
              <a:path w="1316" h="671">
                <a:moveTo>
                  <a:pt x="18752" y="9575"/>
                </a:moveTo>
                <a:cubicBezTo>
                  <a:pt x="18725" y="9566"/>
                  <a:pt x="18706" y="9523"/>
                  <a:pt x="18752" y="9500"/>
                </a:cubicBezTo>
                <a:cubicBezTo>
                  <a:pt x="18787" y="9482"/>
                  <a:pt x="18839" y="9520"/>
                  <a:pt x="18852" y="9550"/>
                </a:cubicBezTo>
                <a:cubicBezTo>
                  <a:pt x="18869" y="9587"/>
                  <a:pt x="18846" y="9661"/>
                  <a:pt x="18802" y="9674"/>
                </a:cubicBezTo>
                <a:cubicBezTo>
                  <a:pt x="18744" y="9691"/>
                  <a:pt x="18714" y="9635"/>
                  <a:pt x="18678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05760" y="3581280"/>
            <a:ext cx="608040" cy="177840"/>
          </a:xfrm>
          <a:custGeom>
            <a:avLst/>
            <a:gdLst/>
            <a:ahLst/>
            <a:rect l="l" t="t" r="r" b="b"/>
            <a:pathLst>
              <a:path w="1688" h="497">
                <a:moveTo>
                  <a:pt x="20017" y="9947"/>
                </a:moveTo>
                <a:cubicBezTo>
                  <a:pt x="20017" y="10089"/>
                  <a:pt x="19972" y="10326"/>
                  <a:pt x="20042" y="10443"/>
                </a:cubicBezTo>
              </a:path>
              <a:path w="1688" h="497">
                <a:moveTo>
                  <a:pt x="20389" y="10170"/>
                </a:moveTo>
                <a:cubicBezTo>
                  <a:pt x="20389" y="10110"/>
                  <a:pt x="20374" y="10041"/>
                  <a:pt x="20414" y="9996"/>
                </a:cubicBezTo>
                <a:cubicBezTo>
                  <a:pt x="20432" y="9975"/>
                  <a:pt x="20483" y="9954"/>
                  <a:pt x="20513" y="9971"/>
                </a:cubicBezTo>
                <a:cubicBezTo>
                  <a:pt x="20578" y="10007"/>
                  <a:pt x="20598" y="9995"/>
                  <a:pt x="20638" y="10071"/>
                </a:cubicBezTo>
                <a:cubicBezTo>
                  <a:pt x="20671" y="10134"/>
                  <a:pt x="20680" y="10249"/>
                  <a:pt x="20662" y="10319"/>
                </a:cubicBezTo>
                <a:cubicBezTo>
                  <a:pt x="20646" y="10380"/>
                  <a:pt x="20600" y="10411"/>
                  <a:pt x="20538" y="10393"/>
                </a:cubicBezTo>
                <a:cubicBezTo>
                  <a:pt x="20471" y="10373"/>
                  <a:pt x="20433" y="10306"/>
                  <a:pt x="20414" y="10244"/>
                </a:cubicBezTo>
                <a:cubicBezTo>
                  <a:pt x="20399" y="10196"/>
                  <a:pt x="20413" y="10154"/>
                  <a:pt x="20439" y="10120"/>
                </a:cubicBezTo>
              </a:path>
              <a:path w="1688" h="497">
                <a:moveTo>
                  <a:pt x="21010" y="10170"/>
                </a:moveTo>
                <a:cubicBezTo>
                  <a:pt x="21046" y="10142"/>
                  <a:pt x="21048" y="10153"/>
                  <a:pt x="21059" y="10120"/>
                </a:cubicBezTo>
                <a:cubicBezTo>
                  <a:pt x="21026" y="10120"/>
                  <a:pt x="20955" y="10109"/>
                  <a:pt x="20935" y="10145"/>
                </a:cubicBezTo>
                <a:cubicBezTo>
                  <a:pt x="20919" y="10175"/>
                  <a:pt x="20897" y="10282"/>
                  <a:pt x="20910" y="10319"/>
                </a:cubicBezTo>
                <a:cubicBezTo>
                  <a:pt x="20931" y="10381"/>
                  <a:pt x="20953" y="10393"/>
                  <a:pt x="21010" y="10393"/>
                </a:cubicBezTo>
                <a:cubicBezTo>
                  <a:pt x="21042" y="10393"/>
                  <a:pt x="21108" y="10339"/>
                  <a:pt x="21134" y="10319"/>
                </a:cubicBezTo>
                <a:cubicBezTo>
                  <a:pt x="21142" y="10311"/>
                  <a:pt x="21150" y="10302"/>
                  <a:pt x="21158" y="10294"/>
                </a:cubicBezTo>
              </a:path>
              <a:path w="1688" h="497">
                <a:moveTo>
                  <a:pt x="21233" y="10220"/>
                </a:moveTo>
                <a:cubicBezTo>
                  <a:pt x="21278" y="10220"/>
                  <a:pt x="21301" y="10218"/>
                  <a:pt x="21307" y="10269"/>
                </a:cubicBezTo>
                <a:cubicBezTo>
                  <a:pt x="21313" y="10319"/>
                  <a:pt x="21303" y="10330"/>
                  <a:pt x="21357" y="10344"/>
                </a:cubicBezTo>
                <a:cubicBezTo>
                  <a:pt x="21357" y="10298"/>
                  <a:pt x="21359" y="10255"/>
                  <a:pt x="21382" y="10220"/>
                </a:cubicBezTo>
                <a:cubicBezTo>
                  <a:pt x="21424" y="10156"/>
                  <a:pt x="21438" y="10218"/>
                  <a:pt x="21456" y="10244"/>
                </a:cubicBezTo>
                <a:cubicBezTo>
                  <a:pt x="21479" y="10267"/>
                  <a:pt x="21483" y="10275"/>
                  <a:pt x="21506" y="10269"/>
                </a:cubicBezTo>
                <a:cubicBezTo>
                  <a:pt x="21515" y="10232"/>
                  <a:pt x="21532" y="10180"/>
                  <a:pt x="21555" y="10145"/>
                </a:cubicBezTo>
                <a:cubicBezTo>
                  <a:pt x="21576" y="10113"/>
                  <a:pt x="21598" y="10104"/>
                  <a:pt x="21630" y="10096"/>
                </a:cubicBezTo>
                <a:cubicBezTo>
                  <a:pt x="21651" y="10147"/>
                  <a:pt x="21692" y="10222"/>
                  <a:pt x="21704" y="10269"/>
                </a:cubicBezTo>
                <a:cubicBezTo>
                  <a:pt x="21704" y="10286"/>
                  <a:pt x="21704" y="10302"/>
                  <a:pt x="21704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84200" y="3768840"/>
            <a:ext cx="465120" cy="295200"/>
          </a:xfrm>
          <a:custGeom>
            <a:avLst/>
            <a:gdLst/>
            <a:ahLst/>
            <a:rect l="l" t="t" r="r" b="b"/>
            <a:pathLst>
              <a:path w="1291" h="819">
                <a:moveTo>
                  <a:pt x="4118" y="10864"/>
                </a:moveTo>
                <a:cubicBezTo>
                  <a:pt x="4173" y="10864"/>
                  <a:pt x="4152" y="10845"/>
                  <a:pt x="4192" y="10840"/>
                </a:cubicBezTo>
                <a:cubicBezTo>
                  <a:pt x="4217" y="10840"/>
                  <a:pt x="4225" y="10840"/>
                  <a:pt x="4217" y="10815"/>
                </a:cubicBezTo>
                <a:cubicBezTo>
                  <a:pt x="4208" y="10787"/>
                  <a:pt x="4183" y="10768"/>
                  <a:pt x="4142" y="10765"/>
                </a:cubicBezTo>
                <a:cubicBezTo>
                  <a:pt x="4055" y="10759"/>
                  <a:pt x="4022" y="10791"/>
                  <a:pt x="3944" y="10815"/>
                </a:cubicBezTo>
                <a:cubicBezTo>
                  <a:pt x="3879" y="10835"/>
                  <a:pt x="3864" y="10851"/>
                  <a:pt x="3845" y="10914"/>
                </a:cubicBezTo>
                <a:cubicBezTo>
                  <a:pt x="3835" y="10946"/>
                  <a:pt x="3837" y="11021"/>
                  <a:pt x="3870" y="11038"/>
                </a:cubicBezTo>
                <a:cubicBezTo>
                  <a:pt x="3915" y="11061"/>
                  <a:pt x="3973" y="11048"/>
                  <a:pt x="4018" y="11063"/>
                </a:cubicBezTo>
                <a:cubicBezTo>
                  <a:pt x="4068" y="11080"/>
                  <a:pt x="4148" y="11092"/>
                  <a:pt x="4192" y="11112"/>
                </a:cubicBezTo>
                <a:cubicBezTo>
                  <a:pt x="4226" y="11128"/>
                  <a:pt x="4262" y="11179"/>
                  <a:pt x="4266" y="11212"/>
                </a:cubicBezTo>
                <a:cubicBezTo>
                  <a:pt x="4266" y="11220"/>
                  <a:pt x="4266" y="11229"/>
                  <a:pt x="4266" y="11237"/>
                </a:cubicBezTo>
                <a:cubicBezTo>
                  <a:pt x="4213" y="11268"/>
                  <a:pt x="4171" y="11239"/>
                  <a:pt x="4118" y="11261"/>
                </a:cubicBezTo>
                <a:cubicBezTo>
                  <a:pt x="4079" y="11278"/>
                  <a:pt x="4090" y="11286"/>
                  <a:pt x="4043" y="11286"/>
                </a:cubicBezTo>
                <a:cubicBezTo>
                  <a:pt x="4043" y="11220"/>
                  <a:pt x="4039" y="11173"/>
                  <a:pt x="4068" y="11112"/>
                </a:cubicBezTo>
                <a:cubicBezTo>
                  <a:pt x="4095" y="11055"/>
                  <a:pt x="4145" y="10994"/>
                  <a:pt x="4167" y="10939"/>
                </a:cubicBezTo>
                <a:cubicBezTo>
                  <a:pt x="4182" y="10901"/>
                  <a:pt x="4179" y="10928"/>
                  <a:pt x="4192" y="10889"/>
                </a:cubicBezTo>
              </a:path>
              <a:path w="1291" h="819">
                <a:moveTo>
                  <a:pt x="4539" y="10765"/>
                </a:moveTo>
                <a:cubicBezTo>
                  <a:pt x="4539" y="10714"/>
                  <a:pt x="4520" y="10797"/>
                  <a:pt x="4514" y="10815"/>
                </a:cubicBezTo>
                <a:cubicBezTo>
                  <a:pt x="4506" y="10839"/>
                  <a:pt x="4474" y="10884"/>
                  <a:pt x="4490" y="10914"/>
                </a:cubicBezTo>
                <a:cubicBezTo>
                  <a:pt x="4510" y="10952"/>
                  <a:pt x="4554" y="10939"/>
                  <a:pt x="4589" y="10939"/>
                </a:cubicBezTo>
                <a:cubicBezTo>
                  <a:pt x="4663" y="10939"/>
                  <a:pt x="4686" y="10935"/>
                  <a:pt x="4738" y="10988"/>
                </a:cubicBezTo>
                <a:cubicBezTo>
                  <a:pt x="4783" y="11034"/>
                  <a:pt x="4787" y="11047"/>
                  <a:pt x="4787" y="11112"/>
                </a:cubicBezTo>
                <a:cubicBezTo>
                  <a:pt x="4787" y="11176"/>
                  <a:pt x="4772" y="11180"/>
                  <a:pt x="4713" y="11212"/>
                </a:cubicBezTo>
                <a:cubicBezTo>
                  <a:pt x="4689" y="11225"/>
                  <a:pt x="4622" y="11255"/>
                  <a:pt x="4589" y="11237"/>
                </a:cubicBezTo>
                <a:cubicBezTo>
                  <a:pt x="4557" y="11219"/>
                  <a:pt x="4546" y="11192"/>
                  <a:pt x="4539" y="11162"/>
                </a:cubicBezTo>
              </a:path>
              <a:path w="1291" h="819">
                <a:moveTo>
                  <a:pt x="4762" y="10666"/>
                </a:moveTo>
                <a:cubicBezTo>
                  <a:pt x="4762" y="10658"/>
                  <a:pt x="4762" y="10649"/>
                  <a:pt x="4762" y="10641"/>
                </a:cubicBezTo>
                <a:cubicBezTo>
                  <a:pt x="4749" y="10694"/>
                  <a:pt x="4726" y="10683"/>
                  <a:pt x="4688" y="10716"/>
                </a:cubicBezTo>
                <a:cubicBezTo>
                  <a:pt x="4654" y="10746"/>
                  <a:pt x="4609" y="10756"/>
                  <a:pt x="4564" y="10765"/>
                </a:cubicBezTo>
              </a:path>
              <a:path w="1291" h="819">
                <a:moveTo>
                  <a:pt x="4986" y="10517"/>
                </a:moveTo>
                <a:cubicBezTo>
                  <a:pt x="5005" y="10492"/>
                  <a:pt x="5017" y="10445"/>
                  <a:pt x="5060" y="10468"/>
                </a:cubicBezTo>
                <a:cubicBezTo>
                  <a:pt x="5106" y="10492"/>
                  <a:pt x="5120" y="10518"/>
                  <a:pt x="5135" y="10567"/>
                </a:cubicBezTo>
                <a:cubicBezTo>
                  <a:pt x="5150" y="10616"/>
                  <a:pt x="5141" y="10652"/>
                  <a:pt x="5110" y="10666"/>
                </a:cubicBezTo>
                <a:cubicBezTo>
                  <a:pt x="5047" y="10695"/>
                  <a:pt x="5039" y="10704"/>
                  <a:pt x="5011" y="10666"/>
                </a:cubicBezTo>
                <a:cubicBezTo>
                  <a:pt x="5003" y="10658"/>
                  <a:pt x="4994" y="10649"/>
                  <a:pt x="4986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11240" y="492912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5308" y="14536"/>
                </a:moveTo>
                <a:cubicBezTo>
                  <a:pt x="5308" y="14577"/>
                  <a:pt x="5308" y="14619"/>
                  <a:pt x="5308" y="14660"/>
                </a:cubicBezTo>
                <a:cubicBezTo>
                  <a:pt x="5353" y="14649"/>
                  <a:pt x="5361" y="14624"/>
                  <a:pt x="5383" y="14585"/>
                </a:cubicBezTo>
                <a:cubicBezTo>
                  <a:pt x="5441" y="14483"/>
                  <a:pt x="5481" y="14369"/>
                  <a:pt x="5531" y="14263"/>
                </a:cubicBezTo>
                <a:cubicBezTo>
                  <a:pt x="5597" y="14123"/>
                  <a:pt x="5658" y="13987"/>
                  <a:pt x="5705" y="13841"/>
                </a:cubicBezTo>
                <a:cubicBezTo>
                  <a:pt x="5722" y="13790"/>
                  <a:pt x="5745" y="13743"/>
                  <a:pt x="5755" y="13692"/>
                </a:cubicBezTo>
                <a:cubicBezTo>
                  <a:pt x="5686" y="13709"/>
                  <a:pt x="5613" y="13831"/>
                  <a:pt x="5581" y="13891"/>
                </a:cubicBezTo>
                <a:cubicBezTo>
                  <a:pt x="5507" y="14033"/>
                  <a:pt x="5466" y="14252"/>
                  <a:pt x="5482" y="14412"/>
                </a:cubicBezTo>
                <a:cubicBezTo>
                  <a:pt x="5494" y="14531"/>
                  <a:pt x="5554" y="14660"/>
                  <a:pt x="5680" y="14684"/>
                </a:cubicBezTo>
                <a:cubicBezTo>
                  <a:pt x="5782" y="14703"/>
                  <a:pt x="5860" y="14649"/>
                  <a:pt x="5928" y="14585"/>
                </a:cubicBezTo>
                <a:cubicBezTo>
                  <a:pt x="5936" y="14577"/>
                  <a:pt x="5945" y="14568"/>
                  <a:pt x="5953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5099040"/>
            <a:ext cx="98280" cy="889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6499" y="14213"/>
                </a:moveTo>
                <a:cubicBezTo>
                  <a:pt x="6524" y="14188"/>
                  <a:pt x="6532" y="14180"/>
                  <a:pt x="6548" y="14163"/>
                </a:cubicBezTo>
                <a:cubicBezTo>
                  <a:pt x="6488" y="14163"/>
                  <a:pt x="6497" y="14191"/>
                  <a:pt x="6449" y="14213"/>
                </a:cubicBezTo>
                <a:cubicBezTo>
                  <a:pt x="6412" y="14229"/>
                  <a:pt x="6385" y="14237"/>
                  <a:pt x="6350" y="14263"/>
                </a:cubicBezTo>
              </a:path>
              <a:path w="274" h="250">
                <a:moveTo>
                  <a:pt x="6524" y="14312"/>
                </a:moveTo>
                <a:cubicBezTo>
                  <a:pt x="6572" y="14319"/>
                  <a:pt x="6582" y="14327"/>
                  <a:pt x="6623" y="14337"/>
                </a:cubicBezTo>
                <a:cubicBezTo>
                  <a:pt x="6579" y="14370"/>
                  <a:pt x="6545" y="14364"/>
                  <a:pt x="6499" y="14387"/>
                </a:cubicBezTo>
                <a:cubicBezTo>
                  <a:pt x="6491" y="14395"/>
                  <a:pt x="6482" y="14404"/>
                  <a:pt x="6474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51120" y="5153040"/>
            <a:ext cx="98280" cy="1602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7714" y="14560"/>
                </a:moveTo>
                <a:cubicBezTo>
                  <a:pt x="7714" y="14625"/>
                  <a:pt x="7732" y="14730"/>
                  <a:pt x="7689" y="14759"/>
                </a:cubicBezTo>
                <a:cubicBezTo>
                  <a:pt x="7678" y="14703"/>
                  <a:pt x="7677" y="14641"/>
                  <a:pt x="7665" y="14585"/>
                </a:cubicBezTo>
                <a:cubicBezTo>
                  <a:pt x="7647" y="14504"/>
                  <a:pt x="7656" y="14461"/>
                  <a:pt x="7714" y="14387"/>
                </a:cubicBezTo>
                <a:cubicBezTo>
                  <a:pt x="7767" y="14319"/>
                  <a:pt x="7810" y="14312"/>
                  <a:pt x="7888" y="14312"/>
                </a:cubicBezTo>
                <a:cubicBezTo>
                  <a:pt x="7896" y="14312"/>
                  <a:pt x="7905" y="14312"/>
                  <a:pt x="7913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54240" y="5045040"/>
            <a:ext cx="1526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8731" y="14089"/>
                </a:moveTo>
                <a:cubicBezTo>
                  <a:pt x="8723" y="14097"/>
                  <a:pt x="8714" y="14106"/>
                  <a:pt x="8706" y="14114"/>
                </a:cubicBezTo>
                <a:cubicBezTo>
                  <a:pt x="8706" y="14073"/>
                  <a:pt x="8689" y="14020"/>
                  <a:pt x="8731" y="14015"/>
                </a:cubicBezTo>
                <a:cubicBezTo>
                  <a:pt x="8801" y="14007"/>
                  <a:pt x="8802" y="14059"/>
                  <a:pt x="8830" y="14114"/>
                </a:cubicBezTo>
                <a:cubicBezTo>
                  <a:pt x="8865" y="14184"/>
                  <a:pt x="8872" y="14268"/>
                  <a:pt x="8830" y="14337"/>
                </a:cubicBezTo>
                <a:cubicBezTo>
                  <a:pt x="8803" y="14381"/>
                  <a:pt x="8730" y="14401"/>
                  <a:pt x="8682" y="14387"/>
                </a:cubicBezTo>
                <a:cubicBezTo>
                  <a:pt x="8609" y="14365"/>
                  <a:pt x="8579" y="14289"/>
                  <a:pt x="8558" y="14238"/>
                </a:cubicBezTo>
                <a:cubicBezTo>
                  <a:pt x="8540" y="14194"/>
                  <a:pt x="8516" y="14124"/>
                  <a:pt x="8558" y="14089"/>
                </a:cubicBezTo>
                <a:cubicBezTo>
                  <a:pt x="8612" y="14044"/>
                  <a:pt x="8667" y="14018"/>
                  <a:pt x="8731" y="14064"/>
                </a:cubicBezTo>
                <a:cubicBezTo>
                  <a:pt x="8838" y="14142"/>
                  <a:pt x="8849" y="14240"/>
                  <a:pt x="8880" y="14362"/>
                </a:cubicBezTo>
                <a:cubicBezTo>
                  <a:pt x="8914" y="14495"/>
                  <a:pt x="8916" y="14593"/>
                  <a:pt x="8830" y="14709"/>
                </a:cubicBezTo>
                <a:cubicBezTo>
                  <a:pt x="8778" y="14779"/>
                  <a:pt x="8654" y="14784"/>
                  <a:pt x="8582" y="14734"/>
                </a:cubicBezTo>
                <a:cubicBezTo>
                  <a:pt x="8470" y="14656"/>
                  <a:pt x="8483" y="14556"/>
                  <a:pt x="8483" y="14436"/>
                </a:cubicBezTo>
                <a:cubicBezTo>
                  <a:pt x="8483" y="14411"/>
                  <a:pt x="8483" y="14387"/>
                  <a:pt x="8483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20920" y="5545080"/>
            <a:ext cx="108000" cy="637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6672" y="15404"/>
                </a:moveTo>
                <a:cubicBezTo>
                  <a:pt x="6619" y="15404"/>
                  <a:pt x="6592" y="15406"/>
                  <a:pt x="6548" y="15429"/>
                </a:cubicBezTo>
                <a:cubicBezTo>
                  <a:pt x="6500" y="15454"/>
                  <a:pt x="6487" y="15449"/>
                  <a:pt x="6449" y="15478"/>
                </a:cubicBezTo>
              </a:path>
              <a:path w="299" h="174">
                <a:moveTo>
                  <a:pt x="6672" y="15528"/>
                </a:moveTo>
                <a:cubicBezTo>
                  <a:pt x="6714" y="15528"/>
                  <a:pt x="6722" y="15528"/>
                  <a:pt x="6747" y="15528"/>
                </a:cubicBezTo>
                <a:cubicBezTo>
                  <a:pt x="6730" y="15595"/>
                  <a:pt x="6687" y="15577"/>
                  <a:pt x="6623" y="15577"/>
                </a:cubicBezTo>
                <a:cubicBezTo>
                  <a:pt x="6615" y="15577"/>
                  <a:pt x="6606" y="15577"/>
                  <a:pt x="6598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95760" y="5456160"/>
            <a:ext cx="1365120" cy="482760"/>
          </a:xfrm>
          <a:custGeom>
            <a:avLst/>
            <a:gdLst/>
            <a:ahLst/>
            <a:rect l="l" t="t" r="r" b="b"/>
            <a:pathLst>
              <a:path w="3796" h="1340">
                <a:moveTo>
                  <a:pt x="7938" y="15205"/>
                </a:moveTo>
                <a:cubicBezTo>
                  <a:pt x="7960" y="15183"/>
                  <a:pt x="7968" y="15178"/>
                  <a:pt x="7962" y="15156"/>
                </a:cubicBezTo>
                <a:cubicBezTo>
                  <a:pt x="7910" y="15156"/>
                  <a:pt x="7901" y="15168"/>
                  <a:pt x="7863" y="15205"/>
                </a:cubicBezTo>
                <a:cubicBezTo>
                  <a:pt x="7837" y="15231"/>
                  <a:pt x="7779" y="15271"/>
                  <a:pt x="7764" y="15304"/>
                </a:cubicBezTo>
                <a:cubicBezTo>
                  <a:pt x="7752" y="15332"/>
                  <a:pt x="7762" y="15390"/>
                  <a:pt x="7789" y="15404"/>
                </a:cubicBezTo>
                <a:cubicBezTo>
                  <a:pt x="7824" y="15422"/>
                  <a:pt x="7876" y="15442"/>
                  <a:pt x="7913" y="15453"/>
                </a:cubicBezTo>
                <a:cubicBezTo>
                  <a:pt x="7962" y="15467"/>
                  <a:pt x="7962" y="15477"/>
                  <a:pt x="7962" y="15528"/>
                </a:cubicBezTo>
                <a:cubicBezTo>
                  <a:pt x="7962" y="15570"/>
                  <a:pt x="7957" y="15587"/>
                  <a:pt x="7913" y="15602"/>
                </a:cubicBezTo>
                <a:cubicBezTo>
                  <a:pt x="7864" y="15618"/>
                  <a:pt x="7828" y="15597"/>
                  <a:pt x="7813" y="15553"/>
                </a:cubicBezTo>
                <a:cubicBezTo>
                  <a:pt x="7799" y="15513"/>
                  <a:pt x="7867" y="15413"/>
                  <a:pt x="7888" y="15379"/>
                </a:cubicBezTo>
                <a:cubicBezTo>
                  <a:pt x="7934" y="15304"/>
                  <a:pt x="7956" y="15218"/>
                  <a:pt x="8037" y="15205"/>
                </a:cubicBezTo>
                <a:cubicBezTo>
                  <a:pt x="8045" y="15205"/>
                  <a:pt x="8054" y="15205"/>
                  <a:pt x="8062" y="15205"/>
                </a:cubicBezTo>
              </a:path>
              <a:path w="3796" h="1340">
                <a:moveTo>
                  <a:pt x="8359" y="15255"/>
                </a:moveTo>
                <a:cubicBezTo>
                  <a:pt x="8367" y="15247"/>
                  <a:pt x="8376" y="15238"/>
                  <a:pt x="8384" y="15230"/>
                </a:cubicBezTo>
                <a:cubicBezTo>
                  <a:pt x="8366" y="15236"/>
                  <a:pt x="8323" y="15273"/>
                  <a:pt x="8310" y="15304"/>
                </a:cubicBezTo>
                <a:cubicBezTo>
                  <a:pt x="8289" y="15351"/>
                  <a:pt x="8310" y="15400"/>
                  <a:pt x="8359" y="15404"/>
                </a:cubicBezTo>
                <a:cubicBezTo>
                  <a:pt x="8431" y="15409"/>
                  <a:pt x="8493" y="15390"/>
                  <a:pt x="8558" y="15429"/>
                </a:cubicBezTo>
                <a:cubicBezTo>
                  <a:pt x="8585" y="15446"/>
                  <a:pt x="8627" y="15492"/>
                  <a:pt x="8607" y="15528"/>
                </a:cubicBezTo>
                <a:cubicBezTo>
                  <a:pt x="8578" y="15581"/>
                  <a:pt x="8504" y="15541"/>
                  <a:pt x="8458" y="15553"/>
                </a:cubicBezTo>
                <a:cubicBezTo>
                  <a:pt x="8418" y="15573"/>
                  <a:pt x="8411" y="15581"/>
                  <a:pt x="8384" y="15577"/>
                </a:cubicBezTo>
              </a:path>
              <a:path w="3796" h="1340">
                <a:moveTo>
                  <a:pt x="8607" y="15180"/>
                </a:moveTo>
                <a:cubicBezTo>
                  <a:pt x="8607" y="15172"/>
                  <a:pt x="8607" y="15164"/>
                  <a:pt x="8607" y="15156"/>
                </a:cubicBezTo>
                <a:cubicBezTo>
                  <a:pt x="8565" y="15156"/>
                  <a:pt x="8521" y="15167"/>
                  <a:pt x="8483" y="15180"/>
                </a:cubicBezTo>
                <a:cubicBezTo>
                  <a:pt x="8443" y="15200"/>
                  <a:pt x="8437" y="15209"/>
                  <a:pt x="8409" y="15205"/>
                </a:cubicBezTo>
              </a:path>
              <a:path w="3796" h="1340">
                <a:moveTo>
                  <a:pt x="9128" y="15776"/>
                </a:moveTo>
                <a:cubicBezTo>
                  <a:pt x="9153" y="15776"/>
                  <a:pt x="9161" y="15776"/>
                  <a:pt x="9153" y="15801"/>
                </a:cubicBezTo>
                <a:cubicBezTo>
                  <a:pt x="9056" y="15801"/>
                  <a:pt x="8973" y="15812"/>
                  <a:pt x="8880" y="15825"/>
                </a:cubicBezTo>
                <a:cubicBezTo>
                  <a:pt x="8783" y="15838"/>
                  <a:pt x="8678" y="15833"/>
                  <a:pt x="8582" y="15850"/>
                </a:cubicBezTo>
                <a:cubicBezTo>
                  <a:pt x="8474" y="15869"/>
                  <a:pt x="8368" y="15913"/>
                  <a:pt x="8260" y="15925"/>
                </a:cubicBezTo>
                <a:cubicBezTo>
                  <a:pt x="8177" y="15934"/>
                  <a:pt x="8089" y="15948"/>
                  <a:pt x="8012" y="15974"/>
                </a:cubicBezTo>
                <a:cubicBezTo>
                  <a:pt x="7956" y="15993"/>
                  <a:pt x="7914" y="16034"/>
                  <a:pt x="7863" y="16049"/>
                </a:cubicBezTo>
                <a:cubicBezTo>
                  <a:pt x="7835" y="16049"/>
                  <a:pt x="7824" y="16051"/>
                  <a:pt x="7813" y="16073"/>
                </a:cubicBezTo>
              </a:path>
              <a:path w="3796" h="1340">
                <a:moveTo>
                  <a:pt x="8334" y="16123"/>
                </a:moveTo>
                <a:cubicBezTo>
                  <a:pt x="8293" y="16123"/>
                  <a:pt x="8251" y="16123"/>
                  <a:pt x="8210" y="16123"/>
                </a:cubicBezTo>
                <a:cubicBezTo>
                  <a:pt x="8210" y="16058"/>
                  <a:pt x="8223" y="16078"/>
                  <a:pt x="8285" y="16049"/>
                </a:cubicBezTo>
                <a:cubicBezTo>
                  <a:pt x="8372" y="16008"/>
                  <a:pt x="8412" y="16013"/>
                  <a:pt x="8483" y="16073"/>
                </a:cubicBezTo>
                <a:cubicBezTo>
                  <a:pt x="8518" y="16102"/>
                  <a:pt x="8558" y="16147"/>
                  <a:pt x="8533" y="16197"/>
                </a:cubicBezTo>
                <a:cubicBezTo>
                  <a:pt x="8507" y="16249"/>
                  <a:pt x="8448" y="16263"/>
                  <a:pt x="8434" y="16321"/>
                </a:cubicBezTo>
                <a:cubicBezTo>
                  <a:pt x="8483" y="16351"/>
                  <a:pt x="8534" y="16347"/>
                  <a:pt x="8582" y="16371"/>
                </a:cubicBezTo>
                <a:cubicBezTo>
                  <a:pt x="8614" y="16387"/>
                  <a:pt x="8650" y="16426"/>
                  <a:pt x="8657" y="16446"/>
                </a:cubicBezTo>
                <a:cubicBezTo>
                  <a:pt x="8608" y="16493"/>
                  <a:pt x="8602" y="16495"/>
                  <a:pt x="8533" y="16495"/>
                </a:cubicBezTo>
                <a:cubicBezTo>
                  <a:pt x="8456" y="16495"/>
                  <a:pt x="8405" y="16477"/>
                  <a:pt x="8334" y="16470"/>
                </a:cubicBezTo>
                <a:cubicBezTo>
                  <a:pt x="8306" y="16470"/>
                  <a:pt x="8296" y="16468"/>
                  <a:pt x="8285" y="16446"/>
                </a:cubicBezTo>
              </a:path>
              <a:path w="3796" h="1340">
                <a:moveTo>
                  <a:pt x="8806" y="16049"/>
                </a:moveTo>
                <a:cubicBezTo>
                  <a:pt x="8820" y="15964"/>
                  <a:pt x="8812" y="16030"/>
                  <a:pt x="8830" y="15974"/>
                </a:cubicBezTo>
                <a:cubicBezTo>
                  <a:pt x="8808" y="15982"/>
                  <a:pt x="8753" y="16042"/>
                  <a:pt x="8731" y="16073"/>
                </a:cubicBezTo>
                <a:cubicBezTo>
                  <a:pt x="8694" y="16125"/>
                  <a:pt x="8691" y="16258"/>
                  <a:pt x="8706" y="16321"/>
                </a:cubicBezTo>
                <a:cubicBezTo>
                  <a:pt x="8722" y="16390"/>
                  <a:pt x="8797" y="16416"/>
                  <a:pt x="8855" y="16421"/>
                </a:cubicBezTo>
                <a:cubicBezTo>
                  <a:pt x="8908" y="16425"/>
                  <a:pt x="8905" y="16385"/>
                  <a:pt x="8905" y="16346"/>
                </a:cubicBezTo>
                <a:cubicBezTo>
                  <a:pt x="8905" y="16338"/>
                  <a:pt x="8905" y="16329"/>
                  <a:pt x="8905" y="16321"/>
                </a:cubicBezTo>
                <a:cubicBezTo>
                  <a:pt x="8847" y="16321"/>
                  <a:pt x="8789" y="16321"/>
                  <a:pt x="8731" y="16321"/>
                </a:cubicBezTo>
              </a:path>
              <a:path w="3796" h="1340">
                <a:moveTo>
                  <a:pt x="9128" y="16247"/>
                </a:moveTo>
                <a:cubicBezTo>
                  <a:pt x="9080" y="16247"/>
                  <a:pt x="9067" y="16251"/>
                  <a:pt x="9029" y="16222"/>
                </a:cubicBezTo>
                <a:cubicBezTo>
                  <a:pt x="9029" y="16165"/>
                  <a:pt x="9042" y="16144"/>
                  <a:pt x="9103" y="16123"/>
                </a:cubicBezTo>
                <a:cubicBezTo>
                  <a:pt x="9198" y="16091"/>
                  <a:pt x="9201" y="16224"/>
                  <a:pt x="9203" y="16272"/>
                </a:cubicBezTo>
                <a:cubicBezTo>
                  <a:pt x="9206" y="16329"/>
                  <a:pt x="9205" y="16351"/>
                  <a:pt x="9178" y="16396"/>
                </a:cubicBezTo>
                <a:cubicBezTo>
                  <a:pt x="9105" y="16386"/>
                  <a:pt x="9069" y="16365"/>
                  <a:pt x="9029" y="16297"/>
                </a:cubicBezTo>
                <a:cubicBezTo>
                  <a:pt x="9003" y="16253"/>
                  <a:pt x="9004" y="16242"/>
                  <a:pt x="9004" y="16197"/>
                </a:cubicBezTo>
              </a:path>
              <a:path w="3796" h="1340">
                <a:moveTo>
                  <a:pt x="9699" y="15825"/>
                </a:moveTo>
                <a:cubicBezTo>
                  <a:pt x="9699" y="15801"/>
                  <a:pt x="9699" y="15793"/>
                  <a:pt x="9723" y="15801"/>
                </a:cubicBezTo>
                <a:cubicBezTo>
                  <a:pt x="9679" y="15812"/>
                  <a:pt x="9658" y="15841"/>
                  <a:pt x="9624" y="15875"/>
                </a:cubicBezTo>
                <a:cubicBezTo>
                  <a:pt x="9597" y="15902"/>
                  <a:pt x="9539" y="15946"/>
                  <a:pt x="9525" y="15974"/>
                </a:cubicBezTo>
                <a:cubicBezTo>
                  <a:pt x="9525" y="15982"/>
                  <a:pt x="9525" y="15991"/>
                  <a:pt x="9525" y="15999"/>
                </a:cubicBezTo>
              </a:path>
              <a:path w="3796" h="1340">
                <a:moveTo>
                  <a:pt x="9723" y="15999"/>
                </a:moveTo>
                <a:cubicBezTo>
                  <a:pt x="9723" y="15991"/>
                  <a:pt x="9723" y="15982"/>
                  <a:pt x="9723" y="15974"/>
                </a:cubicBezTo>
                <a:cubicBezTo>
                  <a:pt x="9668" y="15960"/>
                  <a:pt x="9629" y="15905"/>
                  <a:pt x="9575" y="15875"/>
                </a:cubicBezTo>
                <a:cubicBezTo>
                  <a:pt x="9525" y="15850"/>
                  <a:pt x="9508" y="15842"/>
                  <a:pt x="9475" y="15825"/>
                </a:cubicBezTo>
              </a:path>
              <a:path w="3796" h="1340">
                <a:moveTo>
                  <a:pt x="10046" y="15677"/>
                </a:moveTo>
                <a:cubicBezTo>
                  <a:pt x="10038" y="15677"/>
                  <a:pt x="10029" y="15677"/>
                  <a:pt x="10021" y="15677"/>
                </a:cubicBezTo>
                <a:cubicBezTo>
                  <a:pt x="10031" y="15648"/>
                  <a:pt x="10077" y="15617"/>
                  <a:pt x="10120" y="15602"/>
                </a:cubicBezTo>
                <a:cubicBezTo>
                  <a:pt x="10194" y="15577"/>
                  <a:pt x="10236" y="15622"/>
                  <a:pt x="10269" y="15677"/>
                </a:cubicBezTo>
                <a:cubicBezTo>
                  <a:pt x="10322" y="15767"/>
                  <a:pt x="10280" y="15860"/>
                  <a:pt x="10244" y="15949"/>
                </a:cubicBezTo>
                <a:cubicBezTo>
                  <a:pt x="10221" y="16007"/>
                  <a:pt x="10168" y="16047"/>
                  <a:pt x="10145" y="16098"/>
                </a:cubicBezTo>
                <a:cubicBezTo>
                  <a:pt x="10145" y="16123"/>
                  <a:pt x="10145" y="16131"/>
                  <a:pt x="10145" y="16148"/>
                </a:cubicBezTo>
                <a:cubicBezTo>
                  <a:pt x="10253" y="16148"/>
                  <a:pt x="10360" y="16148"/>
                  <a:pt x="10468" y="16148"/>
                </a:cubicBezTo>
              </a:path>
              <a:path w="3796" h="1340">
                <a:moveTo>
                  <a:pt x="10592" y="15850"/>
                </a:moveTo>
                <a:cubicBezTo>
                  <a:pt x="10592" y="15834"/>
                  <a:pt x="10592" y="15817"/>
                  <a:pt x="10592" y="15801"/>
                </a:cubicBezTo>
                <a:cubicBezTo>
                  <a:pt x="10592" y="15913"/>
                  <a:pt x="10599" y="16017"/>
                  <a:pt x="10616" y="16123"/>
                </a:cubicBezTo>
                <a:cubicBezTo>
                  <a:pt x="10626" y="16183"/>
                  <a:pt x="10609" y="16183"/>
                  <a:pt x="10666" y="16197"/>
                </a:cubicBezTo>
              </a:path>
              <a:path w="3796" h="1340">
                <a:moveTo>
                  <a:pt x="10815" y="15751"/>
                </a:moveTo>
                <a:cubicBezTo>
                  <a:pt x="10786" y="15693"/>
                  <a:pt x="10774" y="15798"/>
                  <a:pt x="10765" y="15825"/>
                </a:cubicBezTo>
                <a:cubicBezTo>
                  <a:pt x="10744" y="15884"/>
                  <a:pt x="10708" y="15993"/>
                  <a:pt x="10765" y="16049"/>
                </a:cubicBezTo>
                <a:cubicBezTo>
                  <a:pt x="10818" y="16101"/>
                  <a:pt x="10859" y="16101"/>
                  <a:pt x="10914" y="16073"/>
                </a:cubicBezTo>
                <a:cubicBezTo>
                  <a:pt x="10974" y="16042"/>
                  <a:pt x="10954" y="16046"/>
                  <a:pt x="10988" y="15999"/>
                </a:cubicBezTo>
              </a:path>
              <a:path w="3796" h="1340">
                <a:moveTo>
                  <a:pt x="10914" y="15776"/>
                </a:moveTo>
                <a:cubicBezTo>
                  <a:pt x="10891" y="15753"/>
                  <a:pt x="10883" y="15749"/>
                  <a:pt x="10889" y="15726"/>
                </a:cubicBezTo>
                <a:cubicBezTo>
                  <a:pt x="10834" y="15726"/>
                  <a:pt x="10795" y="15748"/>
                  <a:pt x="10740" y="15751"/>
                </a:cubicBezTo>
                <a:cubicBezTo>
                  <a:pt x="10724" y="15751"/>
                  <a:pt x="10707" y="15751"/>
                  <a:pt x="10691" y="15751"/>
                </a:cubicBezTo>
              </a:path>
              <a:path w="3796" h="1340">
                <a:moveTo>
                  <a:pt x="11509" y="15900"/>
                </a:moveTo>
                <a:cubicBezTo>
                  <a:pt x="11509" y="15892"/>
                  <a:pt x="11509" y="15883"/>
                  <a:pt x="11509" y="15875"/>
                </a:cubicBezTo>
                <a:cubicBezTo>
                  <a:pt x="11445" y="15892"/>
                  <a:pt x="11456" y="15934"/>
                  <a:pt x="11410" y="15974"/>
                </a:cubicBezTo>
                <a:cubicBezTo>
                  <a:pt x="11377" y="16002"/>
                  <a:pt x="11343" y="16017"/>
                  <a:pt x="11311" y="16049"/>
                </a:cubicBezTo>
              </a:path>
              <a:path w="3796" h="1340">
                <a:moveTo>
                  <a:pt x="11559" y="16073"/>
                </a:moveTo>
                <a:cubicBezTo>
                  <a:pt x="11543" y="16013"/>
                  <a:pt x="11465" y="15980"/>
                  <a:pt x="11410" y="15949"/>
                </a:cubicBezTo>
                <a:cubicBezTo>
                  <a:pt x="11350" y="15920"/>
                  <a:pt x="11324" y="15905"/>
                  <a:pt x="11286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0160" y="5661000"/>
            <a:ext cx="1778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2154" y="15751"/>
                </a:moveTo>
                <a:cubicBezTo>
                  <a:pt x="12224" y="15681"/>
                  <a:pt x="12108" y="15790"/>
                  <a:pt x="12105" y="15801"/>
                </a:cubicBezTo>
                <a:cubicBezTo>
                  <a:pt x="12089" y="15858"/>
                  <a:pt x="12095" y="15931"/>
                  <a:pt x="12154" y="15949"/>
                </a:cubicBezTo>
                <a:cubicBezTo>
                  <a:pt x="12219" y="15969"/>
                  <a:pt x="12324" y="15970"/>
                  <a:pt x="12378" y="16024"/>
                </a:cubicBezTo>
                <a:cubicBezTo>
                  <a:pt x="12432" y="16079"/>
                  <a:pt x="12431" y="16142"/>
                  <a:pt x="12402" y="16197"/>
                </a:cubicBezTo>
                <a:cubicBezTo>
                  <a:pt x="12359" y="16279"/>
                  <a:pt x="12345" y="16272"/>
                  <a:pt x="12254" y="16272"/>
                </a:cubicBezTo>
                <a:cubicBezTo>
                  <a:pt x="12180" y="16272"/>
                  <a:pt x="12123" y="16261"/>
                  <a:pt x="12055" y="16247"/>
                </a:cubicBezTo>
              </a:path>
              <a:path w="497" h="547">
                <a:moveTo>
                  <a:pt x="12526" y="15825"/>
                </a:moveTo>
                <a:cubicBezTo>
                  <a:pt x="12548" y="15776"/>
                  <a:pt x="12551" y="15774"/>
                  <a:pt x="12551" y="15726"/>
                </a:cubicBezTo>
                <a:cubicBezTo>
                  <a:pt x="12469" y="15726"/>
                  <a:pt x="12407" y="15740"/>
                  <a:pt x="12328" y="15751"/>
                </a:cubicBezTo>
                <a:cubicBezTo>
                  <a:pt x="12311" y="15751"/>
                  <a:pt x="12295" y="15751"/>
                  <a:pt x="12278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94000" y="6126120"/>
            <a:ext cx="792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6772" y="17016"/>
                </a:moveTo>
                <a:cubicBezTo>
                  <a:pt x="6794" y="17039"/>
                  <a:pt x="6799" y="17047"/>
                  <a:pt x="6821" y="17041"/>
                </a:cubicBezTo>
                <a:cubicBezTo>
                  <a:pt x="6776" y="17041"/>
                  <a:pt x="6763" y="17061"/>
                  <a:pt x="6722" y="17066"/>
                </a:cubicBezTo>
                <a:cubicBezTo>
                  <a:pt x="6670" y="17072"/>
                  <a:pt x="6685" y="17078"/>
                  <a:pt x="6648" y="17090"/>
                </a:cubicBezTo>
              </a:path>
              <a:path w="224" h="249">
                <a:moveTo>
                  <a:pt x="6846" y="17214"/>
                </a:moveTo>
                <a:cubicBezTo>
                  <a:pt x="6854" y="17214"/>
                  <a:pt x="6863" y="17214"/>
                  <a:pt x="6871" y="17214"/>
                </a:cubicBezTo>
                <a:cubicBezTo>
                  <a:pt x="6860" y="17246"/>
                  <a:pt x="6837" y="17254"/>
                  <a:pt x="6796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5760" y="6134040"/>
            <a:ext cx="169560" cy="2430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7863" y="17041"/>
                </a:moveTo>
                <a:cubicBezTo>
                  <a:pt x="7830" y="17052"/>
                  <a:pt x="7833" y="17080"/>
                  <a:pt x="7813" y="17090"/>
                </a:cubicBezTo>
                <a:cubicBezTo>
                  <a:pt x="7783" y="17105"/>
                  <a:pt x="7775" y="17106"/>
                  <a:pt x="7764" y="17140"/>
                </a:cubicBezTo>
                <a:cubicBezTo>
                  <a:pt x="7824" y="17128"/>
                  <a:pt x="7878" y="17076"/>
                  <a:pt x="7938" y="17066"/>
                </a:cubicBezTo>
                <a:cubicBezTo>
                  <a:pt x="8021" y="17052"/>
                  <a:pt x="8107" y="17021"/>
                  <a:pt x="8186" y="17066"/>
                </a:cubicBezTo>
                <a:cubicBezTo>
                  <a:pt x="8246" y="17100"/>
                  <a:pt x="8246" y="17208"/>
                  <a:pt x="8235" y="17264"/>
                </a:cubicBezTo>
                <a:cubicBezTo>
                  <a:pt x="8214" y="17370"/>
                  <a:pt x="8133" y="17489"/>
                  <a:pt x="8086" y="17587"/>
                </a:cubicBezTo>
                <a:cubicBezTo>
                  <a:pt x="8065" y="17630"/>
                  <a:pt x="8046" y="17666"/>
                  <a:pt x="8037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81240" y="6143760"/>
            <a:ext cx="687600" cy="277560"/>
          </a:xfrm>
          <a:custGeom>
            <a:avLst/>
            <a:gdLst/>
            <a:ahLst/>
            <a:rect l="l" t="t" r="r" b="b"/>
            <a:pathLst>
              <a:path w="1911" h="770">
                <a:moveTo>
                  <a:pt x="8558" y="17562"/>
                </a:moveTo>
                <a:cubicBezTo>
                  <a:pt x="8558" y="17587"/>
                  <a:pt x="8558" y="17595"/>
                  <a:pt x="8558" y="17611"/>
                </a:cubicBezTo>
              </a:path>
              <a:path w="1911" h="770">
                <a:moveTo>
                  <a:pt x="8806" y="17165"/>
                </a:moveTo>
                <a:cubicBezTo>
                  <a:pt x="8828" y="17142"/>
                  <a:pt x="8833" y="17134"/>
                  <a:pt x="8855" y="17140"/>
                </a:cubicBezTo>
                <a:cubicBezTo>
                  <a:pt x="8855" y="17244"/>
                  <a:pt x="8846" y="17340"/>
                  <a:pt x="8830" y="17438"/>
                </a:cubicBezTo>
                <a:cubicBezTo>
                  <a:pt x="8821" y="17496"/>
                  <a:pt x="8821" y="17568"/>
                  <a:pt x="8855" y="17611"/>
                </a:cubicBezTo>
                <a:cubicBezTo>
                  <a:pt x="8892" y="17656"/>
                  <a:pt x="8960" y="17626"/>
                  <a:pt x="9004" y="17611"/>
                </a:cubicBezTo>
                <a:cubicBezTo>
                  <a:pt x="9055" y="17594"/>
                  <a:pt x="9121" y="17569"/>
                  <a:pt x="9178" y="17587"/>
                </a:cubicBezTo>
                <a:cubicBezTo>
                  <a:pt x="9196" y="17593"/>
                  <a:pt x="9309" y="17611"/>
                  <a:pt x="9252" y="17611"/>
                </a:cubicBezTo>
              </a:path>
              <a:path w="1911" h="770">
                <a:moveTo>
                  <a:pt x="9103" y="17438"/>
                </a:moveTo>
                <a:cubicBezTo>
                  <a:pt x="9058" y="17453"/>
                  <a:pt x="9079" y="17534"/>
                  <a:pt x="9079" y="17587"/>
                </a:cubicBezTo>
                <a:cubicBezTo>
                  <a:pt x="9079" y="17670"/>
                  <a:pt x="9079" y="17752"/>
                  <a:pt x="9079" y="17835"/>
                </a:cubicBezTo>
              </a:path>
              <a:path w="1911" h="770">
                <a:moveTo>
                  <a:pt x="9599" y="17462"/>
                </a:moveTo>
                <a:cubicBezTo>
                  <a:pt x="9632" y="17517"/>
                  <a:pt x="9624" y="17568"/>
                  <a:pt x="9624" y="17636"/>
                </a:cubicBezTo>
                <a:cubicBezTo>
                  <a:pt x="9624" y="17702"/>
                  <a:pt x="9624" y="17769"/>
                  <a:pt x="9624" y="17835"/>
                </a:cubicBezTo>
                <a:cubicBezTo>
                  <a:pt x="9624" y="17761"/>
                  <a:pt x="9622" y="17707"/>
                  <a:pt x="9649" y="17636"/>
                </a:cubicBezTo>
                <a:cubicBezTo>
                  <a:pt x="9670" y="17583"/>
                  <a:pt x="9679" y="17541"/>
                  <a:pt x="9699" y="17487"/>
                </a:cubicBezTo>
                <a:cubicBezTo>
                  <a:pt x="9762" y="17503"/>
                  <a:pt x="9747" y="17552"/>
                  <a:pt x="9773" y="17611"/>
                </a:cubicBezTo>
                <a:cubicBezTo>
                  <a:pt x="9795" y="17661"/>
                  <a:pt x="9798" y="17681"/>
                  <a:pt x="9798" y="17735"/>
                </a:cubicBezTo>
                <a:cubicBezTo>
                  <a:pt x="9829" y="17655"/>
                  <a:pt x="9838" y="17570"/>
                  <a:pt x="9872" y="17487"/>
                </a:cubicBezTo>
                <a:cubicBezTo>
                  <a:pt x="9895" y="17431"/>
                  <a:pt x="9944" y="17401"/>
                  <a:pt x="9996" y="17388"/>
                </a:cubicBezTo>
                <a:cubicBezTo>
                  <a:pt x="10006" y="17464"/>
                  <a:pt x="10034" y="17537"/>
                  <a:pt x="10046" y="17611"/>
                </a:cubicBezTo>
                <a:cubicBezTo>
                  <a:pt x="10046" y="17628"/>
                  <a:pt x="10046" y="17644"/>
                  <a:pt x="10046" y="17661"/>
                </a:cubicBezTo>
              </a:path>
              <a:path w="1911" h="770">
                <a:moveTo>
                  <a:pt x="10195" y="17140"/>
                </a:moveTo>
                <a:cubicBezTo>
                  <a:pt x="10236" y="17140"/>
                  <a:pt x="10322" y="17122"/>
                  <a:pt x="10344" y="17165"/>
                </a:cubicBezTo>
                <a:cubicBezTo>
                  <a:pt x="10373" y="17222"/>
                  <a:pt x="10319" y="17273"/>
                  <a:pt x="10294" y="17314"/>
                </a:cubicBezTo>
                <a:cubicBezTo>
                  <a:pt x="10264" y="17363"/>
                  <a:pt x="10244" y="17405"/>
                  <a:pt x="10244" y="17462"/>
                </a:cubicBezTo>
                <a:cubicBezTo>
                  <a:pt x="10244" y="17470"/>
                  <a:pt x="10244" y="17479"/>
                  <a:pt x="10244" y="17487"/>
                </a:cubicBezTo>
                <a:cubicBezTo>
                  <a:pt x="10297" y="17487"/>
                  <a:pt x="10324" y="17485"/>
                  <a:pt x="10368" y="17462"/>
                </a:cubicBezTo>
                <a:cubicBezTo>
                  <a:pt x="10416" y="17439"/>
                  <a:pt x="10431" y="17431"/>
                  <a:pt x="10468" y="17438"/>
                </a:cubicBezTo>
              </a:path>
              <a:path w="1911" h="770">
                <a:moveTo>
                  <a:pt x="10344" y="17214"/>
                </a:moveTo>
                <a:cubicBezTo>
                  <a:pt x="10297" y="17199"/>
                  <a:pt x="10316" y="17189"/>
                  <a:pt x="10344" y="17239"/>
                </a:cubicBezTo>
                <a:cubicBezTo>
                  <a:pt x="10370" y="17286"/>
                  <a:pt x="10388" y="17361"/>
                  <a:pt x="10393" y="17413"/>
                </a:cubicBezTo>
                <a:cubicBezTo>
                  <a:pt x="10393" y="17421"/>
                  <a:pt x="10393" y="17430"/>
                  <a:pt x="10393" y="17438"/>
                </a:cubicBezTo>
                <a:cubicBezTo>
                  <a:pt x="10393" y="17393"/>
                  <a:pt x="10385" y="17326"/>
                  <a:pt x="10368" y="17289"/>
                </a:cubicBezTo>
                <a:cubicBezTo>
                  <a:pt x="10340" y="17226"/>
                  <a:pt x="10344" y="17187"/>
                  <a:pt x="10344" y="17289"/>
                </a:cubicBezTo>
                <a:cubicBezTo>
                  <a:pt x="10344" y="17298"/>
                  <a:pt x="10345" y="17495"/>
                  <a:pt x="10319" y="17462"/>
                </a:cubicBezTo>
                <a:cubicBezTo>
                  <a:pt x="10307" y="17446"/>
                  <a:pt x="10250" y="17339"/>
                  <a:pt x="10244" y="17314"/>
                </a:cubicBezTo>
                <a:cubicBezTo>
                  <a:pt x="10238" y="17288"/>
                  <a:pt x="10199" y="17172"/>
                  <a:pt x="10244" y="17289"/>
                </a:cubicBezTo>
                <a:cubicBezTo>
                  <a:pt x="10252" y="17350"/>
                  <a:pt x="10281" y="17385"/>
                  <a:pt x="10294" y="17438"/>
                </a:cubicBezTo>
                <a:cubicBezTo>
                  <a:pt x="10281" y="17385"/>
                  <a:pt x="10249" y="17352"/>
                  <a:pt x="10244" y="17289"/>
                </a:cubicBezTo>
                <a:cubicBezTo>
                  <a:pt x="10241" y="17250"/>
                  <a:pt x="10223" y="17210"/>
                  <a:pt x="10244" y="17239"/>
                </a:cubicBezTo>
                <a:cubicBezTo>
                  <a:pt x="10277" y="17285"/>
                  <a:pt x="10289" y="17327"/>
                  <a:pt x="10294" y="17388"/>
                </a:cubicBezTo>
                <a:cubicBezTo>
                  <a:pt x="10298" y="17442"/>
                  <a:pt x="10294" y="17443"/>
                  <a:pt x="10294" y="17388"/>
                </a:cubicBezTo>
                <a:cubicBezTo>
                  <a:pt x="10263" y="17326"/>
                  <a:pt x="10224" y="17263"/>
                  <a:pt x="10244" y="17190"/>
                </a:cubicBezTo>
                <a:cubicBezTo>
                  <a:pt x="10252" y="17161"/>
                  <a:pt x="10296" y="17045"/>
                  <a:pt x="10344" y="17066"/>
                </a:cubicBezTo>
                <a:cubicBezTo>
                  <a:pt x="10398" y="17089"/>
                  <a:pt x="10415" y="17191"/>
                  <a:pt x="10418" y="17239"/>
                </a:cubicBezTo>
                <a:cubicBezTo>
                  <a:pt x="10418" y="17256"/>
                  <a:pt x="10418" y="17272"/>
                  <a:pt x="10418" y="17289"/>
                </a:cubicBezTo>
                <a:cubicBezTo>
                  <a:pt x="10389" y="17377"/>
                  <a:pt x="10377" y="17234"/>
                  <a:pt x="10368" y="17214"/>
                </a:cubicBezTo>
                <a:cubicBezTo>
                  <a:pt x="10344" y="17190"/>
                  <a:pt x="10335" y="17181"/>
                  <a:pt x="10319" y="17165"/>
                </a:cubicBezTo>
                <a:cubicBezTo>
                  <a:pt x="10330" y="17251"/>
                  <a:pt x="10377" y="17326"/>
                  <a:pt x="10393" y="17413"/>
                </a:cubicBezTo>
                <a:cubicBezTo>
                  <a:pt x="10403" y="17468"/>
                  <a:pt x="10444" y="17551"/>
                  <a:pt x="10393" y="17462"/>
                </a:cubicBezTo>
                <a:cubicBezTo>
                  <a:pt x="10366" y="17416"/>
                  <a:pt x="10344" y="17261"/>
                  <a:pt x="10344" y="17314"/>
                </a:cubicBezTo>
                <a:cubicBezTo>
                  <a:pt x="10344" y="17322"/>
                  <a:pt x="10344" y="17330"/>
                  <a:pt x="10344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63960" y="6143760"/>
            <a:ext cx="608040" cy="36648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11286" y="17562"/>
                </a:moveTo>
                <a:cubicBezTo>
                  <a:pt x="11248" y="17524"/>
                  <a:pt x="11237" y="17515"/>
                  <a:pt x="11237" y="17462"/>
                </a:cubicBezTo>
                <a:cubicBezTo>
                  <a:pt x="11237" y="17397"/>
                  <a:pt x="11286" y="17368"/>
                  <a:pt x="11336" y="17338"/>
                </a:cubicBezTo>
                <a:cubicBezTo>
                  <a:pt x="11392" y="17305"/>
                  <a:pt x="11475" y="17255"/>
                  <a:pt x="11534" y="17314"/>
                </a:cubicBezTo>
                <a:cubicBezTo>
                  <a:pt x="11575" y="17355"/>
                  <a:pt x="11578" y="17536"/>
                  <a:pt x="11559" y="17587"/>
                </a:cubicBezTo>
                <a:cubicBezTo>
                  <a:pt x="11529" y="17667"/>
                  <a:pt x="11454" y="17740"/>
                  <a:pt x="11410" y="17810"/>
                </a:cubicBezTo>
                <a:cubicBezTo>
                  <a:pt x="11388" y="17845"/>
                  <a:pt x="11370" y="17873"/>
                  <a:pt x="11361" y="17909"/>
                </a:cubicBezTo>
                <a:cubicBezTo>
                  <a:pt x="11427" y="17909"/>
                  <a:pt x="11470" y="17888"/>
                  <a:pt x="11534" y="17884"/>
                </a:cubicBezTo>
                <a:cubicBezTo>
                  <a:pt x="11601" y="17880"/>
                  <a:pt x="11631" y="17892"/>
                  <a:pt x="11683" y="17909"/>
                </a:cubicBezTo>
                <a:cubicBezTo>
                  <a:pt x="11708" y="17909"/>
                  <a:pt x="11716" y="17909"/>
                  <a:pt x="11733" y="17909"/>
                </a:cubicBezTo>
              </a:path>
              <a:path w="1688" h="1018">
                <a:moveTo>
                  <a:pt x="11881" y="17686"/>
                </a:moveTo>
                <a:cubicBezTo>
                  <a:pt x="11913" y="17637"/>
                  <a:pt x="11916" y="17624"/>
                  <a:pt x="11956" y="17611"/>
                </a:cubicBezTo>
                <a:cubicBezTo>
                  <a:pt x="11942" y="17616"/>
                  <a:pt x="11877" y="17639"/>
                  <a:pt x="11857" y="17661"/>
                </a:cubicBezTo>
                <a:cubicBezTo>
                  <a:pt x="11840" y="17680"/>
                  <a:pt x="11816" y="17756"/>
                  <a:pt x="11832" y="17785"/>
                </a:cubicBezTo>
                <a:cubicBezTo>
                  <a:pt x="11862" y="17839"/>
                  <a:pt x="11910" y="17829"/>
                  <a:pt x="11956" y="17859"/>
                </a:cubicBezTo>
                <a:cubicBezTo>
                  <a:pt x="11972" y="17869"/>
                  <a:pt x="12003" y="17941"/>
                  <a:pt x="11981" y="17959"/>
                </a:cubicBezTo>
                <a:cubicBezTo>
                  <a:pt x="11972" y="17966"/>
                  <a:pt x="11918" y="17959"/>
                  <a:pt x="11906" y="17959"/>
                </a:cubicBezTo>
              </a:path>
              <a:path w="1688" h="1018">
                <a:moveTo>
                  <a:pt x="12229" y="17537"/>
                </a:moveTo>
                <a:cubicBezTo>
                  <a:pt x="12306" y="17537"/>
                  <a:pt x="12321" y="17544"/>
                  <a:pt x="12328" y="17462"/>
                </a:cubicBezTo>
                <a:cubicBezTo>
                  <a:pt x="12331" y="17430"/>
                  <a:pt x="12328" y="17396"/>
                  <a:pt x="12328" y="17363"/>
                </a:cubicBezTo>
                <a:cubicBezTo>
                  <a:pt x="12304" y="17371"/>
                  <a:pt x="12252" y="17429"/>
                  <a:pt x="12229" y="17462"/>
                </a:cubicBezTo>
                <a:cubicBezTo>
                  <a:pt x="12173" y="17542"/>
                  <a:pt x="12134" y="17641"/>
                  <a:pt x="12129" y="17735"/>
                </a:cubicBezTo>
                <a:cubicBezTo>
                  <a:pt x="12126" y="17795"/>
                  <a:pt x="12117" y="17860"/>
                  <a:pt x="12154" y="17884"/>
                </a:cubicBezTo>
              </a:path>
              <a:path w="1688" h="1018">
                <a:moveTo>
                  <a:pt x="12303" y="17835"/>
                </a:moveTo>
                <a:cubicBezTo>
                  <a:pt x="12303" y="17810"/>
                  <a:pt x="12303" y="17802"/>
                  <a:pt x="12303" y="17785"/>
                </a:cubicBezTo>
                <a:cubicBezTo>
                  <a:pt x="12250" y="17785"/>
                  <a:pt x="12223" y="17786"/>
                  <a:pt x="12179" y="17760"/>
                </a:cubicBezTo>
              </a:path>
              <a:path w="1688" h="1018">
                <a:moveTo>
                  <a:pt x="12378" y="17314"/>
                </a:moveTo>
                <a:cubicBezTo>
                  <a:pt x="12403" y="17238"/>
                  <a:pt x="12453" y="17258"/>
                  <a:pt x="12526" y="17314"/>
                </a:cubicBezTo>
                <a:cubicBezTo>
                  <a:pt x="12634" y="17397"/>
                  <a:pt x="12687" y="17500"/>
                  <a:pt x="12700" y="17636"/>
                </a:cubicBezTo>
                <a:cubicBezTo>
                  <a:pt x="12716" y="17804"/>
                  <a:pt x="12635" y="17903"/>
                  <a:pt x="12526" y="18008"/>
                </a:cubicBezTo>
                <a:cubicBezTo>
                  <a:pt x="12480" y="18055"/>
                  <a:pt x="12468" y="18069"/>
                  <a:pt x="12427" y="18083"/>
                </a:cubicBezTo>
              </a:path>
              <a:path w="1688" h="1018">
                <a:moveTo>
                  <a:pt x="11187" y="17066"/>
                </a:moveTo>
                <a:cubicBezTo>
                  <a:pt x="11143" y="17142"/>
                  <a:pt x="11090" y="17202"/>
                  <a:pt x="11063" y="17289"/>
                </a:cubicBezTo>
                <a:cubicBezTo>
                  <a:pt x="11016" y="17439"/>
                  <a:pt x="11005" y="17557"/>
                  <a:pt x="11038" y="17711"/>
                </a:cubicBezTo>
                <a:cubicBezTo>
                  <a:pt x="11060" y="17811"/>
                  <a:pt x="11081" y="17938"/>
                  <a:pt x="11162" y="18008"/>
                </a:cubicBezTo>
                <a:cubicBezTo>
                  <a:pt x="11199" y="18040"/>
                  <a:pt x="11267" y="18061"/>
                  <a:pt x="11311" y="180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72200" y="3187800"/>
            <a:ext cx="135000" cy="125280"/>
          </a:xfrm>
          <a:custGeom>
            <a:avLst/>
            <a:gdLst/>
            <a:ahLst/>
            <a:rect l="l" t="t" r="r" b="b"/>
            <a:pathLst>
              <a:path w="373" h="349">
                <a:moveTo>
                  <a:pt x="20017" y="8855"/>
                </a:moveTo>
                <a:cubicBezTo>
                  <a:pt x="19917" y="8884"/>
                  <a:pt x="19877" y="9000"/>
                  <a:pt x="19794" y="9079"/>
                </a:cubicBezTo>
                <a:cubicBezTo>
                  <a:pt x="19744" y="9120"/>
                  <a:pt x="19695" y="9162"/>
                  <a:pt x="19645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46840" y="4680000"/>
            <a:ext cx="144360" cy="2048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16520" y="13419"/>
                </a:moveTo>
                <a:cubicBezTo>
                  <a:pt x="16520" y="13460"/>
                  <a:pt x="16520" y="13502"/>
                  <a:pt x="16520" y="13543"/>
                </a:cubicBezTo>
                <a:cubicBezTo>
                  <a:pt x="16520" y="13598"/>
                  <a:pt x="16538" y="13489"/>
                  <a:pt x="16545" y="13469"/>
                </a:cubicBezTo>
                <a:cubicBezTo>
                  <a:pt x="16580" y="13375"/>
                  <a:pt x="16565" y="13259"/>
                  <a:pt x="16619" y="13171"/>
                </a:cubicBezTo>
                <a:cubicBezTo>
                  <a:pt x="16655" y="13112"/>
                  <a:pt x="16673" y="13055"/>
                  <a:pt x="16718" y="12998"/>
                </a:cubicBezTo>
                <a:cubicBezTo>
                  <a:pt x="16772" y="13015"/>
                  <a:pt x="16755" y="13059"/>
                  <a:pt x="16768" y="13122"/>
                </a:cubicBezTo>
                <a:cubicBezTo>
                  <a:pt x="16791" y="13235"/>
                  <a:pt x="16805" y="13362"/>
                  <a:pt x="16842" y="13469"/>
                </a:cubicBezTo>
                <a:cubicBezTo>
                  <a:pt x="16850" y="13486"/>
                  <a:pt x="16859" y="13502"/>
                  <a:pt x="16867" y="13519"/>
                </a:cubicBezTo>
              </a:path>
              <a:path w="398" h="571">
                <a:moveTo>
                  <a:pt x="16917" y="13494"/>
                </a:moveTo>
                <a:cubicBezTo>
                  <a:pt x="16856" y="13407"/>
                  <a:pt x="16865" y="13395"/>
                  <a:pt x="16768" y="13395"/>
                </a:cubicBezTo>
                <a:cubicBezTo>
                  <a:pt x="16693" y="13395"/>
                  <a:pt x="16672" y="13392"/>
                  <a:pt x="1661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32680" y="4759200"/>
            <a:ext cx="63360" cy="6372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7487" y="13221"/>
                </a:moveTo>
                <a:cubicBezTo>
                  <a:pt x="17487" y="13229"/>
                  <a:pt x="17487" y="13238"/>
                  <a:pt x="17487" y="13246"/>
                </a:cubicBezTo>
                <a:cubicBezTo>
                  <a:pt x="17442" y="13246"/>
                  <a:pt x="17429" y="13266"/>
                  <a:pt x="17388" y="13271"/>
                </a:cubicBezTo>
                <a:cubicBezTo>
                  <a:pt x="17344" y="13276"/>
                  <a:pt x="17351" y="13267"/>
                  <a:pt x="17314" y="13295"/>
                </a:cubicBezTo>
              </a:path>
              <a:path w="174" h="175">
                <a:moveTo>
                  <a:pt x="17462" y="13320"/>
                </a:moveTo>
                <a:cubicBezTo>
                  <a:pt x="17462" y="13366"/>
                  <a:pt x="17465" y="13389"/>
                  <a:pt x="17413" y="13395"/>
                </a:cubicBezTo>
                <a:cubicBezTo>
                  <a:pt x="17405" y="13395"/>
                  <a:pt x="17396" y="13395"/>
                  <a:pt x="17388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56240" y="4606920"/>
            <a:ext cx="231840" cy="376200"/>
          </a:xfrm>
          <a:custGeom>
            <a:avLst/>
            <a:gdLst/>
            <a:ahLst/>
            <a:rect l="l" t="t" r="r" b="b"/>
            <a:pathLst>
              <a:path w="646" h="1043">
                <a:moveTo>
                  <a:pt x="18107" y="12824"/>
                </a:moveTo>
                <a:cubicBezTo>
                  <a:pt x="18130" y="12801"/>
                  <a:pt x="18134" y="12793"/>
                  <a:pt x="18157" y="12799"/>
                </a:cubicBezTo>
                <a:cubicBezTo>
                  <a:pt x="18157" y="12872"/>
                  <a:pt x="18172" y="12927"/>
                  <a:pt x="18182" y="12998"/>
                </a:cubicBezTo>
                <a:cubicBezTo>
                  <a:pt x="18182" y="13049"/>
                  <a:pt x="18183" y="13068"/>
                  <a:pt x="18207" y="13097"/>
                </a:cubicBezTo>
              </a:path>
              <a:path w="646" h="1043">
                <a:moveTo>
                  <a:pt x="18430" y="13246"/>
                </a:moveTo>
                <a:cubicBezTo>
                  <a:pt x="18438" y="13254"/>
                  <a:pt x="18447" y="13263"/>
                  <a:pt x="18455" y="13271"/>
                </a:cubicBezTo>
                <a:cubicBezTo>
                  <a:pt x="18409" y="13304"/>
                  <a:pt x="18362" y="13295"/>
                  <a:pt x="18306" y="13320"/>
                </a:cubicBezTo>
                <a:cubicBezTo>
                  <a:pt x="18231" y="13353"/>
                  <a:pt x="18155" y="13360"/>
                  <a:pt x="18083" y="13395"/>
                </a:cubicBezTo>
                <a:cubicBezTo>
                  <a:pt x="18039" y="13417"/>
                  <a:pt x="18011" y="13419"/>
                  <a:pt x="17959" y="13419"/>
                </a:cubicBezTo>
                <a:cubicBezTo>
                  <a:pt x="17951" y="13419"/>
                  <a:pt x="17942" y="13419"/>
                  <a:pt x="17934" y="13419"/>
                </a:cubicBezTo>
              </a:path>
              <a:path w="646" h="1043">
                <a:moveTo>
                  <a:pt x="18231" y="13543"/>
                </a:moveTo>
                <a:cubicBezTo>
                  <a:pt x="18205" y="13580"/>
                  <a:pt x="18216" y="13582"/>
                  <a:pt x="18182" y="13593"/>
                </a:cubicBezTo>
                <a:cubicBezTo>
                  <a:pt x="18227" y="13559"/>
                  <a:pt x="18271" y="13548"/>
                  <a:pt x="18331" y="13543"/>
                </a:cubicBezTo>
                <a:cubicBezTo>
                  <a:pt x="18364" y="13543"/>
                  <a:pt x="18380" y="13543"/>
                  <a:pt x="18405" y="13543"/>
                </a:cubicBezTo>
                <a:cubicBezTo>
                  <a:pt x="18405" y="13589"/>
                  <a:pt x="18419" y="13656"/>
                  <a:pt x="18380" y="13692"/>
                </a:cubicBezTo>
                <a:cubicBezTo>
                  <a:pt x="18339" y="13730"/>
                  <a:pt x="18288" y="13754"/>
                  <a:pt x="18281" y="13816"/>
                </a:cubicBezTo>
                <a:cubicBezTo>
                  <a:pt x="18281" y="13824"/>
                  <a:pt x="18281" y="13833"/>
                  <a:pt x="18281" y="13841"/>
                </a:cubicBezTo>
                <a:cubicBezTo>
                  <a:pt x="18348" y="13841"/>
                  <a:pt x="18394" y="13826"/>
                  <a:pt x="18455" y="13816"/>
                </a:cubicBezTo>
                <a:cubicBezTo>
                  <a:pt x="18499" y="13809"/>
                  <a:pt x="18536" y="13800"/>
                  <a:pt x="18579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2280" y="4776840"/>
            <a:ext cx="7164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9372" y="13271"/>
                </a:moveTo>
                <a:cubicBezTo>
                  <a:pt x="19359" y="13322"/>
                  <a:pt x="19313" y="13356"/>
                  <a:pt x="19273" y="13395"/>
                </a:cubicBezTo>
                <a:cubicBezTo>
                  <a:pt x="19246" y="13422"/>
                  <a:pt x="19220" y="13505"/>
                  <a:pt x="19199" y="13519"/>
                </a:cubicBezTo>
                <a:cubicBezTo>
                  <a:pt x="19191" y="13519"/>
                  <a:pt x="19182" y="13519"/>
                  <a:pt x="19174" y="13519"/>
                </a:cubicBezTo>
              </a:path>
              <a:path w="199" h="249">
                <a:moveTo>
                  <a:pt x="19348" y="13469"/>
                </a:moveTo>
                <a:cubicBezTo>
                  <a:pt x="19356" y="13469"/>
                  <a:pt x="19364" y="13469"/>
                  <a:pt x="19372" y="13469"/>
                </a:cubicBezTo>
                <a:cubicBezTo>
                  <a:pt x="19359" y="13429"/>
                  <a:pt x="19361" y="13459"/>
                  <a:pt x="19348" y="13419"/>
                </a:cubicBezTo>
                <a:cubicBezTo>
                  <a:pt x="19288" y="13411"/>
                  <a:pt x="19276" y="13383"/>
                  <a:pt x="19224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97840" y="4633920"/>
            <a:ext cx="392040" cy="438120"/>
          </a:xfrm>
          <a:custGeom>
            <a:avLst/>
            <a:gdLst/>
            <a:ahLst/>
            <a:rect l="l" t="t" r="r" b="b"/>
            <a:pathLst>
              <a:path w="1092" h="1216">
                <a:moveTo>
                  <a:pt x="20117" y="12874"/>
                </a:moveTo>
                <a:cubicBezTo>
                  <a:pt x="20105" y="12908"/>
                  <a:pt x="20092" y="12920"/>
                  <a:pt x="20067" y="12973"/>
                </a:cubicBezTo>
                <a:cubicBezTo>
                  <a:pt x="20034" y="13042"/>
                  <a:pt x="19997" y="13095"/>
                  <a:pt x="19993" y="13171"/>
                </a:cubicBezTo>
                <a:cubicBezTo>
                  <a:pt x="19991" y="13216"/>
                  <a:pt x="20012" y="13305"/>
                  <a:pt x="20067" y="13320"/>
                </a:cubicBezTo>
                <a:cubicBezTo>
                  <a:pt x="20127" y="13337"/>
                  <a:pt x="20153" y="13309"/>
                  <a:pt x="20191" y="13271"/>
                </a:cubicBezTo>
                <a:cubicBezTo>
                  <a:pt x="20230" y="13233"/>
                  <a:pt x="20219" y="13175"/>
                  <a:pt x="20166" y="13146"/>
                </a:cubicBezTo>
                <a:cubicBezTo>
                  <a:pt x="20140" y="13132"/>
                  <a:pt x="20071" y="13146"/>
                  <a:pt x="20042" y="13146"/>
                </a:cubicBezTo>
              </a:path>
              <a:path w="1092" h="1216">
                <a:moveTo>
                  <a:pt x="20489" y="12874"/>
                </a:moveTo>
                <a:cubicBezTo>
                  <a:pt x="20489" y="12926"/>
                  <a:pt x="20475" y="12929"/>
                  <a:pt x="20439" y="12973"/>
                </a:cubicBezTo>
                <a:cubicBezTo>
                  <a:pt x="20404" y="13016"/>
                  <a:pt x="20389" y="13042"/>
                  <a:pt x="20389" y="13097"/>
                </a:cubicBezTo>
                <a:cubicBezTo>
                  <a:pt x="20389" y="13141"/>
                  <a:pt x="20452" y="13181"/>
                  <a:pt x="20489" y="13196"/>
                </a:cubicBezTo>
                <a:cubicBezTo>
                  <a:pt x="20531" y="13213"/>
                  <a:pt x="20567" y="13222"/>
                  <a:pt x="20588" y="13246"/>
                </a:cubicBezTo>
                <a:cubicBezTo>
                  <a:pt x="20611" y="13273"/>
                  <a:pt x="20637" y="13321"/>
                  <a:pt x="20588" y="13345"/>
                </a:cubicBezTo>
                <a:cubicBezTo>
                  <a:pt x="20568" y="13355"/>
                  <a:pt x="20483" y="13376"/>
                  <a:pt x="20464" y="13370"/>
                </a:cubicBezTo>
                <a:cubicBezTo>
                  <a:pt x="20432" y="13359"/>
                  <a:pt x="20421" y="13342"/>
                  <a:pt x="20414" y="13320"/>
                </a:cubicBezTo>
              </a:path>
              <a:path w="1092" h="1216">
                <a:moveTo>
                  <a:pt x="20836" y="12898"/>
                </a:moveTo>
                <a:cubicBezTo>
                  <a:pt x="20844" y="12898"/>
                  <a:pt x="20853" y="12898"/>
                  <a:pt x="20861" y="12898"/>
                </a:cubicBezTo>
                <a:cubicBezTo>
                  <a:pt x="20854" y="12877"/>
                  <a:pt x="20821" y="12855"/>
                  <a:pt x="20786" y="12874"/>
                </a:cubicBezTo>
                <a:cubicBezTo>
                  <a:pt x="20749" y="12894"/>
                  <a:pt x="20723" y="12901"/>
                  <a:pt x="20687" y="12923"/>
                </a:cubicBezTo>
              </a:path>
              <a:path w="1092" h="1216">
                <a:moveTo>
                  <a:pt x="21059" y="13593"/>
                </a:moveTo>
                <a:cubicBezTo>
                  <a:pt x="21012" y="13558"/>
                  <a:pt x="20972" y="13568"/>
                  <a:pt x="20910" y="13568"/>
                </a:cubicBezTo>
                <a:cubicBezTo>
                  <a:pt x="20728" y="13568"/>
                  <a:pt x="20258" y="13484"/>
                  <a:pt x="20117" y="13593"/>
                </a:cubicBezTo>
              </a:path>
              <a:path w="1092" h="1216">
                <a:moveTo>
                  <a:pt x="20191" y="13841"/>
                </a:moveTo>
                <a:cubicBezTo>
                  <a:pt x="20166" y="13841"/>
                  <a:pt x="20158" y="13841"/>
                  <a:pt x="20166" y="13816"/>
                </a:cubicBezTo>
                <a:cubicBezTo>
                  <a:pt x="20178" y="13780"/>
                  <a:pt x="20202" y="13784"/>
                  <a:pt x="20241" y="13767"/>
                </a:cubicBezTo>
                <a:cubicBezTo>
                  <a:pt x="20302" y="13741"/>
                  <a:pt x="20330" y="13727"/>
                  <a:pt x="20365" y="13767"/>
                </a:cubicBezTo>
                <a:cubicBezTo>
                  <a:pt x="20407" y="13815"/>
                  <a:pt x="20381" y="13846"/>
                  <a:pt x="20340" y="13891"/>
                </a:cubicBezTo>
                <a:cubicBezTo>
                  <a:pt x="20320" y="13913"/>
                  <a:pt x="20252" y="13923"/>
                  <a:pt x="20241" y="13940"/>
                </a:cubicBezTo>
                <a:cubicBezTo>
                  <a:pt x="20241" y="13948"/>
                  <a:pt x="20241" y="13957"/>
                  <a:pt x="20241" y="13965"/>
                </a:cubicBezTo>
                <a:cubicBezTo>
                  <a:pt x="20277" y="13965"/>
                  <a:pt x="20314" y="13972"/>
                  <a:pt x="20340" y="13990"/>
                </a:cubicBezTo>
                <a:cubicBezTo>
                  <a:pt x="20365" y="14007"/>
                  <a:pt x="20411" y="14023"/>
                  <a:pt x="20389" y="14064"/>
                </a:cubicBezTo>
                <a:cubicBezTo>
                  <a:pt x="20366" y="14107"/>
                  <a:pt x="20306" y="14089"/>
                  <a:pt x="20265" y="14089"/>
                </a:cubicBezTo>
                <a:cubicBezTo>
                  <a:pt x="20221" y="14089"/>
                  <a:pt x="20207" y="14092"/>
                  <a:pt x="20191" y="14064"/>
                </a:cubicBezTo>
              </a:path>
              <a:path w="1092" h="1216">
                <a:moveTo>
                  <a:pt x="20662" y="13717"/>
                </a:moveTo>
                <a:cubicBezTo>
                  <a:pt x="20662" y="13666"/>
                  <a:pt x="20632" y="13765"/>
                  <a:pt x="20613" y="13791"/>
                </a:cubicBezTo>
                <a:cubicBezTo>
                  <a:pt x="20565" y="13854"/>
                  <a:pt x="20563" y="13886"/>
                  <a:pt x="20563" y="13965"/>
                </a:cubicBezTo>
                <a:cubicBezTo>
                  <a:pt x="20563" y="14038"/>
                  <a:pt x="20582" y="14084"/>
                  <a:pt x="20662" y="14089"/>
                </a:cubicBezTo>
                <a:cubicBezTo>
                  <a:pt x="20716" y="14093"/>
                  <a:pt x="20755" y="14099"/>
                  <a:pt x="20762" y="14039"/>
                </a:cubicBezTo>
                <a:cubicBezTo>
                  <a:pt x="20764" y="14023"/>
                  <a:pt x="20711" y="13976"/>
                  <a:pt x="20687" y="13965"/>
                </a:cubicBezTo>
                <a:cubicBezTo>
                  <a:pt x="20679" y="13965"/>
                  <a:pt x="20670" y="13965"/>
                  <a:pt x="20662" y="13965"/>
                </a:cubicBezTo>
              </a:path>
              <a:path w="1092" h="1216">
                <a:moveTo>
                  <a:pt x="20886" y="13891"/>
                </a:moveTo>
                <a:cubicBezTo>
                  <a:pt x="20878" y="13891"/>
                  <a:pt x="20869" y="13891"/>
                  <a:pt x="20861" y="13891"/>
                </a:cubicBezTo>
                <a:cubicBezTo>
                  <a:pt x="20872" y="13846"/>
                  <a:pt x="20907" y="13803"/>
                  <a:pt x="20960" y="13791"/>
                </a:cubicBezTo>
                <a:cubicBezTo>
                  <a:pt x="21041" y="13772"/>
                  <a:pt x="21080" y="13825"/>
                  <a:pt x="21084" y="13891"/>
                </a:cubicBezTo>
                <a:cubicBezTo>
                  <a:pt x="21089" y="13972"/>
                  <a:pt x="21098" y="14010"/>
                  <a:pt x="21010" y="14015"/>
                </a:cubicBezTo>
                <a:cubicBezTo>
                  <a:pt x="20965" y="14018"/>
                  <a:pt x="20885" y="13984"/>
                  <a:pt x="20861" y="13940"/>
                </a:cubicBezTo>
                <a:cubicBezTo>
                  <a:pt x="20861" y="13932"/>
                  <a:pt x="20861" y="13923"/>
                  <a:pt x="20861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0800" y="4813200"/>
            <a:ext cx="438120" cy="179640"/>
          </a:xfrm>
          <a:custGeom>
            <a:avLst/>
            <a:gdLst/>
            <a:ahLst/>
            <a:rect l="l" t="t" r="r" b="b"/>
            <a:pathLst>
              <a:path w="1216" h="497">
                <a:moveTo>
                  <a:pt x="21927" y="13494"/>
                </a:moveTo>
                <a:cubicBezTo>
                  <a:pt x="21927" y="13539"/>
                  <a:pt x="21920" y="13566"/>
                  <a:pt x="21878" y="13593"/>
                </a:cubicBezTo>
                <a:cubicBezTo>
                  <a:pt x="21844" y="13615"/>
                  <a:pt x="21814" y="13634"/>
                  <a:pt x="21779" y="13643"/>
                </a:cubicBezTo>
              </a:path>
              <a:path w="1216" h="497">
                <a:moveTo>
                  <a:pt x="21952" y="13667"/>
                </a:moveTo>
                <a:cubicBezTo>
                  <a:pt x="21960" y="13659"/>
                  <a:pt x="21969" y="13651"/>
                  <a:pt x="21977" y="13643"/>
                </a:cubicBezTo>
                <a:cubicBezTo>
                  <a:pt x="21940" y="13615"/>
                  <a:pt x="21890" y="13615"/>
                  <a:pt x="21853" y="13593"/>
                </a:cubicBezTo>
                <a:cubicBezTo>
                  <a:pt x="21830" y="13570"/>
                  <a:pt x="21826" y="13562"/>
                  <a:pt x="21803" y="13568"/>
                </a:cubicBezTo>
              </a:path>
              <a:path w="1216" h="497">
                <a:moveTo>
                  <a:pt x="22250" y="13519"/>
                </a:moveTo>
                <a:cubicBezTo>
                  <a:pt x="22212" y="13486"/>
                  <a:pt x="22156" y="13468"/>
                  <a:pt x="22151" y="13419"/>
                </a:cubicBezTo>
                <a:cubicBezTo>
                  <a:pt x="22146" y="13375"/>
                  <a:pt x="22238" y="13372"/>
                  <a:pt x="22275" y="13370"/>
                </a:cubicBezTo>
                <a:cubicBezTo>
                  <a:pt x="22333" y="13367"/>
                  <a:pt x="22401" y="13378"/>
                  <a:pt x="22423" y="13444"/>
                </a:cubicBezTo>
                <a:cubicBezTo>
                  <a:pt x="22440" y="13496"/>
                  <a:pt x="22380" y="13603"/>
                  <a:pt x="22349" y="13643"/>
                </a:cubicBezTo>
                <a:cubicBezTo>
                  <a:pt x="22309" y="13694"/>
                  <a:pt x="22265" y="13742"/>
                  <a:pt x="22225" y="13791"/>
                </a:cubicBezTo>
                <a:cubicBezTo>
                  <a:pt x="22269" y="13824"/>
                  <a:pt x="22291" y="13816"/>
                  <a:pt x="22349" y="13816"/>
                </a:cubicBezTo>
                <a:cubicBezTo>
                  <a:pt x="22406" y="13816"/>
                  <a:pt x="22427" y="13806"/>
                  <a:pt x="22473" y="13791"/>
                </a:cubicBezTo>
                <a:cubicBezTo>
                  <a:pt x="22481" y="13791"/>
                  <a:pt x="22490" y="13791"/>
                  <a:pt x="22498" y="13791"/>
                </a:cubicBezTo>
              </a:path>
              <a:path w="1216" h="497">
                <a:moveTo>
                  <a:pt x="22671" y="13643"/>
                </a:moveTo>
                <a:cubicBezTo>
                  <a:pt x="22671" y="13635"/>
                  <a:pt x="22671" y="13626"/>
                  <a:pt x="22671" y="13618"/>
                </a:cubicBezTo>
                <a:cubicBezTo>
                  <a:pt x="22671" y="13692"/>
                  <a:pt x="22671" y="13767"/>
                  <a:pt x="22671" y="13841"/>
                </a:cubicBezTo>
              </a:path>
              <a:path w="1216" h="497">
                <a:moveTo>
                  <a:pt x="22796" y="13667"/>
                </a:moveTo>
                <a:cubicBezTo>
                  <a:pt x="22829" y="13588"/>
                  <a:pt x="22820" y="13579"/>
                  <a:pt x="22820" y="13667"/>
                </a:cubicBezTo>
                <a:cubicBezTo>
                  <a:pt x="22820" y="13730"/>
                  <a:pt x="22806" y="13792"/>
                  <a:pt x="22845" y="13841"/>
                </a:cubicBezTo>
                <a:cubicBezTo>
                  <a:pt x="22879" y="13883"/>
                  <a:pt x="22945" y="13866"/>
                  <a:pt x="22994" y="13866"/>
                </a:cubicBezTo>
              </a:path>
              <a:path w="1216" h="497">
                <a:moveTo>
                  <a:pt x="22994" y="13643"/>
                </a:moveTo>
                <a:cubicBezTo>
                  <a:pt x="22945" y="13594"/>
                  <a:pt x="22940" y="13593"/>
                  <a:pt x="22870" y="13593"/>
                </a:cubicBezTo>
                <a:cubicBezTo>
                  <a:pt x="22819" y="13593"/>
                  <a:pt x="22777" y="13568"/>
                  <a:pt x="22721" y="13568"/>
                </a:cubicBezTo>
                <a:cubicBezTo>
                  <a:pt x="22713" y="13568"/>
                  <a:pt x="22704" y="13568"/>
                  <a:pt x="22696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5960" y="4813200"/>
            <a:ext cx="430200" cy="169920"/>
          </a:xfrm>
          <a:custGeom>
            <a:avLst/>
            <a:gdLst/>
            <a:ahLst/>
            <a:rect l="l" t="t" r="r" b="b"/>
            <a:pathLst>
              <a:path w="1192" h="472">
                <a:moveTo>
                  <a:pt x="23887" y="13568"/>
                </a:moveTo>
                <a:cubicBezTo>
                  <a:pt x="23895" y="13560"/>
                  <a:pt x="23904" y="13551"/>
                  <a:pt x="23912" y="13543"/>
                </a:cubicBezTo>
                <a:cubicBezTo>
                  <a:pt x="23878" y="13577"/>
                  <a:pt x="23844" y="13596"/>
                  <a:pt x="23812" y="13618"/>
                </a:cubicBezTo>
                <a:cubicBezTo>
                  <a:pt x="23763" y="13651"/>
                  <a:pt x="23745" y="13674"/>
                  <a:pt x="23713" y="13717"/>
                </a:cubicBezTo>
              </a:path>
              <a:path w="1192" h="472">
                <a:moveTo>
                  <a:pt x="23887" y="13667"/>
                </a:moveTo>
                <a:cubicBezTo>
                  <a:pt x="23910" y="13645"/>
                  <a:pt x="23918" y="13640"/>
                  <a:pt x="23912" y="13618"/>
                </a:cubicBezTo>
                <a:cubicBezTo>
                  <a:pt x="23861" y="13618"/>
                  <a:pt x="23853" y="13607"/>
                  <a:pt x="23812" y="13593"/>
                </a:cubicBezTo>
                <a:cubicBezTo>
                  <a:pt x="23793" y="13587"/>
                  <a:pt x="23758" y="13593"/>
                  <a:pt x="23738" y="13593"/>
                </a:cubicBezTo>
              </a:path>
              <a:path w="1192" h="472">
                <a:moveTo>
                  <a:pt x="24110" y="13395"/>
                </a:moveTo>
                <a:cubicBezTo>
                  <a:pt x="24143" y="13449"/>
                  <a:pt x="24135" y="13500"/>
                  <a:pt x="24135" y="13568"/>
                </a:cubicBezTo>
                <a:cubicBezTo>
                  <a:pt x="24135" y="13659"/>
                  <a:pt x="24135" y="13750"/>
                  <a:pt x="24135" y="13841"/>
                </a:cubicBezTo>
              </a:path>
              <a:path w="1192" h="472">
                <a:moveTo>
                  <a:pt x="24284" y="13643"/>
                </a:moveTo>
                <a:cubicBezTo>
                  <a:pt x="24262" y="13636"/>
                  <a:pt x="24239" y="13604"/>
                  <a:pt x="24259" y="13568"/>
                </a:cubicBezTo>
                <a:cubicBezTo>
                  <a:pt x="24277" y="13535"/>
                  <a:pt x="24351" y="13534"/>
                  <a:pt x="24383" y="13543"/>
                </a:cubicBezTo>
                <a:cubicBezTo>
                  <a:pt x="24469" y="13568"/>
                  <a:pt x="24457" y="13617"/>
                  <a:pt x="24457" y="13692"/>
                </a:cubicBezTo>
                <a:cubicBezTo>
                  <a:pt x="24457" y="13770"/>
                  <a:pt x="24469" y="13812"/>
                  <a:pt x="24383" y="13841"/>
                </a:cubicBezTo>
                <a:cubicBezTo>
                  <a:pt x="24354" y="13851"/>
                  <a:pt x="24276" y="13790"/>
                  <a:pt x="24259" y="13767"/>
                </a:cubicBezTo>
                <a:cubicBezTo>
                  <a:pt x="24251" y="13750"/>
                  <a:pt x="24242" y="13734"/>
                  <a:pt x="24234" y="13717"/>
                </a:cubicBezTo>
              </a:path>
              <a:path w="1192" h="472">
                <a:moveTo>
                  <a:pt x="24681" y="13419"/>
                </a:moveTo>
                <a:cubicBezTo>
                  <a:pt x="24693" y="13370"/>
                  <a:pt x="24705" y="13370"/>
                  <a:pt x="24755" y="13370"/>
                </a:cubicBezTo>
                <a:cubicBezTo>
                  <a:pt x="24808" y="13370"/>
                  <a:pt x="24805" y="13402"/>
                  <a:pt x="24805" y="13444"/>
                </a:cubicBezTo>
                <a:cubicBezTo>
                  <a:pt x="24805" y="13479"/>
                  <a:pt x="24778" y="13518"/>
                  <a:pt x="24755" y="13543"/>
                </a:cubicBezTo>
                <a:cubicBezTo>
                  <a:pt x="24736" y="13564"/>
                  <a:pt x="24701" y="13627"/>
                  <a:pt x="24755" y="13643"/>
                </a:cubicBezTo>
                <a:cubicBezTo>
                  <a:pt x="24794" y="13655"/>
                  <a:pt x="24863" y="13643"/>
                  <a:pt x="24904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46960" y="5367240"/>
            <a:ext cx="18900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20935" y="15081"/>
                </a:moveTo>
                <a:cubicBezTo>
                  <a:pt x="20935" y="15029"/>
                  <a:pt x="20930" y="15029"/>
                  <a:pt x="20960" y="15007"/>
                </a:cubicBezTo>
                <a:cubicBezTo>
                  <a:pt x="20998" y="14978"/>
                  <a:pt x="21011" y="14982"/>
                  <a:pt x="21059" y="14982"/>
                </a:cubicBezTo>
                <a:cubicBezTo>
                  <a:pt x="21122" y="14982"/>
                  <a:pt x="21109" y="15033"/>
                  <a:pt x="21109" y="15081"/>
                </a:cubicBezTo>
                <a:cubicBezTo>
                  <a:pt x="21109" y="15136"/>
                  <a:pt x="21082" y="15174"/>
                  <a:pt x="21034" y="15205"/>
                </a:cubicBezTo>
                <a:cubicBezTo>
                  <a:pt x="20979" y="15241"/>
                  <a:pt x="20924" y="15230"/>
                  <a:pt x="20861" y="15230"/>
                </a:cubicBezTo>
                <a:cubicBezTo>
                  <a:pt x="20796" y="15230"/>
                  <a:pt x="20738" y="15194"/>
                  <a:pt x="20712" y="15131"/>
                </a:cubicBezTo>
                <a:cubicBezTo>
                  <a:pt x="20694" y="15088"/>
                  <a:pt x="20712" y="14994"/>
                  <a:pt x="20737" y="14957"/>
                </a:cubicBezTo>
                <a:cubicBezTo>
                  <a:pt x="20773" y="14903"/>
                  <a:pt x="20830" y="14908"/>
                  <a:pt x="20886" y="14908"/>
                </a:cubicBezTo>
                <a:cubicBezTo>
                  <a:pt x="21005" y="14908"/>
                  <a:pt x="21025" y="14923"/>
                  <a:pt x="21109" y="15007"/>
                </a:cubicBezTo>
                <a:cubicBezTo>
                  <a:pt x="21170" y="15068"/>
                  <a:pt x="21244" y="15213"/>
                  <a:pt x="21208" y="15304"/>
                </a:cubicBezTo>
                <a:cubicBezTo>
                  <a:pt x="21178" y="15380"/>
                  <a:pt x="21063" y="15444"/>
                  <a:pt x="20985" y="15429"/>
                </a:cubicBezTo>
                <a:cubicBezTo>
                  <a:pt x="20907" y="15414"/>
                  <a:pt x="20788" y="15365"/>
                  <a:pt x="20737" y="15304"/>
                </a:cubicBezTo>
                <a:cubicBezTo>
                  <a:pt x="20715" y="15261"/>
                  <a:pt x="20711" y="15249"/>
                  <a:pt x="20687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15200" y="5340240"/>
            <a:ext cx="509760" cy="4190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22820" y="15404"/>
                </a:moveTo>
                <a:cubicBezTo>
                  <a:pt x="22820" y="15487"/>
                  <a:pt x="22820" y="15487"/>
                  <a:pt x="22820" y="15404"/>
                </a:cubicBezTo>
                <a:cubicBezTo>
                  <a:pt x="22820" y="15337"/>
                  <a:pt x="22824" y="15326"/>
                  <a:pt x="22870" y="15280"/>
                </a:cubicBezTo>
                <a:cubicBezTo>
                  <a:pt x="22923" y="15228"/>
                  <a:pt x="23006" y="15255"/>
                  <a:pt x="23068" y="15280"/>
                </a:cubicBezTo>
                <a:cubicBezTo>
                  <a:pt x="23131" y="15306"/>
                  <a:pt x="23128" y="15320"/>
                  <a:pt x="23192" y="15329"/>
                </a:cubicBezTo>
              </a:path>
              <a:path w="1415" h="1167">
                <a:moveTo>
                  <a:pt x="23391" y="15230"/>
                </a:moveTo>
                <a:cubicBezTo>
                  <a:pt x="23370" y="15202"/>
                  <a:pt x="23340" y="15156"/>
                  <a:pt x="23391" y="15131"/>
                </a:cubicBezTo>
                <a:cubicBezTo>
                  <a:pt x="23416" y="15118"/>
                  <a:pt x="23524" y="15127"/>
                  <a:pt x="23540" y="15156"/>
                </a:cubicBezTo>
                <a:cubicBezTo>
                  <a:pt x="23568" y="15208"/>
                  <a:pt x="23520" y="15250"/>
                  <a:pt x="23490" y="15280"/>
                </a:cubicBezTo>
                <a:cubicBezTo>
                  <a:pt x="23458" y="15312"/>
                  <a:pt x="23421" y="15334"/>
                  <a:pt x="23416" y="15379"/>
                </a:cubicBezTo>
                <a:cubicBezTo>
                  <a:pt x="23416" y="15387"/>
                  <a:pt x="23416" y="15396"/>
                  <a:pt x="23416" y="15404"/>
                </a:cubicBezTo>
                <a:cubicBezTo>
                  <a:pt x="23481" y="15404"/>
                  <a:pt x="23526" y="15387"/>
                  <a:pt x="23589" y="15379"/>
                </a:cubicBezTo>
              </a:path>
              <a:path w="1415" h="1167">
                <a:moveTo>
                  <a:pt x="24234" y="15627"/>
                </a:moveTo>
                <a:cubicBezTo>
                  <a:pt x="24151" y="15753"/>
                  <a:pt x="24046" y="15840"/>
                  <a:pt x="23937" y="15949"/>
                </a:cubicBezTo>
                <a:cubicBezTo>
                  <a:pt x="23920" y="15966"/>
                  <a:pt x="23904" y="15982"/>
                  <a:pt x="23887" y="15999"/>
                </a:cubicBezTo>
              </a:path>
              <a:path w="1415" h="1167">
                <a:moveTo>
                  <a:pt x="23837" y="15974"/>
                </a:moveTo>
                <a:cubicBezTo>
                  <a:pt x="23862" y="15974"/>
                  <a:pt x="23870" y="15974"/>
                  <a:pt x="23862" y="15999"/>
                </a:cubicBezTo>
                <a:cubicBezTo>
                  <a:pt x="23875" y="15961"/>
                  <a:pt x="23884" y="15969"/>
                  <a:pt x="23912" y="15949"/>
                </a:cubicBezTo>
                <a:cubicBezTo>
                  <a:pt x="23943" y="15926"/>
                  <a:pt x="23964" y="15842"/>
                  <a:pt x="23986" y="15801"/>
                </a:cubicBezTo>
                <a:cubicBezTo>
                  <a:pt x="24018" y="15741"/>
                  <a:pt x="24088" y="15659"/>
                  <a:pt x="24110" y="15602"/>
                </a:cubicBezTo>
                <a:cubicBezTo>
                  <a:pt x="24133" y="15543"/>
                  <a:pt x="24156" y="15444"/>
                  <a:pt x="24160" y="15379"/>
                </a:cubicBezTo>
                <a:cubicBezTo>
                  <a:pt x="24165" y="15289"/>
                  <a:pt x="24198" y="15242"/>
                  <a:pt x="24160" y="15156"/>
                </a:cubicBezTo>
                <a:cubicBezTo>
                  <a:pt x="24118" y="15062"/>
                  <a:pt x="24075" y="15012"/>
                  <a:pt x="23986" y="14957"/>
                </a:cubicBezTo>
                <a:cubicBezTo>
                  <a:pt x="23922" y="14917"/>
                  <a:pt x="23830" y="14860"/>
                  <a:pt x="23763" y="14833"/>
                </a:cubicBezTo>
                <a:cubicBezTo>
                  <a:pt x="23738" y="14833"/>
                  <a:pt x="23730" y="14833"/>
                  <a:pt x="23713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5120" y="5375160"/>
            <a:ext cx="108000" cy="63720"/>
          </a:xfrm>
          <a:custGeom>
            <a:avLst/>
            <a:gdLst/>
            <a:ahLst/>
            <a:rect l="l" t="t" r="r" b="b"/>
            <a:pathLst>
              <a:path w="298" h="175">
                <a:moveTo>
                  <a:pt x="17090" y="14957"/>
                </a:moveTo>
                <a:cubicBezTo>
                  <a:pt x="17053" y="14928"/>
                  <a:pt x="17039" y="14932"/>
                  <a:pt x="16991" y="14932"/>
                </a:cubicBezTo>
                <a:cubicBezTo>
                  <a:pt x="16921" y="14932"/>
                  <a:pt x="16875" y="14938"/>
                  <a:pt x="16818" y="14957"/>
                </a:cubicBezTo>
                <a:cubicBezTo>
                  <a:pt x="16810" y="14957"/>
                  <a:pt x="16801" y="14957"/>
                  <a:pt x="16793" y="14957"/>
                </a:cubicBezTo>
              </a:path>
              <a:path w="298" h="175">
                <a:moveTo>
                  <a:pt x="17041" y="15081"/>
                </a:moveTo>
                <a:cubicBezTo>
                  <a:pt x="16986" y="15081"/>
                  <a:pt x="16970" y="15093"/>
                  <a:pt x="16917" y="15106"/>
                </a:cubicBezTo>
                <a:cubicBezTo>
                  <a:pt x="16892" y="15106"/>
                  <a:pt x="16884" y="15106"/>
                  <a:pt x="1686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54880" y="5232240"/>
            <a:ext cx="196920" cy="358920"/>
          </a:xfrm>
          <a:custGeom>
            <a:avLst/>
            <a:gdLst/>
            <a:ahLst/>
            <a:rect l="l" t="t" r="r" b="b"/>
            <a:pathLst>
              <a:path w="546" h="993">
                <a:moveTo>
                  <a:pt x="18331" y="14585"/>
                </a:moveTo>
                <a:cubicBezTo>
                  <a:pt x="18341" y="14553"/>
                  <a:pt x="18348" y="14546"/>
                  <a:pt x="18380" y="14536"/>
                </a:cubicBezTo>
                <a:cubicBezTo>
                  <a:pt x="18380" y="14601"/>
                  <a:pt x="18401" y="14646"/>
                  <a:pt x="18405" y="14709"/>
                </a:cubicBezTo>
                <a:cubicBezTo>
                  <a:pt x="18409" y="14775"/>
                  <a:pt x="18405" y="14842"/>
                  <a:pt x="18405" y="14908"/>
                </a:cubicBezTo>
              </a:path>
              <a:path w="546" h="993">
                <a:moveTo>
                  <a:pt x="18703" y="15032"/>
                </a:moveTo>
                <a:cubicBezTo>
                  <a:pt x="18548" y="15032"/>
                  <a:pt x="18368" y="15054"/>
                  <a:pt x="18231" y="15007"/>
                </a:cubicBezTo>
                <a:cubicBezTo>
                  <a:pt x="18207" y="15007"/>
                  <a:pt x="18199" y="15007"/>
                  <a:pt x="18207" y="14982"/>
                </a:cubicBezTo>
              </a:path>
              <a:path w="546" h="993">
                <a:moveTo>
                  <a:pt x="18380" y="15230"/>
                </a:moveTo>
                <a:cubicBezTo>
                  <a:pt x="18364" y="15238"/>
                  <a:pt x="18347" y="15247"/>
                  <a:pt x="18331" y="15255"/>
                </a:cubicBezTo>
                <a:cubicBezTo>
                  <a:pt x="18385" y="15231"/>
                  <a:pt x="18469" y="15188"/>
                  <a:pt x="18529" y="15205"/>
                </a:cubicBezTo>
                <a:cubicBezTo>
                  <a:pt x="18576" y="15218"/>
                  <a:pt x="18646" y="15300"/>
                  <a:pt x="18604" y="15354"/>
                </a:cubicBezTo>
                <a:cubicBezTo>
                  <a:pt x="18568" y="15401"/>
                  <a:pt x="18502" y="15436"/>
                  <a:pt x="18455" y="15478"/>
                </a:cubicBezTo>
                <a:cubicBezTo>
                  <a:pt x="18432" y="15501"/>
                  <a:pt x="18428" y="15509"/>
                  <a:pt x="18405" y="15503"/>
                </a:cubicBezTo>
                <a:cubicBezTo>
                  <a:pt x="18509" y="15503"/>
                  <a:pt x="18602" y="15514"/>
                  <a:pt x="18703" y="15528"/>
                </a:cubicBezTo>
                <a:cubicBezTo>
                  <a:pt x="18719" y="15528"/>
                  <a:pt x="18736" y="15528"/>
                  <a:pt x="18752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59680" y="5126040"/>
            <a:ext cx="277560" cy="884160"/>
          </a:xfrm>
          <a:custGeom>
            <a:avLst/>
            <a:gdLst/>
            <a:ahLst/>
            <a:rect l="l" t="t" r="r" b="b"/>
            <a:pathLst>
              <a:path w="770" h="2457">
                <a:moveTo>
                  <a:pt x="18008" y="14288"/>
                </a:moveTo>
                <a:cubicBezTo>
                  <a:pt x="18033" y="14263"/>
                  <a:pt x="18041" y="14255"/>
                  <a:pt x="18058" y="14238"/>
                </a:cubicBezTo>
                <a:cubicBezTo>
                  <a:pt x="18011" y="14265"/>
                  <a:pt x="17984" y="14274"/>
                  <a:pt x="17959" y="14337"/>
                </a:cubicBezTo>
                <a:cubicBezTo>
                  <a:pt x="17920" y="14433"/>
                  <a:pt x="17869" y="14557"/>
                  <a:pt x="17859" y="14660"/>
                </a:cubicBezTo>
                <a:cubicBezTo>
                  <a:pt x="17843" y="14816"/>
                  <a:pt x="17876" y="14955"/>
                  <a:pt x="17909" y="15106"/>
                </a:cubicBezTo>
                <a:cubicBezTo>
                  <a:pt x="17943" y="15261"/>
                  <a:pt x="17979" y="15344"/>
                  <a:pt x="18058" y="15478"/>
                </a:cubicBezTo>
                <a:cubicBezTo>
                  <a:pt x="18096" y="15542"/>
                  <a:pt x="18126" y="15584"/>
                  <a:pt x="18157" y="15652"/>
                </a:cubicBezTo>
              </a:path>
              <a:path w="770" h="2457">
                <a:moveTo>
                  <a:pt x="17487" y="16570"/>
                </a:moveTo>
                <a:cubicBezTo>
                  <a:pt x="17536" y="16570"/>
                  <a:pt x="17549" y="16574"/>
                  <a:pt x="17587" y="16545"/>
                </a:cubicBezTo>
                <a:cubicBezTo>
                  <a:pt x="17521" y="16545"/>
                  <a:pt x="17454" y="16545"/>
                  <a:pt x="17388" y="16545"/>
                </a:cubicBezTo>
              </a:path>
              <a:path w="770" h="2457">
                <a:moveTo>
                  <a:pt x="17587" y="16669"/>
                </a:moveTo>
                <a:cubicBezTo>
                  <a:pt x="17595" y="16669"/>
                  <a:pt x="17603" y="16669"/>
                  <a:pt x="17611" y="16669"/>
                </a:cubicBezTo>
                <a:cubicBezTo>
                  <a:pt x="17598" y="16710"/>
                  <a:pt x="17563" y="16694"/>
                  <a:pt x="17512" y="16694"/>
                </a:cubicBezTo>
                <a:cubicBezTo>
                  <a:pt x="17487" y="16694"/>
                  <a:pt x="17479" y="16694"/>
                  <a:pt x="17462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88080" y="5892840"/>
            <a:ext cx="162000" cy="162000"/>
          </a:xfrm>
          <a:custGeom>
            <a:avLst/>
            <a:gdLst/>
            <a:ahLst/>
            <a:rect l="l" t="t" r="r" b="b"/>
            <a:pathLst>
              <a:path w="447" h="448">
                <a:moveTo>
                  <a:pt x="18703" y="16396"/>
                </a:moveTo>
                <a:cubicBezTo>
                  <a:pt x="18687" y="16401"/>
                  <a:pt x="18642" y="16419"/>
                  <a:pt x="18628" y="16446"/>
                </a:cubicBezTo>
                <a:cubicBezTo>
                  <a:pt x="18618" y="16465"/>
                  <a:pt x="18589" y="16517"/>
                  <a:pt x="18604" y="16545"/>
                </a:cubicBezTo>
                <a:cubicBezTo>
                  <a:pt x="18630" y="16593"/>
                  <a:pt x="18689" y="16614"/>
                  <a:pt x="18728" y="16644"/>
                </a:cubicBezTo>
                <a:cubicBezTo>
                  <a:pt x="18777" y="16681"/>
                  <a:pt x="18797" y="16710"/>
                  <a:pt x="18802" y="16768"/>
                </a:cubicBezTo>
                <a:cubicBezTo>
                  <a:pt x="18807" y="16831"/>
                  <a:pt x="18746" y="16818"/>
                  <a:pt x="18703" y="16818"/>
                </a:cubicBezTo>
                <a:cubicBezTo>
                  <a:pt x="18662" y="16818"/>
                  <a:pt x="18620" y="16818"/>
                  <a:pt x="18579" y="16818"/>
                </a:cubicBezTo>
              </a:path>
              <a:path w="447" h="448">
                <a:moveTo>
                  <a:pt x="18976" y="16421"/>
                </a:moveTo>
                <a:cubicBezTo>
                  <a:pt x="18992" y="16404"/>
                  <a:pt x="19009" y="16388"/>
                  <a:pt x="19025" y="16371"/>
                </a:cubicBezTo>
                <a:cubicBezTo>
                  <a:pt x="18962" y="16371"/>
                  <a:pt x="18935" y="16391"/>
                  <a:pt x="18876" y="16396"/>
                </a:cubicBezTo>
                <a:cubicBezTo>
                  <a:pt x="18868" y="16396"/>
                  <a:pt x="18860" y="16396"/>
                  <a:pt x="18852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56280" y="5911920"/>
            <a:ext cx="588960" cy="187200"/>
          </a:xfrm>
          <a:custGeom>
            <a:avLst/>
            <a:gdLst/>
            <a:ahLst/>
            <a:rect l="l" t="t" r="r" b="b"/>
            <a:pathLst>
              <a:path w="1638" h="522">
                <a:moveTo>
                  <a:pt x="19397" y="16520"/>
                </a:moveTo>
                <a:cubicBezTo>
                  <a:pt x="19430" y="16487"/>
                  <a:pt x="19463" y="16454"/>
                  <a:pt x="19496" y="16421"/>
                </a:cubicBezTo>
                <a:cubicBezTo>
                  <a:pt x="19480" y="16488"/>
                  <a:pt x="19406" y="16510"/>
                  <a:pt x="19372" y="16570"/>
                </a:cubicBezTo>
                <a:cubicBezTo>
                  <a:pt x="19336" y="16634"/>
                  <a:pt x="19297" y="16769"/>
                  <a:pt x="19323" y="16842"/>
                </a:cubicBezTo>
                <a:cubicBezTo>
                  <a:pt x="19347" y="16908"/>
                  <a:pt x="19430" y="16896"/>
                  <a:pt x="19472" y="16867"/>
                </a:cubicBezTo>
                <a:cubicBezTo>
                  <a:pt x="19496" y="16842"/>
                  <a:pt x="19504" y="16834"/>
                  <a:pt x="19521" y="16818"/>
                </a:cubicBezTo>
                <a:cubicBezTo>
                  <a:pt x="19477" y="16785"/>
                  <a:pt x="19455" y="16793"/>
                  <a:pt x="19397" y="16793"/>
                </a:cubicBezTo>
                <a:cubicBezTo>
                  <a:pt x="19364" y="16793"/>
                  <a:pt x="19348" y="16793"/>
                  <a:pt x="19323" y="16793"/>
                </a:cubicBezTo>
              </a:path>
              <a:path w="1638" h="522">
                <a:moveTo>
                  <a:pt x="19794" y="16842"/>
                </a:moveTo>
                <a:cubicBezTo>
                  <a:pt x="19811" y="16842"/>
                  <a:pt x="19827" y="16842"/>
                  <a:pt x="19844" y="16842"/>
                </a:cubicBezTo>
              </a:path>
              <a:path w="1638" h="522">
                <a:moveTo>
                  <a:pt x="20042" y="16520"/>
                </a:moveTo>
                <a:cubicBezTo>
                  <a:pt x="20026" y="16512"/>
                  <a:pt x="20009" y="16503"/>
                  <a:pt x="19993" y="16495"/>
                </a:cubicBezTo>
                <a:cubicBezTo>
                  <a:pt x="20040" y="16495"/>
                  <a:pt x="20248" y="16464"/>
                  <a:pt x="20265" y="16520"/>
                </a:cubicBezTo>
                <a:cubicBezTo>
                  <a:pt x="20282" y="16575"/>
                  <a:pt x="20223" y="16700"/>
                  <a:pt x="20191" y="16743"/>
                </a:cubicBezTo>
                <a:cubicBezTo>
                  <a:pt x="20153" y="16795"/>
                  <a:pt x="20107" y="16832"/>
                  <a:pt x="20092" y="16892"/>
                </a:cubicBezTo>
              </a:path>
              <a:path w="1638" h="522">
                <a:moveTo>
                  <a:pt x="20538" y="16694"/>
                </a:moveTo>
                <a:cubicBezTo>
                  <a:pt x="20514" y="16637"/>
                  <a:pt x="20496" y="16617"/>
                  <a:pt x="20538" y="16570"/>
                </a:cubicBezTo>
                <a:cubicBezTo>
                  <a:pt x="20594" y="16508"/>
                  <a:pt x="20595" y="16475"/>
                  <a:pt x="20687" y="16470"/>
                </a:cubicBezTo>
                <a:cubicBezTo>
                  <a:pt x="20704" y="16470"/>
                  <a:pt x="20720" y="16470"/>
                  <a:pt x="20737" y="16470"/>
                </a:cubicBezTo>
                <a:cubicBezTo>
                  <a:pt x="20737" y="16543"/>
                  <a:pt x="20739" y="16598"/>
                  <a:pt x="20712" y="16669"/>
                </a:cubicBezTo>
                <a:cubicBezTo>
                  <a:pt x="20682" y="16746"/>
                  <a:pt x="20625" y="16790"/>
                  <a:pt x="20613" y="16867"/>
                </a:cubicBezTo>
                <a:cubicBezTo>
                  <a:pt x="20609" y="16890"/>
                  <a:pt x="20613" y="16918"/>
                  <a:pt x="20613" y="16942"/>
                </a:cubicBezTo>
                <a:cubicBezTo>
                  <a:pt x="20709" y="16942"/>
                  <a:pt x="20794" y="16927"/>
                  <a:pt x="20886" y="16917"/>
                </a:cubicBezTo>
                <a:cubicBezTo>
                  <a:pt x="20911" y="16917"/>
                  <a:pt x="20935" y="16917"/>
                  <a:pt x="20960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48240" y="6276960"/>
            <a:ext cx="907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7760" y="17438"/>
                </a:moveTo>
                <a:cubicBezTo>
                  <a:pt x="17768" y="17438"/>
                  <a:pt x="17777" y="17438"/>
                  <a:pt x="17785" y="17438"/>
                </a:cubicBezTo>
                <a:cubicBezTo>
                  <a:pt x="17735" y="17438"/>
                  <a:pt x="17686" y="17438"/>
                  <a:pt x="17636" y="17438"/>
                </a:cubicBezTo>
              </a:path>
              <a:path w="249" h="224">
                <a:moveTo>
                  <a:pt x="17785" y="17537"/>
                </a:moveTo>
                <a:cubicBezTo>
                  <a:pt x="17883" y="17581"/>
                  <a:pt x="17836" y="17549"/>
                  <a:pt x="17884" y="17611"/>
                </a:cubicBezTo>
                <a:cubicBezTo>
                  <a:pt x="17874" y="17640"/>
                  <a:pt x="17850" y="17656"/>
                  <a:pt x="17810" y="17661"/>
                </a:cubicBezTo>
                <a:cubicBezTo>
                  <a:pt x="17802" y="17661"/>
                  <a:pt x="17793" y="17661"/>
                  <a:pt x="17785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6180120"/>
            <a:ext cx="312480" cy="222120"/>
          </a:xfrm>
          <a:custGeom>
            <a:avLst/>
            <a:gdLst/>
            <a:ahLst/>
            <a:rect l="l" t="t" r="r" b="b"/>
            <a:pathLst>
              <a:path w="869" h="621">
                <a:moveTo>
                  <a:pt x="18678" y="17289"/>
                </a:moveTo>
                <a:cubicBezTo>
                  <a:pt x="18686" y="17272"/>
                  <a:pt x="18695" y="17256"/>
                  <a:pt x="18703" y="17239"/>
                </a:cubicBezTo>
                <a:cubicBezTo>
                  <a:pt x="18682" y="17267"/>
                  <a:pt x="18637" y="17330"/>
                  <a:pt x="18628" y="17363"/>
                </a:cubicBezTo>
                <a:cubicBezTo>
                  <a:pt x="18608" y="17438"/>
                  <a:pt x="18645" y="17456"/>
                  <a:pt x="18703" y="17487"/>
                </a:cubicBezTo>
                <a:cubicBezTo>
                  <a:pt x="18783" y="17530"/>
                  <a:pt x="18825" y="17501"/>
                  <a:pt x="18876" y="17587"/>
                </a:cubicBezTo>
                <a:cubicBezTo>
                  <a:pt x="18905" y="17637"/>
                  <a:pt x="18926" y="17678"/>
                  <a:pt x="18926" y="17735"/>
                </a:cubicBezTo>
                <a:cubicBezTo>
                  <a:pt x="18926" y="17787"/>
                  <a:pt x="18844" y="17798"/>
                  <a:pt x="18802" y="17785"/>
                </a:cubicBezTo>
                <a:cubicBezTo>
                  <a:pt x="18752" y="17760"/>
                  <a:pt x="18736" y="17752"/>
                  <a:pt x="18703" y="17735"/>
                </a:cubicBezTo>
              </a:path>
              <a:path w="869" h="621">
                <a:moveTo>
                  <a:pt x="19025" y="17214"/>
                </a:moveTo>
                <a:cubicBezTo>
                  <a:pt x="19025" y="17198"/>
                  <a:pt x="19025" y="17181"/>
                  <a:pt x="19025" y="17165"/>
                </a:cubicBezTo>
                <a:cubicBezTo>
                  <a:pt x="18986" y="17175"/>
                  <a:pt x="18912" y="17197"/>
                  <a:pt x="18876" y="17214"/>
                </a:cubicBezTo>
                <a:cubicBezTo>
                  <a:pt x="18848" y="17243"/>
                  <a:pt x="18835" y="17251"/>
                  <a:pt x="18802" y="17239"/>
                </a:cubicBezTo>
              </a:path>
              <a:path w="869" h="621">
                <a:moveTo>
                  <a:pt x="19224" y="17190"/>
                </a:moveTo>
                <a:cubicBezTo>
                  <a:pt x="19204" y="17196"/>
                  <a:pt x="19155" y="17214"/>
                  <a:pt x="19199" y="17214"/>
                </a:cubicBezTo>
                <a:cubicBezTo>
                  <a:pt x="19251" y="17214"/>
                  <a:pt x="19327" y="17218"/>
                  <a:pt x="19372" y="17239"/>
                </a:cubicBezTo>
                <a:cubicBezTo>
                  <a:pt x="19428" y="17265"/>
                  <a:pt x="19472" y="17265"/>
                  <a:pt x="19496" y="17338"/>
                </a:cubicBezTo>
                <a:cubicBezTo>
                  <a:pt x="19521" y="17414"/>
                  <a:pt x="19465" y="17507"/>
                  <a:pt x="19422" y="17562"/>
                </a:cubicBezTo>
                <a:cubicBezTo>
                  <a:pt x="19376" y="17621"/>
                  <a:pt x="19306" y="17694"/>
                  <a:pt x="19273" y="17760"/>
                </a:cubicBezTo>
                <a:cubicBezTo>
                  <a:pt x="19273" y="17768"/>
                  <a:pt x="19273" y="17777"/>
                  <a:pt x="19273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53200" y="6232680"/>
            <a:ext cx="357120" cy="18864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19893" y="17587"/>
                </a:moveTo>
                <a:cubicBezTo>
                  <a:pt x="19951" y="17549"/>
                  <a:pt x="19943" y="17572"/>
                  <a:pt x="19943" y="17512"/>
                </a:cubicBezTo>
                <a:cubicBezTo>
                  <a:pt x="19886" y="17526"/>
                  <a:pt x="19872" y="17550"/>
                  <a:pt x="19869" y="17611"/>
                </a:cubicBezTo>
                <a:cubicBezTo>
                  <a:pt x="19866" y="17685"/>
                  <a:pt x="19856" y="17762"/>
                  <a:pt x="19943" y="17785"/>
                </a:cubicBezTo>
                <a:cubicBezTo>
                  <a:pt x="19994" y="17799"/>
                  <a:pt x="20029" y="17783"/>
                  <a:pt x="20067" y="17760"/>
                </a:cubicBezTo>
              </a:path>
              <a:path w="993" h="522">
                <a:moveTo>
                  <a:pt x="20191" y="17587"/>
                </a:moveTo>
                <a:cubicBezTo>
                  <a:pt x="20218" y="17657"/>
                  <a:pt x="20216" y="17709"/>
                  <a:pt x="20216" y="17785"/>
                </a:cubicBezTo>
                <a:cubicBezTo>
                  <a:pt x="20216" y="17793"/>
                  <a:pt x="20216" y="17877"/>
                  <a:pt x="20216" y="17810"/>
                </a:cubicBezTo>
                <a:cubicBezTo>
                  <a:pt x="20216" y="17751"/>
                  <a:pt x="20205" y="17707"/>
                  <a:pt x="20241" y="17661"/>
                </a:cubicBezTo>
                <a:cubicBezTo>
                  <a:pt x="20277" y="17615"/>
                  <a:pt x="20325" y="17627"/>
                  <a:pt x="20340" y="17686"/>
                </a:cubicBezTo>
                <a:cubicBezTo>
                  <a:pt x="20340" y="17737"/>
                  <a:pt x="20341" y="17756"/>
                  <a:pt x="20365" y="17785"/>
                </a:cubicBezTo>
                <a:cubicBezTo>
                  <a:pt x="20406" y="17771"/>
                  <a:pt x="20411" y="17714"/>
                  <a:pt x="20414" y="17661"/>
                </a:cubicBezTo>
                <a:cubicBezTo>
                  <a:pt x="20417" y="17601"/>
                  <a:pt x="20411" y="17600"/>
                  <a:pt x="20464" y="17587"/>
                </a:cubicBezTo>
                <a:cubicBezTo>
                  <a:pt x="20496" y="17659"/>
                  <a:pt x="20521" y="17735"/>
                  <a:pt x="20538" y="17810"/>
                </a:cubicBezTo>
                <a:cubicBezTo>
                  <a:pt x="20538" y="17818"/>
                  <a:pt x="20538" y="17827"/>
                  <a:pt x="20538" y="17835"/>
                </a:cubicBezTo>
              </a:path>
              <a:path w="993" h="522">
                <a:moveTo>
                  <a:pt x="20687" y="17438"/>
                </a:moveTo>
                <a:cubicBezTo>
                  <a:pt x="20645" y="17424"/>
                  <a:pt x="20656" y="17398"/>
                  <a:pt x="20687" y="17363"/>
                </a:cubicBezTo>
                <a:cubicBezTo>
                  <a:pt x="20712" y="17335"/>
                  <a:pt x="20752" y="17322"/>
                  <a:pt x="20786" y="17314"/>
                </a:cubicBezTo>
                <a:cubicBezTo>
                  <a:pt x="20814" y="17377"/>
                  <a:pt x="20811" y="17416"/>
                  <a:pt x="20811" y="17487"/>
                </a:cubicBezTo>
                <a:cubicBezTo>
                  <a:pt x="20811" y="17509"/>
                  <a:pt x="20782" y="17631"/>
                  <a:pt x="20786" y="17636"/>
                </a:cubicBezTo>
                <a:cubicBezTo>
                  <a:pt x="20791" y="17642"/>
                  <a:pt x="20852" y="17636"/>
                  <a:pt x="20861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01000" y="6224760"/>
            <a:ext cx="642960" cy="320400"/>
          </a:xfrm>
          <a:custGeom>
            <a:avLst/>
            <a:gdLst/>
            <a:ahLst/>
            <a:rect l="l" t="t" r="r" b="b"/>
            <a:pathLst>
              <a:path w="1787" h="894">
                <a:moveTo>
                  <a:pt x="22473" y="17661"/>
                </a:moveTo>
                <a:cubicBezTo>
                  <a:pt x="22448" y="17661"/>
                  <a:pt x="22424" y="17661"/>
                  <a:pt x="22399" y="17661"/>
                </a:cubicBezTo>
                <a:cubicBezTo>
                  <a:pt x="22412" y="17609"/>
                  <a:pt x="22463" y="17550"/>
                  <a:pt x="22523" y="17537"/>
                </a:cubicBezTo>
                <a:cubicBezTo>
                  <a:pt x="22605" y="17519"/>
                  <a:pt x="22688" y="17525"/>
                  <a:pt x="22696" y="17611"/>
                </a:cubicBezTo>
                <a:cubicBezTo>
                  <a:pt x="22706" y="17726"/>
                  <a:pt x="22696" y="17798"/>
                  <a:pt x="22622" y="17884"/>
                </a:cubicBezTo>
                <a:cubicBezTo>
                  <a:pt x="22590" y="17922"/>
                  <a:pt x="22527" y="17949"/>
                  <a:pt x="22523" y="17983"/>
                </a:cubicBezTo>
                <a:cubicBezTo>
                  <a:pt x="22523" y="17991"/>
                  <a:pt x="22523" y="18000"/>
                  <a:pt x="22523" y="18008"/>
                </a:cubicBezTo>
                <a:cubicBezTo>
                  <a:pt x="22582" y="17996"/>
                  <a:pt x="22637" y="17972"/>
                  <a:pt x="22696" y="17959"/>
                </a:cubicBezTo>
                <a:cubicBezTo>
                  <a:pt x="22759" y="17945"/>
                  <a:pt x="22799" y="17971"/>
                  <a:pt x="22845" y="18008"/>
                </a:cubicBezTo>
              </a:path>
              <a:path w="1787" h="894">
                <a:moveTo>
                  <a:pt x="23168" y="17859"/>
                </a:moveTo>
                <a:cubicBezTo>
                  <a:pt x="23184" y="17859"/>
                  <a:pt x="23201" y="17859"/>
                  <a:pt x="23217" y="17859"/>
                </a:cubicBezTo>
                <a:cubicBezTo>
                  <a:pt x="23182" y="17859"/>
                  <a:pt x="23090" y="17858"/>
                  <a:pt x="23068" y="17884"/>
                </a:cubicBezTo>
                <a:cubicBezTo>
                  <a:pt x="23039" y="17919"/>
                  <a:pt x="23100" y="17965"/>
                  <a:pt x="23118" y="17983"/>
                </a:cubicBezTo>
                <a:cubicBezTo>
                  <a:pt x="23163" y="18027"/>
                  <a:pt x="23192" y="18018"/>
                  <a:pt x="23192" y="18083"/>
                </a:cubicBezTo>
                <a:cubicBezTo>
                  <a:pt x="23192" y="18138"/>
                  <a:pt x="23121" y="18095"/>
                  <a:pt x="23093" y="18083"/>
                </a:cubicBezTo>
              </a:path>
              <a:path w="1787" h="894">
                <a:moveTo>
                  <a:pt x="23540" y="17760"/>
                </a:moveTo>
                <a:cubicBezTo>
                  <a:pt x="23597" y="17737"/>
                  <a:pt x="23684" y="17719"/>
                  <a:pt x="23664" y="17636"/>
                </a:cubicBezTo>
                <a:cubicBezTo>
                  <a:pt x="23648" y="17569"/>
                  <a:pt x="23612" y="17510"/>
                  <a:pt x="23564" y="17462"/>
                </a:cubicBezTo>
                <a:cubicBezTo>
                  <a:pt x="23506" y="17492"/>
                  <a:pt x="23466" y="17567"/>
                  <a:pt x="23440" y="17636"/>
                </a:cubicBezTo>
                <a:cubicBezTo>
                  <a:pt x="23405" y="17729"/>
                  <a:pt x="23371" y="17836"/>
                  <a:pt x="23366" y="17934"/>
                </a:cubicBezTo>
                <a:cubicBezTo>
                  <a:pt x="23366" y="17975"/>
                  <a:pt x="23366" y="17983"/>
                  <a:pt x="23366" y="18008"/>
                </a:cubicBezTo>
              </a:path>
              <a:path w="1787" h="894">
                <a:moveTo>
                  <a:pt x="23564" y="17959"/>
                </a:moveTo>
                <a:cubicBezTo>
                  <a:pt x="23564" y="17942"/>
                  <a:pt x="23564" y="17926"/>
                  <a:pt x="23564" y="17909"/>
                </a:cubicBezTo>
                <a:cubicBezTo>
                  <a:pt x="23521" y="17909"/>
                  <a:pt x="23478" y="17898"/>
                  <a:pt x="23440" y="17884"/>
                </a:cubicBezTo>
                <a:cubicBezTo>
                  <a:pt x="23424" y="17876"/>
                  <a:pt x="23407" y="17867"/>
                  <a:pt x="23391" y="17859"/>
                </a:cubicBezTo>
              </a:path>
              <a:path w="1787" h="894">
                <a:moveTo>
                  <a:pt x="23713" y="17413"/>
                </a:moveTo>
                <a:cubicBezTo>
                  <a:pt x="23870" y="17469"/>
                  <a:pt x="23931" y="17536"/>
                  <a:pt x="23986" y="17711"/>
                </a:cubicBezTo>
                <a:cubicBezTo>
                  <a:pt x="24035" y="17865"/>
                  <a:pt x="24018" y="17966"/>
                  <a:pt x="23912" y="18083"/>
                </a:cubicBezTo>
                <a:cubicBezTo>
                  <a:pt x="23855" y="18139"/>
                  <a:pt x="23829" y="18155"/>
                  <a:pt x="23763" y="18132"/>
                </a:cubicBezTo>
              </a:path>
              <a:path w="1787" h="894">
                <a:moveTo>
                  <a:pt x="22399" y="17338"/>
                </a:moveTo>
                <a:cubicBezTo>
                  <a:pt x="22421" y="17316"/>
                  <a:pt x="22429" y="17311"/>
                  <a:pt x="22423" y="17289"/>
                </a:cubicBezTo>
                <a:cubicBezTo>
                  <a:pt x="22478" y="17289"/>
                  <a:pt x="22369" y="17315"/>
                  <a:pt x="22349" y="17338"/>
                </a:cubicBezTo>
                <a:cubicBezTo>
                  <a:pt x="22284" y="17414"/>
                  <a:pt x="22223" y="17561"/>
                  <a:pt x="22225" y="17661"/>
                </a:cubicBezTo>
                <a:cubicBezTo>
                  <a:pt x="22228" y="17781"/>
                  <a:pt x="22286" y="17982"/>
                  <a:pt x="22349" y="18083"/>
                </a:cubicBezTo>
                <a:cubicBezTo>
                  <a:pt x="22399" y="18132"/>
                  <a:pt x="22416" y="18148"/>
                  <a:pt x="22448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3120" y="1585800"/>
            <a:ext cx="7143840" cy="43815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680000" y="3884760"/>
            <a:ext cx="285840" cy="196560"/>
          </a:xfrm>
          <a:custGeom>
            <a:avLst/>
            <a:gdLst/>
            <a:ahLst/>
            <a:rect l="l" t="t" r="r" b="b"/>
            <a:pathLst>
              <a:path w="794" h="547">
                <a:moveTo>
                  <a:pt x="13345" y="10964"/>
                </a:moveTo>
                <a:cubicBezTo>
                  <a:pt x="13381" y="10937"/>
                  <a:pt x="13384" y="10947"/>
                  <a:pt x="13395" y="10914"/>
                </a:cubicBezTo>
                <a:cubicBezTo>
                  <a:pt x="13358" y="10914"/>
                  <a:pt x="13291" y="10898"/>
                  <a:pt x="13271" y="10939"/>
                </a:cubicBezTo>
                <a:cubicBezTo>
                  <a:pt x="13255" y="10972"/>
                  <a:pt x="13246" y="10998"/>
                  <a:pt x="13246" y="11038"/>
                </a:cubicBezTo>
                <a:cubicBezTo>
                  <a:pt x="13246" y="11065"/>
                  <a:pt x="13270" y="11134"/>
                  <a:pt x="13320" y="11112"/>
                </a:cubicBezTo>
                <a:cubicBezTo>
                  <a:pt x="13387" y="11083"/>
                  <a:pt x="13347" y="11032"/>
                  <a:pt x="13370" y="10988"/>
                </a:cubicBezTo>
                <a:cubicBezTo>
                  <a:pt x="13402" y="10925"/>
                  <a:pt x="13384" y="10948"/>
                  <a:pt x="13419" y="10988"/>
                </a:cubicBezTo>
                <a:cubicBezTo>
                  <a:pt x="13449" y="11018"/>
                  <a:pt x="13460" y="11032"/>
                  <a:pt x="13469" y="11063"/>
                </a:cubicBezTo>
              </a:path>
              <a:path w="794" h="547">
                <a:moveTo>
                  <a:pt x="13494" y="10889"/>
                </a:moveTo>
                <a:cubicBezTo>
                  <a:pt x="13532" y="10872"/>
                  <a:pt x="13598" y="10845"/>
                  <a:pt x="13643" y="10864"/>
                </a:cubicBezTo>
                <a:cubicBezTo>
                  <a:pt x="13709" y="10892"/>
                  <a:pt x="13737" y="10951"/>
                  <a:pt x="13767" y="11013"/>
                </a:cubicBezTo>
                <a:cubicBezTo>
                  <a:pt x="13804" y="11088"/>
                  <a:pt x="13786" y="11121"/>
                  <a:pt x="13767" y="11187"/>
                </a:cubicBezTo>
                <a:cubicBezTo>
                  <a:pt x="13751" y="11243"/>
                  <a:pt x="13721" y="11230"/>
                  <a:pt x="13667" y="11237"/>
                </a:cubicBezTo>
              </a:path>
              <a:path w="794" h="547">
                <a:moveTo>
                  <a:pt x="13122" y="10864"/>
                </a:moveTo>
                <a:cubicBezTo>
                  <a:pt x="13143" y="10821"/>
                  <a:pt x="13147" y="10809"/>
                  <a:pt x="13171" y="10790"/>
                </a:cubicBezTo>
                <a:cubicBezTo>
                  <a:pt x="13100" y="10790"/>
                  <a:pt x="13116" y="10811"/>
                  <a:pt x="13072" y="10864"/>
                </a:cubicBezTo>
                <a:cubicBezTo>
                  <a:pt x="13000" y="10951"/>
                  <a:pt x="12975" y="11044"/>
                  <a:pt x="12998" y="11162"/>
                </a:cubicBezTo>
                <a:cubicBezTo>
                  <a:pt x="13014" y="11243"/>
                  <a:pt x="13081" y="11298"/>
                  <a:pt x="13146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02160" y="3821040"/>
            <a:ext cx="189000" cy="17136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5007" y="11063"/>
                </a:moveTo>
                <a:cubicBezTo>
                  <a:pt x="15018" y="11096"/>
                  <a:pt x="15058" y="11091"/>
                  <a:pt x="15081" y="11063"/>
                </a:cubicBezTo>
                <a:cubicBezTo>
                  <a:pt x="15142" y="10988"/>
                  <a:pt x="15219" y="10948"/>
                  <a:pt x="15280" y="10864"/>
                </a:cubicBezTo>
                <a:cubicBezTo>
                  <a:pt x="15334" y="10790"/>
                  <a:pt x="15395" y="10736"/>
                  <a:pt x="15404" y="10641"/>
                </a:cubicBezTo>
                <a:cubicBezTo>
                  <a:pt x="15404" y="10633"/>
                  <a:pt x="15404" y="10624"/>
                  <a:pt x="15404" y="10616"/>
                </a:cubicBezTo>
                <a:cubicBezTo>
                  <a:pt x="15316" y="10616"/>
                  <a:pt x="15264" y="10644"/>
                  <a:pt x="15205" y="10716"/>
                </a:cubicBezTo>
                <a:cubicBezTo>
                  <a:pt x="15132" y="10805"/>
                  <a:pt x="15107" y="10906"/>
                  <a:pt x="15156" y="11013"/>
                </a:cubicBezTo>
                <a:cubicBezTo>
                  <a:pt x="15183" y="11072"/>
                  <a:pt x="15301" y="11095"/>
                  <a:pt x="15354" y="11088"/>
                </a:cubicBezTo>
                <a:cubicBezTo>
                  <a:pt x="15444" y="11065"/>
                  <a:pt x="15468" y="11057"/>
                  <a:pt x="15528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69000" y="3911760"/>
            <a:ext cx="71280" cy="27000"/>
          </a:xfrm>
          <a:custGeom>
            <a:avLst/>
            <a:gdLst/>
            <a:ahLst/>
            <a:rect l="l" t="t" r="r" b="b"/>
            <a:pathLst>
              <a:path w="199" h="76">
                <a:moveTo>
                  <a:pt x="16173" y="10889"/>
                </a:moveTo>
                <a:cubicBezTo>
                  <a:pt x="16173" y="10881"/>
                  <a:pt x="16173" y="10872"/>
                  <a:pt x="16173" y="10864"/>
                </a:cubicBezTo>
                <a:cubicBezTo>
                  <a:pt x="16123" y="10864"/>
                  <a:pt x="16074" y="10864"/>
                  <a:pt x="16024" y="10864"/>
                </a:cubicBezTo>
              </a:path>
              <a:path w="199" h="76">
                <a:moveTo>
                  <a:pt x="16123" y="10914"/>
                </a:moveTo>
                <a:cubicBezTo>
                  <a:pt x="16175" y="10914"/>
                  <a:pt x="16268" y="10918"/>
                  <a:pt x="16173" y="10939"/>
                </a:cubicBezTo>
                <a:cubicBezTo>
                  <a:pt x="16156" y="10939"/>
                  <a:pt x="16140" y="10939"/>
                  <a:pt x="16123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0760" y="3741840"/>
            <a:ext cx="34740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7289" y="10517"/>
                </a:moveTo>
                <a:cubicBezTo>
                  <a:pt x="17234" y="10499"/>
                  <a:pt x="17276" y="10482"/>
                  <a:pt x="17289" y="10443"/>
                </a:cubicBezTo>
                <a:cubicBezTo>
                  <a:pt x="17302" y="10403"/>
                  <a:pt x="17336" y="10397"/>
                  <a:pt x="17388" y="10393"/>
                </a:cubicBezTo>
                <a:cubicBezTo>
                  <a:pt x="17468" y="10386"/>
                  <a:pt x="17502" y="10477"/>
                  <a:pt x="17512" y="10542"/>
                </a:cubicBezTo>
                <a:cubicBezTo>
                  <a:pt x="17524" y="10619"/>
                  <a:pt x="17521" y="10755"/>
                  <a:pt x="17462" y="10815"/>
                </a:cubicBezTo>
                <a:cubicBezTo>
                  <a:pt x="17411" y="10866"/>
                  <a:pt x="17350" y="10877"/>
                  <a:pt x="17289" y="10840"/>
                </a:cubicBezTo>
                <a:cubicBezTo>
                  <a:pt x="17219" y="10797"/>
                  <a:pt x="17199" y="10715"/>
                  <a:pt x="17190" y="10641"/>
                </a:cubicBezTo>
                <a:cubicBezTo>
                  <a:pt x="17180" y="10559"/>
                  <a:pt x="17215" y="10503"/>
                  <a:pt x="17264" y="10443"/>
                </a:cubicBezTo>
                <a:cubicBezTo>
                  <a:pt x="17375" y="10457"/>
                  <a:pt x="17420" y="10505"/>
                  <a:pt x="17462" y="10616"/>
                </a:cubicBezTo>
                <a:cubicBezTo>
                  <a:pt x="17496" y="10705"/>
                  <a:pt x="17522" y="10904"/>
                  <a:pt x="17462" y="10988"/>
                </a:cubicBezTo>
                <a:cubicBezTo>
                  <a:pt x="17408" y="11063"/>
                  <a:pt x="17275" y="11029"/>
                  <a:pt x="17214" y="10988"/>
                </a:cubicBezTo>
                <a:cubicBezTo>
                  <a:pt x="17137" y="10937"/>
                  <a:pt x="17147" y="10869"/>
                  <a:pt x="17140" y="10790"/>
                </a:cubicBezTo>
              </a:path>
              <a:path w="968" h="646">
                <a:moveTo>
                  <a:pt x="17760" y="10889"/>
                </a:moveTo>
                <a:cubicBezTo>
                  <a:pt x="17760" y="10914"/>
                  <a:pt x="17760" y="10922"/>
                  <a:pt x="17760" y="10939"/>
                </a:cubicBezTo>
                <a:cubicBezTo>
                  <a:pt x="17760" y="10877"/>
                  <a:pt x="17751" y="10820"/>
                  <a:pt x="17785" y="10765"/>
                </a:cubicBezTo>
                <a:cubicBezTo>
                  <a:pt x="17832" y="10689"/>
                  <a:pt x="17880" y="10691"/>
                  <a:pt x="17959" y="10691"/>
                </a:cubicBezTo>
                <a:cubicBezTo>
                  <a:pt x="18008" y="10691"/>
                  <a:pt x="18058" y="10691"/>
                  <a:pt x="18107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42000" y="4313160"/>
            <a:ext cx="88920" cy="54000"/>
          </a:xfrm>
          <a:custGeom>
            <a:avLst/>
            <a:gdLst/>
            <a:ahLst/>
            <a:rect l="l" t="t" r="r" b="b"/>
            <a:pathLst>
              <a:path w="249" h="149">
                <a:moveTo>
                  <a:pt x="16173" y="11981"/>
                </a:moveTo>
                <a:cubicBezTo>
                  <a:pt x="16181" y="11981"/>
                  <a:pt x="16189" y="11981"/>
                  <a:pt x="16197" y="11981"/>
                </a:cubicBezTo>
                <a:cubicBezTo>
                  <a:pt x="16114" y="11981"/>
                  <a:pt x="16032" y="11981"/>
                  <a:pt x="15949" y="11981"/>
                </a:cubicBezTo>
              </a:path>
              <a:path w="249" h="149">
                <a:moveTo>
                  <a:pt x="16123" y="12080"/>
                </a:moveTo>
                <a:cubicBezTo>
                  <a:pt x="16140" y="12080"/>
                  <a:pt x="16156" y="12080"/>
                  <a:pt x="16173" y="12080"/>
                </a:cubicBezTo>
                <a:cubicBezTo>
                  <a:pt x="16161" y="12129"/>
                  <a:pt x="16148" y="12129"/>
                  <a:pt x="16098" y="12129"/>
                </a:cubicBezTo>
                <a:cubicBezTo>
                  <a:pt x="16082" y="12129"/>
                  <a:pt x="16065" y="12129"/>
                  <a:pt x="16049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61040" y="4152960"/>
            <a:ext cx="3571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17115" y="11733"/>
                </a:moveTo>
                <a:cubicBezTo>
                  <a:pt x="17115" y="11757"/>
                  <a:pt x="17115" y="11766"/>
                  <a:pt x="17115" y="11782"/>
                </a:cubicBezTo>
                <a:cubicBezTo>
                  <a:pt x="17115" y="11720"/>
                  <a:pt x="17102" y="11656"/>
                  <a:pt x="17140" y="11609"/>
                </a:cubicBezTo>
                <a:cubicBezTo>
                  <a:pt x="17181" y="11558"/>
                  <a:pt x="17274" y="11518"/>
                  <a:pt x="17338" y="11534"/>
                </a:cubicBezTo>
                <a:cubicBezTo>
                  <a:pt x="17425" y="11556"/>
                  <a:pt x="17391" y="11690"/>
                  <a:pt x="17388" y="11733"/>
                </a:cubicBezTo>
                <a:cubicBezTo>
                  <a:pt x="17381" y="11836"/>
                  <a:pt x="17350" y="11918"/>
                  <a:pt x="17289" y="12005"/>
                </a:cubicBezTo>
                <a:cubicBezTo>
                  <a:pt x="17264" y="12041"/>
                  <a:pt x="17264" y="12035"/>
                  <a:pt x="17264" y="12080"/>
                </a:cubicBezTo>
                <a:cubicBezTo>
                  <a:pt x="17307" y="12080"/>
                  <a:pt x="17349" y="12069"/>
                  <a:pt x="17388" y="12055"/>
                </a:cubicBezTo>
                <a:cubicBezTo>
                  <a:pt x="17448" y="12034"/>
                  <a:pt x="17472" y="12030"/>
                  <a:pt x="17537" y="12030"/>
                </a:cubicBezTo>
              </a:path>
              <a:path w="993" h="547">
                <a:moveTo>
                  <a:pt x="17835" y="11782"/>
                </a:moveTo>
                <a:cubicBezTo>
                  <a:pt x="17859" y="11782"/>
                  <a:pt x="17868" y="11782"/>
                  <a:pt x="17884" y="11782"/>
                </a:cubicBezTo>
                <a:cubicBezTo>
                  <a:pt x="17846" y="11821"/>
                  <a:pt x="17791" y="11862"/>
                  <a:pt x="17760" y="11906"/>
                </a:cubicBezTo>
                <a:cubicBezTo>
                  <a:pt x="17738" y="11937"/>
                  <a:pt x="17719" y="11972"/>
                  <a:pt x="17711" y="12005"/>
                </a:cubicBezTo>
              </a:path>
              <a:path w="993" h="547">
                <a:moveTo>
                  <a:pt x="17835" y="11931"/>
                </a:moveTo>
                <a:cubicBezTo>
                  <a:pt x="17843" y="11923"/>
                  <a:pt x="17851" y="11914"/>
                  <a:pt x="17859" y="11906"/>
                </a:cubicBezTo>
                <a:cubicBezTo>
                  <a:pt x="17810" y="11906"/>
                  <a:pt x="17760" y="11906"/>
                  <a:pt x="17711" y="11906"/>
                </a:cubicBezTo>
              </a:path>
              <a:path w="993" h="547">
                <a:moveTo>
                  <a:pt x="18058" y="11683"/>
                </a:moveTo>
                <a:cubicBezTo>
                  <a:pt x="18066" y="11675"/>
                  <a:pt x="18075" y="11666"/>
                  <a:pt x="18083" y="11658"/>
                </a:cubicBezTo>
                <a:cubicBezTo>
                  <a:pt x="18094" y="11703"/>
                  <a:pt x="18119" y="11727"/>
                  <a:pt x="18107" y="11782"/>
                </a:cubicBezTo>
                <a:cubicBezTo>
                  <a:pt x="18089" y="11864"/>
                  <a:pt x="18083" y="11920"/>
                  <a:pt x="18083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6160" y="4170240"/>
            <a:ext cx="142920" cy="1796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8405" y="11708"/>
                </a:moveTo>
                <a:cubicBezTo>
                  <a:pt x="18461" y="11670"/>
                  <a:pt x="18464" y="11653"/>
                  <a:pt x="18504" y="11658"/>
                </a:cubicBezTo>
                <a:cubicBezTo>
                  <a:pt x="18470" y="11702"/>
                  <a:pt x="18434" y="11750"/>
                  <a:pt x="18430" y="11807"/>
                </a:cubicBezTo>
                <a:cubicBezTo>
                  <a:pt x="18425" y="11882"/>
                  <a:pt x="18427" y="11901"/>
                  <a:pt x="18504" y="11906"/>
                </a:cubicBezTo>
                <a:cubicBezTo>
                  <a:pt x="18561" y="11909"/>
                  <a:pt x="18612" y="11919"/>
                  <a:pt x="18653" y="11956"/>
                </a:cubicBezTo>
                <a:cubicBezTo>
                  <a:pt x="18681" y="11981"/>
                  <a:pt x="18706" y="12059"/>
                  <a:pt x="18653" y="12080"/>
                </a:cubicBezTo>
                <a:cubicBezTo>
                  <a:pt x="18605" y="12099"/>
                  <a:pt x="18508" y="12080"/>
                  <a:pt x="18455" y="12080"/>
                </a:cubicBezTo>
              </a:path>
              <a:path w="398" h="497">
                <a:moveTo>
                  <a:pt x="18728" y="11609"/>
                </a:moveTo>
                <a:cubicBezTo>
                  <a:pt x="18796" y="11579"/>
                  <a:pt x="18818" y="11557"/>
                  <a:pt x="18728" y="11584"/>
                </a:cubicBezTo>
                <a:cubicBezTo>
                  <a:pt x="18680" y="11608"/>
                  <a:pt x="18665" y="11616"/>
                  <a:pt x="18628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72200" y="4205160"/>
            <a:ext cx="7164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19769" y="11683"/>
                </a:moveTo>
                <a:cubicBezTo>
                  <a:pt x="19794" y="11683"/>
                  <a:pt x="19802" y="11683"/>
                  <a:pt x="19819" y="11683"/>
                </a:cubicBezTo>
                <a:cubicBezTo>
                  <a:pt x="19755" y="11683"/>
                  <a:pt x="19695" y="11670"/>
                  <a:pt x="19645" y="11708"/>
                </a:cubicBezTo>
              </a:path>
              <a:path w="200" h="224">
                <a:moveTo>
                  <a:pt x="19769" y="11807"/>
                </a:moveTo>
                <a:cubicBezTo>
                  <a:pt x="19810" y="11827"/>
                  <a:pt x="19816" y="11836"/>
                  <a:pt x="19844" y="11832"/>
                </a:cubicBezTo>
                <a:cubicBezTo>
                  <a:pt x="19832" y="11881"/>
                  <a:pt x="19819" y="11881"/>
                  <a:pt x="19769" y="11881"/>
                </a:cubicBezTo>
                <a:cubicBezTo>
                  <a:pt x="19734" y="11881"/>
                  <a:pt x="19717" y="11886"/>
                  <a:pt x="19695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69120" y="4106880"/>
            <a:ext cx="303120" cy="206280"/>
          </a:xfrm>
          <a:custGeom>
            <a:avLst/>
            <a:gdLst/>
            <a:ahLst/>
            <a:rect l="l" t="t" r="r" b="b"/>
            <a:pathLst>
              <a:path w="844" h="572">
                <a:moveTo>
                  <a:pt x="20216" y="11559"/>
                </a:moveTo>
                <a:cubicBezTo>
                  <a:pt x="20208" y="11559"/>
                  <a:pt x="20199" y="11559"/>
                  <a:pt x="20191" y="11559"/>
                </a:cubicBezTo>
                <a:cubicBezTo>
                  <a:pt x="20200" y="11522"/>
                  <a:pt x="20229" y="11483"/>
                  <a:pt x="20265" y="11460"/>
                </a:cubicBezTo>
                <a:cubicBezTo>
                  <a:pt x="20300" y="11438"/>
                  <a:pt x="20395" y="11381"/>
                  <a:pt x="20439" y="11410"/>
                </a:cubicBezTo>
                <a:cubicBezTo>
                  <a:pt x="20490" y="11444"/>
                  <a:pt x="20512" y="11524"/>
                  <a:pt x="20489" y="11584"/>
                </a:cubicBezTo>
                <a:cubicBezTo>
                  <a:pt x="20463" y="11652"/>
                  <a:pt x="20355" y="11684"/>
                  <a:pt x="20315" y="11733"/>
                </a:cubicBezTo>
                <a:cubicBezTo>
                  <a:pt x="20284" y="11771"/>
                  <a:pt x="20333" y="11837"/>
                  <a:pt x="20365" y="11857"/>
                </a:cubicBezTo>
                <a:cubicBezTo>
                  <a:pt x="20425" y="11895"/>
                  <a:pt x="20482" y="11872"/>
                  <a:pt x="20538" y="11906"/>
                </a:cubicBezTo>
                <a:cubicBezTo>
                  <a:pt x="20520" y="11979"/>
                  <a:pt x="20500" y="11938"/>
                  <a:pt x="20439" y="11956"/>
                </a:cubicBezTo>
                <a:cubicBezTo>
                  <a:pt x="20375" y="11975"/>
                  <a:pt x="20334" y="11981"/>
                  <a:pt x="20265" y="11981"/>
                </a:cubicBezTo>
              </a:path>
              <a:path w="844" h="572">
                <a:moveTo>
                  <a:pt x="20786" y="11584"/>
                </a:moveTo>
                <a:cubicBezTo>
                  <a:pt x="20775" y="11619"/>
                  <a:pt x="20779" y="11609"/>
                  <a:pt x="20737" y="11609"/>
                </a:cubicBezTo>
                <a:cubicBezTo>
                  <a:pt x="20737" y="11559"/>
                  <a:pt x="20732" y="11530"/>
                  <a:pt x="20762" y="11485"/>
                </a:cubicBezTo>
                <a:cubicBezTo>
                  <a:pt x="20790" y="11442"/>
                  <a:pt x="20836" y="11413"/>
                  <a:pt x="20886" y="11410"/>
                </a:cubicBezTo>
                <a:cubicBezTo>
                  <a:pt x="20967" y="11405"/>
                  <a:pt x="21022" y="11482"/>
                  <a:pt x="21034" y="11559"/>
                </a:cubicBezTo>
                <a:cubicBezTo>
                  <a:pt x="21048" y="11648"/>
                  <a:pt x="21049" y="11798"/>
                  <a:pt x="21010" y="11881"/>
                </a:cubicBezTo>
                <a:cubicBezTo>
                  <a:pt x="20979" y="11948"/>
                  <a:pt x="20904" y="11927"/>
                  <a:pt x="20861" y="11881"/>
                </a:cubicBezTo>
                <a:cubicBezTo>
                  <a:pt x="20810" y="11827"/>
                  <a:pt x="20790" y="11727"/>
                  <a:pt x="20786" y="11658"/>
                </a:cubicBezTo>
                <a:cubicBezTo>
                  <a:pt x="20786" y="11617"/>
                  <a:pt x="20786" y="11609"/>
                  <a:pt x="20786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705800" y="4214880"/>
            <a:ext cx="314280" cy="98280"/>
          </a:xfrm>
          <a:custGeom>
            <a:avLst/>
            <a:gdLst/>
            <a:ahLst/>
            <a:rect l="l" t="t" r="r" b="b"/>
            <a:pathLst>
              <a:path w="870" h="274">
                <a:moveTo>
                  <a:pt x="21530" y="11733"/>
                </a:moveTo>
                <a:cubicBezTo>
                  <a:pt x="21555" y="11733"/>
                  <a:pt x="21563" y="11733"/>
                  <a:pt x="21555" y="11708"/>
                </a:cubicBezTo>
                <a:cubicBezTo>
                  <a:pt x="21517" y="11718"/>
                  <a:pt x="21457" y="11745"/>
                  <a:pt x="21431" y="11782"/>
                </a:cubicBezTo>
                <a:cubicBezTo>
                  <a:pt x="21393" y="11836"/>
                  <a:pt x="21393" y="11908"/>
                  <a:pt x="21431" y="11956"/>
                </a:cubicBezTo>
                <a:cubicBezTo>
                  <a:pt x="21454" y="11985"/>
                  <a:pt x="21543" y="11996"/>
                  <a:pt x="21580" y="11981"/>
                </a:cubicBezTo>
                <a:cubicBezTo>
                  <a:pt x="21613" y="11967"/>
                  <a:pt x="21650" y="11929"/>
                  <a:pt x="21679" y="11906"/>
                </a:cubicBezTo>
              </a:path>
              <a:path w="870" h="274">
                <a:moveTo>
                  <a:pt x="21779" y="11832"/>
                </a:moveTo>
                <a:cubicBezTo>
                  <a:pt x="21779" y="11824"/>
                  <a:pt x="21779" y="11815"/>
                  <a:pt x="21779" y="11807"/>
                </a:cubicBezTo>
                <a:cubicBezTo>
                  <a:pt x="21806" y="11845"/>
                  <a:pt x="21803" y="11859"/>
                  <a:pt x="21803" y="11906"/>
                </a:cubicBezTo>
                <a:cubicBezTo>
                  <a:pt x="21803" y="11931"/>
                  <a:pt x="21803" y="11939"/>
                  <a:pt x="21828" y="11931"/>
                </a:cubicBezTo>
                <a:cubicBezTo>
                  <a:pt x="21828" y="11873"/>
                  <a:pt x="21850" y="11854"/>
                  <a:pt x="21878" y="11807"/>
                </a:cubicBezTo>
                <a:cubicBezTo>
                  <a:pt x="21909" y="11756"/>
                  <a:pt x="21920" y="11722"/>
                  <a:pt x="21977" y="11708"/>
                </a:cubicBezTo>
                <a:cubicBezTo>
                  <a:pt x="21999" y="11758"/>
                  <a:pt x="22016" y="11804"/>
                  <a:pt x="22027" y="11857"/>
                </a:cubicBezTo>
                <a:cubicBezTo>
                  <a:pt x="22056" y="11847"/>
                  <a:pt x="22069" y="11814"/>
                  <a:pt x="22101" y="11782"/>
                </a:cubicBezTo>
                <a:cubicBezTo>
                  <a:pt x="22109" y="11774"/>
                  <a:pt x="22118" y="11765"/>
                  <a:pt x="22126" y="11757"/>
                </a:cubicBezTo>
                <a:cubicBezTo>
                  <a:pt x="22181" y="11802"/>
                  <a:pt x="22219" y="11842"/>
                  <a:pt x="22275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3280" y="4705200"/>
            <a:ext cx="258840" cy="206640"/>
          </a:xfrm>
          <a:custGeom>
            <a:avLst/>
            <a:gdLst/>
            <a:ahLst/>
            <a:rect l="l" t="t" r="r" b="b"/>
            <a:pathLst>
              <a:path w="721" h="572">
                <a:moveTo>
                  <a:pt x="13221" y="13271"/>
                </a:moveTo>
                <a:cubicBezTo>
                  <a:pt x="13221" y="13238"/>
                  <a:pt x="13221" y="13204"/>
                  <a:pt x="13221" y="13171"/>
                </a:cubicBezTo>
                <a:cubicBezTo>
                  <a:pt x="13221" y="13244"/>
                  <a:pt x="13207" y="13302"/>
                  <a:pt x="13196" y="13370"/>
                </a:cubicBezTo>
                <a:cubicBezTo>
                  <a:pt x="13186" y="13430"/>
                  <a:pt x="13171" y="13480"/>
                  <a:pt x="13171" y="13543"/>
                </a:cubicBezTo>
                <a:cubicBezTo>
                  <a:pt x="13171" y="13551"/>
                  <a:pt x="13171" y="13560"/>
                  <a:pt x="13171" y="13568"/>
                </a:cubicBezTo>
                <a:cubicBezTo>
                  <a:pt x="13178" y="13547"/>
                  <a:pt x="13212" y="13488"/>
                  <a:pt x="13246" y="13469"/>
                </a:cubicBezTo>
                <a:cubicBezTo>
                  <a:pt x="13272" y="13455"/>
                  <a:pt x="13332" y="13469"/>
                  <a:pt x="13345" y="13494"/>
                </a:cubicBezTo>
                <a:cubicBezTo>
                  <a:pt x="13357" y="13519"/>
                  <a:pt x="13351" y="13608"/>
                  <a:pt x="13320" y="13618"/>
                </a:cubicBezTo>
                <a:cubicBezTo>
                  <a:pt x="13273" y="13633"/>
                  <a:pt x="13236" y="13610"/>
                  <a:pt x="13196" y="13593"/>
                </a:cubicBezTo>
              </a:path>
              <a:path w="721" h="572">
                <a:moveTo>
                  <a:pt x="13345" y="13146"/>
                </a:moveTo>
                <a:cubicBezTo>
                  <a:pt x="13383" y="13119"/>
                  <a:pt x="13397" y="13122"/>
                  <a:pt x="13444" y="13122"/>
                </a:cubicBezTo>
                <a:cubicBezTo>
                  <a:pt x="13508" y="13122"/>
                  <a:pt x="13509" y="13110"/>
                  <a:pt x="13543" y="13171"/>
                </a:cubicBezTo>
                <a:cubicBezTo>
                  <a:pt x="13579" y="13235"/>
                  <a:pt x="13631" y="13319"/>
                  <a:pt x="13618" y="13395"/>
                </a:cubicBezTo>
                <a:cubicBezTo>
                  <a:pt x="13611" y="13437"/>
                  <a:pt x="13551" y="13563"/>
                  <a:pt x="13519" y="13593"/>
                </a:cubicBezTo>
                <a:cubicBezTo>
                  <a:pt x="13469" y="13618"/>
                  <a:pt x="13452" y="13626"/>
                  <a:pt x="13419" y="13643"/>
                </a:cubicBezTo>
              </a:path>
              <a:path w="721" h="572">
                <a:moveTo>
                  <a:pt x="12973" y="13097"/>
                </a:moveTo>
                <a:cubicBezTo>
                  <a:pt x="12973" y="13042"/>
                  <a:pt x="12934" y="13169"/>
                  <a:pt x="12923" y="13196"/>
                </a:cubicBezTo>
                <a:cubicBezTo>
                  <a:pt x="12885" y="13294"/>
                  <a:pt x="12887" y="13396"/>
                  <a:pt x="12923" y="13494"/>
                </a:cubicBezTo>
                <a:cubicBezTo>
                  <a:pt x="12947" y="13559"/>
                  <a:pt x="12984" y="13580"/>
                  <a:pt x="13047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89680" y="4687920"/>
            <a:ext cx="13464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4163" y="13494"/>
                </a:moveTo>
                <a:cubicBezTo>
                  <a:pt x="14138" y="13529"/>
                  <a:pt x="14139" y="13525"/>
                  <a:pt x="14139" y="13568"/>
                </a:cubicBezTo>
                <a:cubicBezTo>
                  <a:pt x="14172" y="13557"/>
                  <a:pt x="14195" y="13490"/>
                  <a:pt x="14213" y="13444"/>
                </a:cubicBezTo>
                <a:cubicBezTo>
                  <a:pt x="14253" y="13343"/>
                  <a:pt x="14266" y="13247"/>
                  <a:pt x="14288" y="13146"/>
                </a:cubicBezTo>
                <a:cubicBezTo>
                  <a:pt x="14303" y="13079"/>
                  <a:pt x="14325" y="13037"/>
                  <a:pt x="14387" y="13022"/>
                </a:cubicBezTo>
                <a:cubicBezTo>
                  <a:pt x="14439" y="13127"/>
                  <a:pt x="14442" y="13207"/>
                  <a:pt x="14461" y="13320"/>
                </a:cubicBezTo>
                <a:cubicBezTo>
                  <a:pt x="14476" y="13407"/>
                  <a:pt x="14475" y="13522"/>
                  <a:pt x="14511" y="13593"/>
                </a:cubicBezTo>
              </a:path>
              <a:path w="373" h="572">
                <a:moveTo>
                  <a:pt x="14486" y="13345"/>
                </a:moveTo>
                <a:cubicBezTo>
                  <a:pt x="14428" y="13320"/>
                  <a:pt x="14401" y="13320"/>
                  <a:pt x="14337" y="13320"/>
                </a:cubicBezTo>
                <a:cubicBezTo>
                  <a:pt x="14329" y="13320"/>
                  <a:pt x="14320" y="13320"/>
                  <a:pt x="14312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40240" y="4803840"/>
            <a:ext cx="4464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4908" y="13345"/>
                </a:moveTo>
                <a:cubicBezTo>
                  <a:pt x="14932" y="13345"/>
                  <a:pt x="14941" y="13345"/>
                  <a:pt x="14957" y="13345"/>
                </a:cubicBezTo>
                <a:cubicBezTo>
                  <a:pt x="14916" y="13345"/>
                  <a:pt x="14874" y="13345"/>
                  <a:pt x="14833" y="13345"/>
                </a:cubicBezTo>
              </a:path>
              <a:path w="125" h="75">
                <a:moveTo>
                  <a:pt x="14908" y="13345"/>
                </a:moveTo>
                <a:cubicBezTo>
                  <a:pt x="14945" y="13401"/>
                  <a:pt x="14983" y="13426"/>
                  <a:pt x="14932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43720" y="4581360"/>
            <a:ext cx="214200" cy="357480"/>
          </a:xfrm>
          <a:custGeom>
            <a:avLst/>
            <a:gdLst/>
            <a:ahLst/>
            <a:rect l="l" t="t" r="r" b="b"/>
            <a:pathLst>
              <a:path w="596" h="993">
                <a:moveTo>
                  <a:pt x="15850" y="12799"/>
                </a:moveTo>
                <a:cubicBezTo>
                  <a:pt x="15850" y="12758"/>
                  <a:pt x="15842" y="12742"/>
                  <a:pt x="15875" y="12750"/>
                </a:cubicBezTo>
                <a:cubicBezTo>
                  <a:pt x="15875" y="12693"/>
                  <a:pt x="15875" y="12895"/>
                  <a:pt x="15875" y="12923"/>
                </a:cubicBezTo>
                <a:cubicBezTo>
                  <a:pt x="15875" y="12997"/>
                  <a:pt x="15875" y="13072"/>
                  <a:pt x="15875" y="13146"/>
                </a:cubicBezTo>
              </a:path>
              <a:path w="596" h="993">
                <a:moveTo>
                  <a:pt x="16173" y="13146"/>
                </a:moveTo>
                <a:cubicBezTo>
                  <a:pt x="16058" y="13146"/>
                  <a:pt x="15930" y="13126"/>
                  <a:pt x="15825" y="13171"/>
                </a:cubicBezTo>
                <a:cubicBezTo>
                  <a:pt x="15773" y="13193"/>
                  <a:pt x="15726" y="13233"/>
                  <a:pt x="15677" y="13246"/>
                </a:cubicBezTo>
              </a:path>
              <a:path w="596" h="993">
                <a:moveTo>
                  <a:pt x="15900" y="13494"/>
                </a:moveTo>
                <a:cubicBezTo>
                  <a:pt x="15883" y="13494"/>
                  <a:pt x="15867" y="13494"/>
                  <a:pt x="15850" y="13494"/>
                </a:cubicBezTo>
                <a:cubicBezTo>
                  <a:pt x="15860" y="13455"/>
                  <a:pt x="15888" y="13397"/>
                  <a:pt x="15925" y="13370"/>
                </a:cubicBezTo>
                <a:cubicBezTo>
                  <a:pt x="15970" y="13338"/>
                  <a:pt x="16039" y="13328"/>
                  <a:pt x="16049" y="13395"/>
                </a:cubicBezTo>
                <a:cubicBezTo>
                  <a:pt x="16062" y="13483"/>
                  <a:pt x="16019" y="13501"/>
                  <a:pt x="15974" y="13568"/>
                </a:cubicBezTo>
                <a:cubicBezTo>
                  <a:pt x="15947" y="13608"/>
                  <a:pt x="15924" y="13650"/>
                  <a:pt x="15900" y="13692"/>
                </a:cubicBezTo>
                <a:cubicBezTo>
                  <a:pt x="15960" y="13738"/>
                  <a:pt x="15980" y="13704"/>
                  <a:pt x="16049" y="13692"/>
                </a:cubicBezTo>
                <a:cubicBezTo>
                  <a:pt x="16115" y="13681"/>
                  <a:pt x="16158" y="13648"/>
                  <a:pt x="16222" y="13643"/>
                </a:cubicBezTo>
                <a:cubicBezTo>
                  <a:pt x="16247" y="13643"/>
                  <a:pt x="16255" y="13643"/>
                  <a:pt x="16272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45120" y="4670280"/>
            <a:ext cx="135000" cy="24156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6966" y="13122"/>
                </a:moveTo>
                <a:cubicBezTo>
                  <a:pt x="16966" y="13077"/>
                  <a:pt x="16946" y="13062"/>
                  <a:pt x="16942" y="13022"/>
                </a:cubicBezTo>
                <a:cubicBezTo>
                  <a:pt x="16942" y="12998"/>
                  <a:pt x="16942" y="12989"/>
                  <a:pt x="16942" y="12973"/>
                </a:cubicBezTo>
                <a:cubicBezTo>
                  <a:pt x="16998" y="12973"/>
                  <a:pt x="17048" y="12961"/>
                  <a:pt x="17090" y="12998"/>
                </a:cubicBezTo>
                <a:cubicBezTo>
                  <a:pt x="17147" y="13048"/>
                  <a:pt x="17140" y="13101"/>
                  <a:pt x="17140" y="13171"/>
                </a:cubicBezTo>
                <a:cubicBezTo>
                  <a:pt x="17140" y="13234"/>
                  <a:pt x="17151" y="13291"/>
                  <a:pt x="17115" y="13345"/>
                </a:cubicBezTo>
                <a:cubicBezTo>
                  <a:pt x="17087" y="13386"/>
                  <a:pt x="17035" y="13370"/>
                  <a:pt x="16991" y="13370"/>
                </a:cubicBezTo>
                <a:cubicBezTo>
                  <a:pt x="16931" y="13370"/>
                  <a:pt x="16876" y="13349"/>
                  <a:pt x="16842" y="13295"/>
                </a:cubicBezTo>
                <a:cubicBezTo>
                  <a:pt x="16810" y="13244"/>
                  <a:pt x="16805" y="13192"/>
                  <a:pt x="16842" y="13146"/>
                </a:cubicBezTo>
                <a:cubicBezTo>
                  <a:pt x="16894" y="13081"/>
                  <a:pt x="16920" y="13098"/>
                  <a:pt x="16991" y="13122"/>
                </a:cubicBezTo>
                <a:cubicBezTo>
                  <a:pt x="17102" y="13160"/>
                  <a:pt x="17147" y="13226"/>
                  <a:pt x="17165" y="13345"/>
                </a:cubicBezTo>
                <a:cubicBezTo>
                  <a:pt x="17178" y="13431"/>
                  <a:pt x="17181" y="13535"/>
                  <a:pt x="17115" y="13593"/>
                </a:cubicBezTo>
                <a:cubicBezTo>
                  <a:pt x="17031" y="13667"/>
                  <a:pt x="16969" y="13645"/>
                  <a:pt x="16892" y="13593"/>
                </a:cubicBezTo>
                <a:cubicBezTo>
                  <a:pt x="16795" y="13528"/>
                  <a:pt x="16803" y="13527"/>
                  <a:pt x="16793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11960" y="4670280"/>
            <a:ext cx="268200" cy="1796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7835" y="13295"/>
                </a:moveTo>
                <a:cubicBezTo>
                  <a:pt x="17835" y="13353"/>
                  <a:pt x="17835" y="13411"/>
                  <a:pt x="17835" y="13469"/>
                </a:cubicBezTo>
                <a:cubicBezTo>
                  <a:pt x="17822" y="13416"/>
                  <a:pt x="17810" y="13384"/>
                  <a:pt x="17810" y="13320"/>
                </a:cubicBezTo>
                <a:cubicBezTo>
                  <a:pt x="17810" y="13240"/>
                  <a:pt x="17844" y="13210"/>
                  <a:pt x="17909" y="13171"/>
                </a:cubicBezTo>
                <a:cubicBezTo>
                  <a:pt x="17963" y="13139"/>
                  <a:pt x="18013" y="13131"/>
                  <a:pt x="18058" y="13171"/>
                </a:cubicBezTo>
                <a:cubicBezTo>
                  <a:pt x="18081" y="13194"/>
                  <a:pt x="18089" y="13198"/>
                  <a:pt x="18083" y="13221"/>
                </a:cubicBezTo>
              </a:path>
              <a:path w="745" h="497">
                <a:moveTo>
                  <a:pt x="18306" y="13072"/>
                </a:moveTo>
                <a:cubicBezTo>
                  <a:pt x="18278" y="13063"/>
                  <a:pt x="18258" y="13021"/>
                  <a:pt x="18306" y="12998"/>
                </a:cubicBezTo>
                <a:cubicBezTo>
                  <a:pt x="18336" y="12983"/>
                  <a:pt x="18417" y="12957"/>
                  <a:pt x="18455" y="12973"/>
                </a:cubicBezTo>
                <a:cubicBezTo>
                  <a:pt x="18493" y="12989"/>
                  <a:pt x="18490" y="13093"/>
                  <a:pt x="18479" y="13122"/>
                </a:cubicBezTo>
                <a:cubicBezTo>
                  <a:pt x="18470" y="13147"/>
                  <a:pt x="18416" y="13190"/>
                  <a:pt x="18430" y="13221"/>
                </a:cubicBezTo>
                <a:cubicBezTo>
                  <a:pt x="18460" y="13289"/>
                  <a:pt x="18503" y="13268"/>
                  <a:pt x="18554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40240" y="5456160"/>
            <a:ext cx="71640" cy="9864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14957" y="15180"/>
                </a:moveTo>
                <a:cubicBezTo>
                  <a:pt x="14965" y="15180"/>
                  <a:pt x="14974" y="15180"/>
                  <a:pt x="14982" y="15180"/>
                </a:cubicBezTo>
                <a:cubicBezTo>
                  <a:pt x="14924" y="15180"/>
                  <a:pt x="14879" y="15189"/>
                  <a:pt x="14833" y="15156"/>
                </a:cubicBezTo>
              </a:path>
              <a:path w="200" h="274">
                <a:moveTo>
                  <a:pt x="14982" y="15354"/>
                </a:moveTo>
                <a:cubicBezTo>
                  <a:pt x="15005" y="15377"/>
                  <a:pt x="15009" y="15385"/>
                  <a:pt x="15032" y="15379"/>
                </a:cubicBezTo>
                <a:cubicBezTo>
                  <a:pt x="15020" y="15429"/>
                  <a:pt x="15008" y="15429"/>
                  <a:pt x="14957" y="15429"/>
                </a:cubicBezTo>
                <a:cubicBezTo>
                  <a:pt x="14924" y="15429"/>
                  <a:pt x="14908" y="15429"/>
                  <a:pt x="14883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1800" y="5295960"/>
            <a:ext cx="268200" cy="31284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15801" y="14734"/>
                </a:moveTo>
                <a:cubicBezTo>
                  <a:pt x="15801" y="14667"/>
                  <a:pt x="15801" y="14773"/>
                  <a:pt x="15801" y="14784"/>
                </a:cubicBezTo>
                <a:cubicBezTo>
                  <a:pt x="15801" y="14858"/>
                  <a:pt x="15801" y="14933"/>
                  <a:pt x="15801" y="15007"/>
                </a:cubicBezTo>
              </a:path>
              <a:path w="745" h="869">
                <a:moveTo>
                  <a:pt x="15999" y="15106"/>
                </a:moveTo>
                <a:cubicBezTo>
                  <a:pt x="15919" y="15106"/>
                  <a:pt x="15849" y="15121"/>
                  <a:pt x="15776" y="15131"/>
                </a:cubicBezTo>
                <a:cubicBezTo>
                  <a:pt x="15688" y="15143"/>
                  <a:pt x="15575" y="15102"/>
                  <a:pt x="15503" y="15156"/>
                </a:cubicBezTo>
              </a:path>
              <a:path w="745" h="869">
                <a:moveTo>
                  <a:pt x="15701" y="15329"/>
                </a:moveTo>
                <a:cubicBezTo>
                  <a:pt x="15645" y="15387"/>
                  <a:pt x="15758" y="15316"/>
                  <a:pt x="15776" y="15304"/>
                </a:cubicBezTo>
                <a:cubicBezTo>
                  <a:pt x="15836" y="15265"/>
                  <a:pt x="15852" y="15281"/>
                  <a:pt x="15900" y="15329"/>
                </a:cubicBezTo>
                <a:cubicBezTo>
                  <a:pt x="15944" y="15373"/>
                  <a:pt x="15910" y="15407"/>
                  <a:pt x="15875" y="15453"/>
                </a:cubicBezTo>
                <a:cubicBezTo>
                  <a:pt x="15848" y="15489"/>
                  <a:pt x="15808" y="15521"/>
                  <a:pt x="15776" y="15553"/>
                </a:cubicBezTo>
                <a:cubicBezTo>
                  <a:pt x="15823" y="15587"/>
                  <a:pt x="15864" y="15577"/>
                  <a:pt x="15925" y="15577"/>
                </a:cubicBezTo>
                <a:cubicBezTo>
                  <a:pt x="16032" y="15577"/>
                  <a:pt x="16140" y="15577"/>
                  <a:pt x="1624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8120" y="5224320"/>
            <a:ext cx="1046160" cy="268560"/>
          </a:xfrm>
          <a:custGeom>
            <a:avLst/>
            <a:gdLst/>
            <a:ahLst/>
            <a:rect l="l" t="t" r="r" b="b"/>
            <a:pathLst>
              <a:path w="2904" h="745">
                <a:moveTo>
                  <a:pt x="16793" y="14635"/>
                </a:moveTo>
                <a:cubicBezTo>
                  <a:pt x="16833" y="14625"/>
                  <a:pt x="16832" y="14626"/>
                  <a:pt x="16842" y="14585"/>
                </a:cubicBezTo>
                <a:cubicBezTo>
                  <a:pt x="16776" y="14602"/>
                  <a:pt x="16732" y="14663"/>
                  <a:pt x="16718" y="14734"/>
                </a:cubicBezTo>
                <a:cubicBezTo>
                  <a:pt x="16695" y="14850"/>
                  <a:pt x="16735" y="14971"/>
                  <a:pt x="16768" y="15081"/>
                </a:cubicBezTo>
                <a:cubicBezTo>
                  <a:pt x="16787" y="15145"/>
                  <a:pt x="16807" y="15201"/>
                  <a:pt x="16842" y="15255"/>
                </a:cubicBezTo>
              </a:path>
              <a:path w="2904" h="745">
                <a:moveTo>
                  <a:pt x="19248" y="14536"/>
                </a:moveTo>
                <a:cubicBezTo>
                  <a:pt x="19261" y="14498"/>
                  <a:pt x="19278" y="14511"/>
                  <a:pt x="19323" y="14511"/>
                </a:cubicBezTo>
                <a:cubicBezTo>
                  <a:pt x="19371" y="14511"/>
                  <a:pt x="19486" y="14550"/>
                  <a:pt x="19521" y="14585"/>
                </a:cubicBezTo>
                <a:cubicBezTo>
                  <a:pt x="19586" y="14650"/>
                  <a:pt x="19635" y="14792"/>
                  <a:pt x="19621" y="14883"/>
                </a:cubicBezTo>
                <a:cubicBezTo>
                  <a:pt x="19609" y="14967"/>
                  <a:pt x="19514" y="15058"/>
                  <a:pt x="19447" y="15106"/>
                </a:cubicBezTo>
                <a:cubicBezTo>
                  <a:pt x="19398" y="15142"/>
                  <a:pt x="19329" y="15156"/>
                  <a:pt x="19273" y="15180"/>
                </a:cubicBezTo>
              </a:path>
              <a:path w="2904" h="745">
                <a:moveTo>
                  <a:pt x="17140" y="14808"/>
                </a:moveTo>
                <a:cubicBezTo>
                  <a:pt x="17140" y="14816"/>
                  <a:pt x="17140" y="14825"/>
                  <a:pt x="17140" y="14833"/>
                </a:cubicBezTo>
                <a:cubicBezTo>
                  <a:pt x="17091" y="14821"/>
                  <a:pt x="17090" y="14809"/>
                  <a:pt x="17090" y="14759"/>
                </a:cubicBezTo>
                <a:cubicBezTo>
                  <a:pt x="17090" y="14693"/>
                  <a:pt x="17097" y="14690"/>
                  <a:pt x="17165" y="14684"/>
                </a:cubicBezTo>
                <a:cubicBezTo>
                  <a:pt x="17201" y="14681"/>
                  <a:pt x="17252" y="14692"/>
                  <a:pt x="17264" y="14734"/>
                </a:cubicBezTo>
                <a:cubicBezTo>
                  <a:pt x="17286" y="14810"/>
                  <a:pt x="17245" y="14891"/>
                  <a:pt x="17214" y="14957"/>
                </a:cubicBezTo>
                <a:cubicBezTo>
                  <a:pt x="17189" y="15011"/>
                  <a:pt x="17155" y="15055"/>
                  <a:pt x="17140" y="15106"/>
                </a:cubicBezTo>
                <a:cubicBezTo>
                  <a:pt x="17140" y="15131"/>
                  <a:pt x="17140" y="15139"/>
                  <a:pt x="17140" y="15156"/>
                </a:cubicBezTo>
                <a:cubicBezTo>
                  <a:pt x="17201" y="15156"/>
                  <a:pt x="17205" y="15126"/>
                  <a:pt x="17264" y="15106"/>
                </a:cubicBezTo>
                <a:cubicBezTo>
                  <a:pt x="17283" y="15100"/>
                  <a:pt x="17318" y="15106"/>
                  <a:pt x="17338" y="15106"/>
                </a:cubicBezTo>
              </a:path>
              <a:path w="2904" h="745">
                <a:moveTo>
                  <a:pt x="17462" y="14932"/>
                </a:moveTo>
                <a:cubicBezTo>
                  <a:pt x="17462" y="14924"/>
                  <a:pt x="17462" y="14916"/>
                  <a:pt x="17462" y="14908"/>
                </a:cubicBezTo>
                <a:cubicBezTo>
                  <a:pt x="17503" y="14921"/>
                  <a:pt x="17487" y="14956"/>
                  <a:pt x="17487" y="15007"/>
                </a:cubicBezTo>
                <a:cubicBezTo>
                  <a:pt x="17487" y="15048"/>
                  <a:pt x="17487" y="15090"/>
                  <a:pt x="17487" y="15131"/>
                </a:cubicBezTo>
              </a:path>
              <a:path w="2904" h="745">
                <a:moveTo>
                  <a:pt x="17636" y="14908"/>
                </a:moveTo>
                <a:cubicBezTo>
                  <a:pt x="17644" y="14900"/>
                  <a:pt x="17653" y="14891"/>
                  <a:pt x="17661" y="14883"/>
                </a:cubicBezTo>
                <a:cubicBezTo>
                  <a:pt x="17650" y="14939"/>
                  <a:pt x="17636" y="14973"/>
                  <a:pt x="17636" y="15032"/>
                </a:cubicBezTo>
                <a:cubicBezTo>
                  <a:pt x="17636" y="15089"/>
                  <a:pt x="17616" y="15148"/>
                  <a:pt x="17686" y="15156"/>
                </a:cubicBezTo>
                <a:cubicBezTo>
                  <a:pt x="17727" y="15161"/>
                  <a:pt x="17758" y="15108"/>
                  <a:pt x="17785" y="15081"/>
                </a:cubicBezTo>
              </a:path>
              <a:path w="2904" h="745">
                <a:moveTo>
                  <a:pt x="17810" y="14858"/>
                </a:moveTo>
                <a:cubicBezTo>
                  <a:pt x="17810" y="14833"/>
                  <a:pt x="17810" y="14825"/>
                  <a:pt x="17835" y="14833"/>
                </a:cubicBezTo>
                <a:cubicBezTo>
                  <a:pt x="17727" y="14833"/>
                  <a:pt x="17620" y="14833"/>
                  <a:pt x="17512" y="14833"/>
                </a:cubicBezTo>
              </a:path>
              <a:path w="2904" h="745">
                <a:moveTo>
                  <a:pt x="18107" y="14932"/>
                </a:moveTo>
                <a:cubicBezTo>
                  <a:pt x="18146" y="14923"/>
                  <a:pt x="18163" y="14908"/>
                  <a:pt x="18207" y="14908"/>
                </a:cubicBezTo>
                <a:cubicBezTo>
                  <a:pt x="18240" y="14908"/>
                  <a:pt x="18273" y="14908"/>
                  <a:pt x="18306" y="14908"/>
                </a:cubicBezTo>
              </a:path>
              <a:path w="2904" h="745">
                <a:moveTo>
                  <a:pt x="18579" y="14784"/>
                </a:moveTo>
                <a:cubicBezTo>
                  <a:pt x="18571" y="14784"/>
                  <a:pt x="18562" y="14784"/>
                  <a:pt x="18554" y="14784"/>
                </a:cubicBezTo>
                <a:cubicBezTo>
                  <a:pt x="18564" y="14754"/>
                  <a:pt x="18596" y="14742"/>
                  <a:pt x="18628" y="14709"/>
                </a:cubicBezTo>
                <a:cubicBezTo>
                  <a:pt x="18662" y="14675"/>
                  <a:pt x="18696" y="14637"/>
                  <a:pt x="18752" y="14660"/>
                </a:cubicBezTo>
                <a:cubicBezTo>
                  <a:pt x="18812" y="14684"/>
                  <a:pt x="18764" y="14773"/>
                  <a:pt x="18752" y="14808"/>
                </a:cubicBezTo>
                <a:cubicBezTo>
                  <a:pt x="18725" y="14888"/>
                  <a:pt x="18679" y="14940"/>
                  <a:pt x="18628" y="15007"/>
                </a:cubicBezTo>
                <a:cubicBezTo>
                  <a:pt x="18606" y="15029"/>
                  <a:pt x="18598" y="15034"/>
                  <a:pt x="18604" y="15056"/>
                </a:cubicBezTo>
                <a:cubicBezTo>
                  <a:pt x="18665" y="15056"/>
                  <a:pt x="18696" y="15019"/>
                  <a:pt x="18752" y="15007"/>
                </a:cubicBezTo>
                <a:cubicBezTo>
                  <a:pt x="18813" y="14993"/>
                  <a:pt x="18904" y="14997"/>
                  <a:pt x="18951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23120" y="5205240"/>
            <a:ext cx="258840" cy="23364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20365" y="14684"/>
                </a:moveTo>
                <a:cubicBezTo>
                  <a:pt x="20356" y="14649"/>
                  <a:pt x="20340" y="14549"/>
                  <a:pt x="20340" y="14585"/>
                </a:cubicBezTo>
                <a:cubicBezTo>
                  <a:pt x="20340" y="14651"/>
                  <a:pt x="20357" y="14700"/>
                  <a:pt x="20365" y="14759"/>
                </a:cubicBezTo>
                <a:cubicBezTo>
                  <a:pt x="20378" y="14859"/>
                  <a:pt x="20374" y="14960"/>
                  <a:pt x="20389" y="15056"/>
                </a:cubicBezTo>
                <a:cubicBezTo>
                  <a:pt x="20389" y="15073"/>
                  <a:pt x="20389" y="15089"/>
                  <a:pt x="20389" y="15106"/>
                </a:cubicBezTo>
              </a:path>
              <a:path w="720" h="646">
                <a:moveTo>
                  <a:pt x="20712" y="14759"/>
                </a:moveTo>
                <a:cubicBezTo>
                  <a:pt x="20719" y="14729"/>
                  <a:pt x="20730" y="14714"/>
                  <a:pt x="20737" y="14684"/>
                </a:cubicBezTo>
                <a:cubicBezTo>
                  <a:pt x="20708" y="14694"/>
                  <a:pt x="20677" y="14740"/>
                  <a:pt x="20662" y="14784"/>
                </a:cubicBezTo>
                <a:cubicBezTo>
                  <a:pt x="20662" y="14792"/>
                  <a:pt x="20662" y="14800"/>
                  <a:pt x="20662" y="14808"/>
                </a:cubicBezTo>
                <a:cubicBezTo>
                  <a:pt x="20724" y="14823"/>
                  <a:pt x="20760" y="14833"/>
                  <a:pt x="20836" y="14833"/>
                </a:cubicBezTo>
                <a:cubicBezTo>
                  <a:pt x="20874" y="14833"/>
                  <a:pt x="20987" y="14857"/>
                  <a:pt x="21010" y="14883"/>
                </a:cubicBezTo>
                <a:cubicBezTo>
                  <a:pt x="21033" y="14908"/>
                  <a:pt x="21052" y="14953"/>
                  <a:pt x="21059" y="14982"/>
                </a:cubicBezTo>
                <a:cubicBezTo>
                  <a:pt x="21012" y="15017"/>
                  <a:pt x="20972" y="15007"/>
                  <a:pt x="20910" y="15007"/>
                </a:cubicBezTo>
                <a:cubicBezTo>
                  <a:pt x="20869" y="15007"/>
                  <a:pt x="20827" y="15007"/>
                  <a:pt x="20786" y="15007"/>
                </a:cubicBezTo>
              </a:path>
              <a:path w="720" h="646">
                <a:moveTo>
                  <a:pt x="20985" y="14486"/>
                </a:moveTo>
                <a:cubicBezTo>
                  <a:pt x="20993" y="14478"/>
                  <a:pt x="21002" y="14469"/>
                  <a:pt x="21010" y="14461"/>
                </a:cubicBezTo>
                <a:cubicBezTo>
                  <a:pt x="20951" y="14461"/>
                  <a:pt x="20917" y="14467"/>
                  <a:pt x="20861" y="14486"/>
                </a:cubicBezTo>
                <a:cubicBezTo>
                  <a:pt x="20800" y="14506"/>
                  <a:pt x="20785" y="14504"/>
                  <a:pt x="20762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05800" y="52052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21406" y="14511"/>
                </a:moveTo>
                <a:cubicBezTo>
                  <a:pt x="21440" y="14500"/>
                  <a:pt x="21437" y="14476"/>
                  <a:pt x="21481" y="14461"/>
                </a:cubicBezTo>
                <a:cubicBezTo>
                  <a:pt x="21515" y="14450"/>
                  <a:pt x="21570" y="14461"/>
                  <a:pt x="21605" y="14461"/>
                </a:cubicBezTo>
                <a:cubicBezTo>
                  <a:pt x="21605" y="14524"/>
                  <a:pt x="21607" y="14553"/>
                  <a:pt x="21580" y="14610"/>
                </a:cubicBezTo>
                <a:cubicBezTo>
                  <a:pt x="21554" y="14664"/>
                  <a:pt x="21530" y="14676"/>
                  <a:pt x="21530" y="14734"/>
                </a:cubicBezTo>
                <a:cubicBezTo>
                  <a:pt x="21530" y="14742"/>
                  <a:pt x="21530" y="14751"/>
                  <a:pt x="21530" y="14759"/>
                </a:cubicBezTo>
                <a:cubicBezTo>
                  <a:pt x="21588" y="14759"/>
                  <a:pt x="21607" y="14737"/>
                  <a:pt x="21654" y="14709"/>
                </a:cubicBezTo>
                <a:cubicBezTo>
                  <a:pt x="21671" y="14701"/>
                  <a:pt x="21687" y="14692"/>
                  <a:pt x="21704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67240" y="5938920"/>
            <a:ext cx="81000" cy="619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5131" y="16495"/>
                </a:moveTo>
                <a:cubicBezTo>
                  <a:pt x="15081" y="16508"/>
                  <a:pt x="15067" y="16520"/>
                  <a:pt x="15007" y="16520"/>
                </a:cubicBezTo>
                <a:cubicBezTo>
                  <a:pt x="14974" y="16520"/>
                  <a:pt x="14941" y="16520"/>
                  <a:pt x="14908" y="16520"/>
                </a:cubicBezTo>
              </a:path>
              <a:path w="224" h="175">
                <a:moveTo>
                  <a:pt x="15081" y="16619"/>
                </a:moveTo>
                <a:cubicBezTo>
                  <a:pt x="15147" y="16619"/>
                  <a:pt x="15074" y="16655"/>
                  <a:pt x="15056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3080" y="5830920"/>
            <a:ext cx="571680" cy="196920"/>
          </a:xfrm>
          <a:custGeom>
            <a:avLst/>
            <a:gdLst/>
            <a:ahLst/>
            <a:rect l="l" t="t" r="r" b="b"/>
            <a:pathLst>
              <a:path w="1589" h="547">
                <a:moveTo>
                  <a:pt x="15801" y="16222"/>
                </a:moveTo>
                <a:cubicBezTo>
                  <a:pt x="15801" y="16276"/>
                  <a:pt x="15793" y="16324"/>
                  <a:pt x="15776" y="16371"/>
                </a:cubicBezTo>
                <a:cubicBezTo>
                  <a:pt x="15757" y="16424"/>
                  <a:pt x="15707" y="16469"/>
                  <a:pt x="15701" y="16520"/>
                </a:cubicBezTo>
                <a:cubicBezTo>
                  <a:pt x="15701" y="16545"/>
                  <a:pt x="15701" y="16553"/>
                  <a:pt x="15701" y="16570"/>
                </a:cubicBezTo>
                <a:cubicBezTo>
                  <a:pt x="15761" y="16570"/>
                  <a:pt x="15789" y="16554"/>
                  <a:pt x="15850" y="16545"/>
                </a:cubicBezTo>
                <a:cubicBezTo>
                  <a:pt x="15905" y="16537"/>
                  <a:pt x="16167" y="16522"/>
                  <a:pt x="16173" y="16570"/>
                </a:cubicBezTo>
                <a:cubicBezTo>
                  <a:pt x="16173" y="16594"/>
                  <a:pt x="16173" y="16602"/>
                  <a:pt x="16148" y="16594"/>
                </a:cubicBezTo>
              </a:path>
              <a:path w="1589" h="547">
                <a:moveTo>
                  <a:pt x="15900" y="16396"/>
                </a:moveTo>
                <a:cubicBezTo>
                  <a:pt x="15939" y="16383"/>
                  <a:pt x="15910" y="16384"/>
                  <a:pt x="15949" y="16371"/>
                </a:cubicBezTo>
                <a:cubicBezTo>
                  <a:pt x="15982" y="16382"/>
                  <a:pt x="15985" y="16423"/>
                  <a:pt x="15974" y="16470"/>
                </a:cubicBezTo>
                <a:cubicBezTo>
                  <a:pt x="15956" y="16547"/>
                  <a:pt x="15942" y="16620"/>
                  <a:pt x="15925" y="16694"/>
                </a:cubicBezTo>
                <a:cubicBezTo>
                  <a:pt x="15925" y="16718"/>
                  <a:pt x="15925" y="16727"/>
                  <a:pt x="15925" y="16743"/>
                </a:cubicBezTo>
              </a:path>
              <a:path w="1589" h="547">
                <a:moveTo>
                  <a:pt x="16594" y="16272"/>
                </a:moveTo>
                <a:cubicBezTo>
                  <a:pt x="16619" y="16272"/>
                  <a:pt x="16627" y="16272"/>
                  <a:pt x="16644" y="16272"/>
                </a:cubicBezTo>
                <a:cubicBezTo>
                  <a:pt x="16644" y="16227"/>
                  <a:pt x="16646" y="16201"/>
                  <a:pt x="16594" y="16197"/>
                </a:cubicBezTo>
                <a:cubicBezTo>
                  <a:pt x="16532" y="16193"/>
                  <a:pt x="16434" y="16212"/>
                  <a:pt x="16396" y="16247"/>
                </a:cubicBezTo>
                <a:cubicBezTo>
                  <a:pt x="16374" y="16267"/>
                  <a:pt x="16353" y="16345"/>
                  <a:pt x="16346" y="16371"/>
                </a:cubicBezTo>
                <a:cubicBezTo>
                  <a:pt x="16388" y="16382"/>
                  <a:pt x="16428" y="16406"/>
                  <a:pt x="16470" y="16421"/>
                </a:cubicBezTo>
                <a:cubicBezTo>
                  <a:pt x="16516" y="16437"/>
                  <a:pt x="16584" y="16449"/>
                  <a:pt x="16594" y="16495"/>
                </a:cubicBezTo>
                <a:cubicBezTo>
                  <a:pt x="16601" y="16526"/>
                  <a:pt x="16594" y="16562"/>
                  <a:pt x="16594" y="16594"/>
                </a:cubicBezTo>
                <a:cubicBezTo>
                  <a:pt x="16551" y="16594"/>
                  <a:pt x="16445" y="16618"/>
                  <a:pt x="16421" y="16570"/>
                </a:cubicBezTo>
                <a:cubicBezTo>
                  <a:pt x="16390" y="16508"/>
                  <a:pt x="16447" y="16478"/>
                  <a:pt x="16470" y="16446"/>
                </a:cubicBezTo>
                <a:cubicBezTo>
                  <a:pt x="16520" y="16377"/>
                  <a:pt x="16555" y="16324"/>
                  <a:pt x="16644" y="16297"/>
                </a:cubicBezTo>
                <a:cubicBezTo>
                  <a:pt x="16669" y="16297"/>
                  <a:pt x="16677" y="16297"/>
                  <a:pt x="16694" y="16297"/>
                </a:cubicBezTo>
              </a:path>
              <a:path w="1589" h="547">
                <a:moveTo>
                  <a:pt x="16892" y="16247"/>
                </a:moveTo>
                <a:cubicBezTo>
                  <a:pt x="16915" y="16224"/>
                  <a:pt x="16919" y="16216"/>
                  <a:pt x="16942" y="16222"/>
                </a:cubicBezTo>
                <a:cubicBezTo>
                  <a:pt x="16942" y="16284"/>
                  <a:pt x="16934" y="16363"/>
                  <a:pt x="16917" y="16421"/>
                </a:cubicBezTo>
                <a:cubicBezTo>
                  <a:pt x="16895" y="16498"/>
                  <a:pt x="16892" y="16562"/>
                  <a:pt x="16892" y="16644"/>
                </a:cubicBezTo>
              </a:path>
              <a:path w="1589" h="547">
                <a:moveTo>
                  <a:pt x="17264" y="16619"/>
                </a:moveTo>
                <a:cubicBezTo>
                  <a:pt x="17272" y="16611"/>
                  <a:pt x="17281" y="16602"/>
                  <a:pt x="17289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92880" y="5823000"/>
            <a:ext cx="1171440" cy="187200"/>
          </a:xfrm>
          <a:custGeom>
            <a:avLst/>
            <a:gdLst/>
            <a:ahLst/>
            <a:rect l="l" t="t" r="r" b="b"/>
            <a:pathLst>
              <a:path w="3251" h="522">
                <a:moveTo>
                  <a:pt x="17959" y="16247"/>
                </a:moveTo>
                <a:cubicBezTo>
                  <a:pt x="17999" y="16230"/>
                  <a:pt x="18056" y="16256"/>
                  <a:pt x="18083" y="16222"/>
                </a:cubicBezTo>
                <a:cubicBezTo>
                  <a:pt x="18083" y="16214"/>
                  <a:pt x="18083" y="16205"/>
                  <a:pt x="18083" y="16197"/>
                </a:cubicBezTo>
                <a:cubicBezTo>
                  <a:pt x="18069" y="16157"/>
                  <a:pt x="18033" y="16173"/>
                  <a:pt x="17983" y="16173"/>
                </a:cubicBezTo>
                <a:cubicBezTo>
                  <a:pt x="17897" y="16173"/>
                  <a:pt x="17868" y="16214"/>
                  <a:pt x="17810" y="16272"/>
                </a:cubicBezTo>
                <a:cubicBezTo>
                  <a:pt x="17778" y="16304"/>
                  <a:pt x="17748" y="16328"/>
                  <a:pt x="17760" y="16371"/>
                </a:cubicBezTo>
                <a:cubicBezTo>
                  <a:pt x="17770" y="16407"/>
                  <a:pt x="17854" y="16441"/>
                  <a:pt x="17884" y="16446"/>
                </a:cubicBezTo>
                <a:cubicBezTo>
                  <a:pt x="17941" y="16456"/>
                  <a:pt x="18000" y="16450"/>
                  <a:pt x="18008" y="16520"/>
                </a:cubicBezTo>
                <a:cubicBezTo>
                  <a:pt x="18013" y="16562"/>
                  <a:pt x="17970" y="16592"/>
                  <a:pt x="17934" y="16594"/>
                </a:cubicBezTo>
                <a:cubicBezTo>
                  <a:pt x="17865" y="16599"/>
                  <a:pt x="17859" y="16579"/>
                  <a:pt x="17859" y="16520"/>
                </a:cubicBezTo>
                <a:cubicBezTo>
                  <a:pt x="17859" y="16467"/>
                  <a:pt x="17925" y="16408"/>
                  <a:pt x="17959" y="16371"/>
                </a:cubicBezTo>
                <a:cubicBezTo>
                  <a:pt x="17991" y="16335"/>
                  <a:pt x="18022" y="16316"/>
                  <a:pt x="18033" y="16272"/>
                </a:cubicBezTo>
              </a:path>
              <a:path w="3251" h="522">
                <a:moveTo>
                  <a:pt x="18430" y="16247"/>
                </a:moveTo>
                <a:cubicBezTo>
                  <a:pt x="18455" y="16247"/>
                  <a:pt x="18463" y="16247"/>
                  <a:pt x="18479" y="16247"/>
                </a:cubicBezTo>
                <a:cubicBezTo>
                  <a:pt x="18445" y="16275"/>
                  <a:pt x="18375" y="16302"/>
                  <a:pt x="18355" y="16346"/>
                </a:cubicBezTo>
                <a:cubicBezTo>
                  <a:pt x="18324" y="16414"/>
                  <a:pt x="18396" y="16409"/>
                  <a:pt x="18430" y="16421"/>
                </a:cubicBezTo>
                <a:cubicBezTo>
                  <a:pt x="18489" y="16442"/>
                  <a:pt x="18558" y="16478"/>
                  <a:pt x="18604" y="16520"/>
                </a:cubicBezTo>
                <a:cubicBezTo>
                  <a:pt x="18625" y="16540"/>
                  <a:pt x="18653" y="16604"/>
                  <a:pt x="18604" y="16619"/>
                </a:cubicBezTo>
                <a:cubicBezTo>
                  <a:pt x="18558" y="16633"/>
                  <a:pt x="18477" y="16619"/>
                  <a:pt x="18430" y="16619"/>
                </a:cubicBezTo>
              </a:path>
              <a:path w="3251" h="522">
                <a:moveTo>
                  <a:pt x="18777" y="16247"/>
                </a:moveTo>
                <a:cubicBezTo>
                  <a:pt x="18694" y="16247"/>
                  <a:pt x="18612" y="16247"/>
                  <a:pt x="18529" y="16247"/>
                </a:cubicBezTo>
              </a:path>
              <a:path w="3251" h="522">
                <a:moveTo>
                  <a:pt x="19100" y="16222"/>
                </a:moveTo>
                <a:cubicBezTo>
                  <a:pt x="19142" y="16222"/>
                  <a:pt x="19137" y="16232"/>
                  <a:pt x="19149" y="16197"/>
                </a:cubicBezTo>
                <a:cubicBezTo>
                  <a:pt x="19089" y="16197"/>
                  <a:pt x="19050" y="16195"/>
                  <a:pt x="19000" y="16222"/>
                </a:cubicBezTo>
                <a:cubicBezTo>
                  <a:pt x="18954" y="16247"/>
                  <a:pt x="18917" y="16274"/>
                  <a:pt x="18901" y="16321"/>
                </a:cubicBezTo>
                <a:cubicBezTo>
                  <a:pt x="18880" y="16383"/>
                  <a:pt x="18955" y="16385"/>
                  <a:pt x="18976" y="16396"/>
                </a:cubicBezTo>
                <a:cubicBezTo>
                  <a:pt x="19004" y="16412"/>
                  <a:pt x="19104" y="16447"/>
                  <a:pt x="19124" y="16470"/>
                </a:cubicBezTo>
                <a:cubicBezTo>
                  <a:pt x="19141" y="16490"/>
                  <a:pt x="19162" y="16563"/>
                  <a:pt x="19149" y="16594"/>
                </a:cubicBezTo>
                <a:cubicBezTo>
                  <a:pt x="19126" y="16649"/>
                  <a:pt x="19032" y="16615"/>
                  <a:pt x="19000" y="16594"/>
                </a:cubicBezTo>
                <a:cubicBezTo>
                  <a:pt x="18973" y="16576"/>
                  <a:pt x="18949" y="16543"/>
                  <a:pt x="18926" y="16520"/>
                </a:cubicBezTo>
                <a:cubicBezTo>
                  <a:pt x="18973" y="16462"/>
                  <a:pt x="18998" y="16401"/>
                  <a:pt x="19050" y="16346"/>
                </a:cubicBezTo>
                <a:cubicBezTo>
                  <a:pt x="19105" y="16289"/>
                  <a:pt x="19146" y="16238"/>
                  <a:pt x="19224" y="16222"/>
                </a:cubicBezTo>
              </a:path>
              <a:path w="3251" h="522">
                <a:moveTo>
                  <a:pt x="19571" y="16346"/>
                </a:moveTo>
                <a:cubicBezTo>
                  <a:pt x="19539" y="16346"/>
                  <a:pt x="19505" y="16338"/>
                  <a:pt x="19496" y="16321"/>
                </a:cubicBezTo>
                <a:cubicBezTo>
                  <a:pt x="19467" y="16264"/>
                  <a:pt x="19542" y="16244"/>
                  <a:pt x="19571" y="16222"/>
                </a:cubicBezTo>
                <a:cubicBezTo>
                  <a:pt x="19617" y="16187"/>
                  <a:pt x="19661" y="16197"/>
                  <a:pt x="19720" y="16197"/>
                </a:cubicBezTo>
                <a:cubicBezTo>
                  <a:pt x="19788" y="16197"/>
                  <a:pt x="19794" y="16211"/>
                  <a:pt x="19794" y="16272"/>
                </a:cubicBezTo>
                <a:cubicBezTo>
                  <a:pt x="19794" y="16352"/>
                  <a:pt x="19760" y="16382"/>
                  <a:pt x="19695" y="16421"/>
                </a:cubicBezTo>
                <a:cubicBezTo>
                  <a:pt x="19652" y="16443"/>
                  <a:pt x="19640" y="16446"/>
                  <a:pt x="19621" y="16470"/>
                </a:cubicBezTo>
                <a:cubicBezTo>
                  <a:pt x="19635" y="16529"/>
                  <a:pt x="19659" y="16541"/>
                  <a:pt x="19720" y="16545"/>
                </a:cubicBezTo>
                <a:cubicBezTo>
                  <a:pt x="19779" y="16548"/>
                  <a:pt x="19798" y="16558"/>
                  <a:pt x="19844" y="16594"/>
                </a:cubicBezTo>
                <a:cubicBezTo>
                  <a:pt x="19802" y="16626"/>
                  <a:pt x="19776" y="16641"/>
                  <a:pt x="19720" y="16644"/>
                </a:cubicBezTo>
                <a:cubicBezTo>
                  <a:pt x="19688" y="16646"/>
                  <a:pt x="19654" y="16644"/>
                  <a:pt x="19621" y="16644"/>
                </a:cubicBezTo>
              </a:path>
              <a:path w="3251" h="522">
                <a:moveTo>
                  <a:pt x="19893" y="16272"/>
                </a:moveTo>
                <a:cubicBezTo>
                  <a:pt x="19933" y="16212"/>
                  <a:pt x="19936" y="16200"/>
                  <a:pt x="19968" y="16173"/>
                </a:cubicBezTo>
                <a:cubicBezTo>
                  <a:pt x="19955" y="16225"/>
                  <a:pt x="19943" y="16258"/>
                  <a:pt x="19943" y="16321"/>
                </a:cubicBezTo>
                <a:cubicBezTo>
                  <a:pt x="19943" y="16375"/>
                  <a:pt x="19940" y="16429"/>
                  <a:pt x="19968" y="16470"/>
                </a:cubicBezTo>
                <a:cubicBezTo>
                  <a:pt x="19997" y="16513"/>
                  <a:pt x="20071" y="16495"/>
                  <a:pt x="20117" y="16495"/>
                </a:cubicBezTo>
                <a:cubicBezTo>
                  <a:pt x="20162" y="16495"/>
                  <a:pt x="20352" y="16495"/>
                  <a:pt x="20315" y="16495"/>
                </a:cubicBezTo>
              </a:path>
              <a:path w="3251" h="522">
                <a:moveTo>
                  <a:pt x="20216" y="16396"/>
                </a:moveTo>
                <a:cubicBezTo>
                  <a:pt x="20208" y="16379"/>
                  <a:pt x="20199" y="16363"/>
                  <a:pt x="20191" y="16346"/>
                </a:cubicBezTo>
                <a:cubicBezTo>
                  <a:pt x="20131" y="16406"/>
                  <a:pt x="20141" y="16432"/>
                  <a:pt x="20141" y="16520"/>
                </a:cubicBezTo>
                <a:cubicBezTo>
                  <a:pt x="20141" y="16587"/>
                  <a:pt x="20158" y="16630"/>
                  <a:pt x="20166" y="16694"/>
                </a:cubicBezTo>
              </a:path>
              <a:path w="3251" h="522">
                <a:moveTo>
                  <a:pt x="20340" y="16222"/>
                </a:moveTo>
                <a:cubicBezTo>
                  <a:pt x="20273" y="16222"/>
                  <a:pt x="20377" y="16222"/>
                  <a:pt x="20389" y="16222"/>
                </a:cubicBezTo>
                <a:cubicBezTo>
                  <a:pt x="20513" y="16222"/>
                  <a:pt x="20638" y="16222"/>
                  <a:pt x="20762" y="16222"/>
                </a:cubicBezTo>
                <a:cubicBezTo>
                  <a:pt x="20762" y="16280"/>
                  <a:pt x="20740" y="16299"/>
                  <a:pt x="20712" y="16346"/>
                </a:cubicBezTo>
                <a:cubicBezTo>
                  <a:pt x="20677" y="16404"/>
                  <a:pt x="20663" y="16469"/>
                  <a:pt x="20638" y="16520"/>
                </a:cubicBezTo>
                <a:cubicBezTo>
                  <a:pt x="20619" y="16559"/>
                  <a:pt x="20613" y="16548"/>
                  <a:pt x="20613" y="16594"/>
                </a:cubicBezTo>
              </a:path>
              <a:path w="3251" h="522">
                <a:moveTo>
                  <a:pt x="21010" y="16272"/>
                </a:moveTo>
                <a:cubicBezTo>
                  <a:pt x="21010" y="16255"/>
                  <a:pt x="21010" y="16239"/>
                  <a:pt x="21010" y="16222"/>
                </a:cubicBezTo>
                <a:cubicBezTo>
                  <a:pt x="21010" y="16300"/>
                  <a:pt x="20987" y="16366"/>
                  <a:pt x="20985" y="16446"/>
                </a:cubicBezTo>
                <a:cubicBezTo>
                  <a:pt x="20982" y="16534"/>
                  <a:pt x="21003" y="16608"/>
                  <a:pt x="21010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19800" y="6215040"/>
            <a:ext cx="11736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15255" y="17363"/>
                </a:moveTo>
                <a:cubicBezTo>
                  <a:pt x="15277" y="17341"/>
                  <a:pt x="15282" y="17332"/>
                  <a:pt x="15304" y="17338"/>
                </a:cubicBezTo>
                <a:cubicBezTo>
                  <a:pt x="15270" y="17327"/>
                  <a:pt x="15280" y="17295"/>
                  <a:pt x="15230" y="17289"/>
                </a:cubicBezTo>
                <a:cubicBezTo>
                  <a:pt x="15159" y="17281"/>
                  <a:pt x="15165" y="17269"/>
                  <a:pt x="15106" y="17289"/>
                </a:cubicBezTo>
                <a:cubicBezTo>
                  <a:pt x="15066" y="17302"/>
                  <a:pt x="15096" y="17301"/>
                  <a:pt x="15056" y="17314"/>
                </a:cubicBezTo>
              </a:path>
              <a:path w="324" h="249">
                <a:moveTo>
                  <a:pt x="15280" y="17462"/>
                </a:moveTo>
                <a:cubicBezTo>
                  <a:pt x="15307" y="17478"/>
                  <a:pt x="15404" y="17512"/>
                  <a:pt x="15354" y="17512"/>
                </a:cubicBezTo>
                <a:cubicBezTo>
                  <a:pt x="15288" y="17512"/>
                  <a:pt x="15222" y="17512"/>
                  <a:pt x="15156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96000" y="6143760"/>
            <a:ext cx="615960" cy="233280"/>
          </a:xfrm>
          <a:custGeom>
            <a:avLst/>
            <a:gdLst/>
            <a:ahLst/>
            <a:rect l="l" t="t" r="r" b="b"/>
            <a:pathLst>
              <a:path w="1713" h="646">
                <a:moveTo>
                  <a:pt x="16098" y="17165"/>
                </a:moveTo>
                <a:cubicBezTo>
                  <a:pt x="16098" y="17134"/>
                  <a:pt x="16106" y="17098"/>
                  <a:pt x="16123" y="17090"/>
                </a:cubicBezTo>
                <a:cubicBezTo>
                  <a:pt x="16152" y="17075"/>
                  <a:pt x="16162" y="17061"/>
                  <a:pt x="16148" y="17115"/>
                </a:cubicBezTo>
                <a:cubicBezTo>
                  <a:pt x="16122" y="17214"/>
                  <a:pt x="16103" y="17311"/>
                  <a:pt x="16098" y="17413"/>
                </a:cubicBezTo>
                <a:cubicBezTo>
                  <a:pt x="16095" y="17476"/>
                  <a:pt x="16089" y="17545"/>
                  <a:pt x="16148" y="17587"/>
                </a:cubicBezTo>
                <a:cubicBezTo>
                  <a:pt x="16219" y="17638"/>
                  <a:pt x="16253" y="17599"/>
                  <a:pt x="16321" y="17587"/>
                </a:cubicBezTo>
                <a:cubicBezTo>
                  <a:pt x="16383" y="17576"/>
                  <a:pt x="16399" y="17596"/>
                  <a:pt x="16446" y="17611"/>
                </a:cubicBezTo>
                <a:cubicBezTo>
                  <a:pt x="16470" y="17611"/>
                  <a:pt x="16478" y="17611"/>
                  <a:pt x="16470" y="17636"/>
                </a:cubicBezTo>
              </a:path>
              <a:path w="1713" h="646">
                <a:moveTo>
                  <a:pt x="16371" y="17413"/>
                </a:moveTo>
                <a:cubicBezTo>
                  <a:pt x="16355" y="17476"/>
                  <a:pt x="16346" y="17481"/>
                  <a:pt x="16346" y="17562"/>
                </a:cubicBezTo>
                <a:cubicBezTo>
                  <a:pt x="16346" y="17626"/>
                  <a:pt x="16349" y="17652"/>
                  <a:pt x="16371" y="17711"/>
                </a:cubicBezTo>
              </a:path>
              <a:path w="1713" h="646">
                <a:moveTo>
                  <a:pt x="16842" y="17165"/>
                </a:moveTo>
                <a:cubicBezTo>
                  <a:pt x="16893" y="17145"/>
                  <a:pt x="16957" y="17158"/>
                  <a:pt x="16991" y="17115"/>
                </a:cubicBezTo>
                <a:cubicBezTo>
                  <a:pt x="16991" y="17107"/>
                  <a:pt x="16991" y="17098"/>
                  <a:pt x="16991" y="17090"/>
                </a:cubicBezTo>
                <a:cubicBezTo>
                  <a:pt x="16933" y="17056"/>
                  <a:pt x="16905" y="17060"/>
                  <a:pt x="16842" y="17090"/>
                </a:cubicBezTo>
                <a:cubicBezTo>
                  <a:pt x="16759" y="17129"/>
                  <a:pt x="16723" y="17144"/>
                  <a:pt x="16718" y="17239"/>
                </a:cubicBezTo>
                <a:cubicBezTo>
                  <a:pt x="16714" y="17309"/>
                  <a:pt x="16719" y="17339"/>
                  <a:pt x="16793" y="17363"/>
                </a:cubicBezTo>
                <a:cubicBezTo>
                  <a:pt x="16851" y="17382"/>
                  <a:pt x="16925" y="17381"/>
                  <a:pt x="16966" y="17438"/>
                </a:cubicBezTo>
                <a:cubicBezTo>
                  <a:pt x="16983" y="17462"/>
                  <a:pt x="17050" y="17554"/>
                  <a:pt x="17016" y="17587"/>
                </a:cubicBezTo>
                <a:cubicBezTo>
                  <a:pt x="16968" y="17634"/>
                  <a:pt x="16892" y="17609"/>
                  <a:pt x="16842" y="17587"/>
                </a:cubicBezTo>
                <a:cubicBezTo>
                  <a:pt x="16763" y="17552"/>
                  <a:pt x="16758" y="17536"/>
                  <a:pt x="16793" y="17462"/>
                </a:cubicBezTo>
                <a:cubicBezTo>
                  <a:pt x="16828" y="17388"/>
                  <a:pt x="16867" y="17303"/>
                  <a:pt x="16917" y="17239"/>
                </a:cubicBezTo>
                <a:cubicBezTo>
                  <a:pt x="16950" y="17197"/>
                  <a:pt x="16972" y="17176"/>
                  <a:pt x="17016" y="17165"/>
                </a:cubicBezTo>
              </a:path>
              <a:path w="1713" h="646">
                <a:moveTo>
                  <a:pt x="17314" y="17289"/>
                </a:moveTo>
                <a:cubicBezTo>
                  <a:pt x="17306" y="17289"/>
                  <a:pt x="17297" y="17289"/>
                  <a:pt x="17289" y="17289"/>
                </a:cubicBezTo>
                <a:cubicBezTo>
                  <a:pt x="17301" y="17240"/>
                  <a:pt x="17335" y="17207"/>
                  <a:pt x="17388" y="17190"/>
                </a:cubicBezTo>
                <a:cubicBezTo>
                  <a:pt x="17429" y="17177"/>
                  <a:pt x="17520" y="17192"/>
                  <a:pt x="17537" y="17239"/>
                </a:cubicBezTo>
                <a:cubicBezTo>
                  <a:pt x="17565" y="17317"/>
                  <a:pt x="17523" y="17379"/>
                  <a:pt x="17487" y="17438"/>
                </a:cubicBezTo>
                <a:cubicBezTo>
                  <a:pt x="17463" y="17478"/>
                  <a:pt x="17416" y="17544"/>
                  <a:pt x="17413" y="17587"/>
                </a:cubicBezTo>
                <a:cubicBezTo>
                  <a:pt x="17413" y="17603"/>
                  <a:pt x="17413" y="17620"/>
                  <a:pt x="17413" y="17636"/>
                </a:cubicBezTo>
                <a:cubicBezTo>
                  <a:pt x="17494" y="17636"/>
                  <a:pt x="17558" y="17640"/>
                  <a:pt x="17636" y="17611"/>
                </a:cubicBezTo>
                <a:cubicBezTo>
                  <a:pt x="17698" y="17588"/>
                  <a:pt x="17749" y="17588"/>
                  <a:pt x="17810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43800" y="6170760"/>
            <a:ext cx="473040" cy="214200"/>
          </a:xfrm>
          <a:custGeom>
            <a:avLst/>
            <a:gdLst/>
            <a:ahLst/>
            <a:rect l="l" t="t" r="r" b="b"/>
            <a:pathLst>
              <a:path w="1315" h="596">
                <a:moveTo>
                  <a:pt x="18455" y="17462"/>
                </a:moveTo>
                <a:cubicBezTo>
                  <a:pt x="18480" y="17462"/>
                  <a:pt x="18543" y="17455"/>
                  <a:pt x="18554" y="17438"/>
                </a:cubicBezTo>
                <a:cubicBezTo>
                  <a:pt x="18573" y="17410"/>
                  <a:pt x="18634" y="17403"/>
                  <a:pt x="18604" y="17388"/>
                </a:cubicBezTo>
                <a:cubicBezTo>
                  <a:pt x="18570" y="17371"/>
                  <a:pt x="18493" y="17432"/>
                  <a:pt x="18479" y="17462"/>
                </a:cubicBezTo>
                <a:cubicBezTo>
                  <a:pt x="18436" y="17554"/>
                  <a:pt x="18448" y="17645"/>
                  <a:pt x="18529" y="17711"/>
                </a:cubicBezTo>
                <a:cubicBezTo>
                  <a:pt x="18583" y="17755"/>
                  <a:pt x="18654" y="17739"/>
                  <a:pt x="18703" y="17711"/>
                </a:cubicBezTo>
              </a:path>
              <a:path w="1315" h="596">
                <a:moveTo>
                  <a:pt x="18802" y="17438"/>
                </a:moveTo>
                <a:cubicBezTo>
                  <a:pt x="18802" y="17521"/>
                  <a:pt x="18802" y="17603"/>
                  <a:pt x="18802" y="17686"/>
                </a:cubicBezTo>
                <a:cubicBezTo>
                  <a:pt x="18834" y="17623"/>
                  <a:pt x="18850" y="17538"/>
                  <a:pt x="18876" y="17462"/>
                </a:cubicBezTo>
                <a:cubicBezTo>
                  <a:pt x="18894" y="17411"/>
                  <a:pt x="18915" y="17382"/>
                  <a:pt x="18926" y="17338"/>
                </a:cubicBezTo>
                <a:cubicBezTo>
                  <a:pt x="18974" y="17398"/>
                  <a:pt x="18986" y="17461"/>
                  <a:pt x="19000" y="17537"/>
                </a:cubicBezTo>
                <a:cubicBezTo>
                  <a:pt x="19000" y="17562"/>
                  <a:pt x="19000" y="17570"/>
                  <a:pt x="19000" y="17587"/>
                </a:cubicBezTo>
                <a:cubicBezTo>
                  <a:pt x="19036" y="17540"/>
                  <a:pt x="19031" y="17493"/>
                  <a:pt x="19050" y="17438"/>
                </a:cubicBezTo>
                <a:cubicBezTo>
                  <a:pt x="19073" y="17369"/>
                  <a:pt x="19109" y="17343"/>
                  <a:pt x="19174" y="17338"/>
                </a:cubicBezTo>
                <a:cubicBezTo>
                  <a:pt x="19238" y="17333"/>
                  <a:pt x="19246" y="17493"/>
                  <a:pt x="19248" y="17537"/>
                </a:cubicBezTo>
                <a:cubicBezTo>
                  <a:pt x="19248" y="17578"/>
                  <a:pt x="19248" y="17586"/>
                  <a:pt x="19248" y="17611"/>
                </a:cubicBezTo>
              </a:path>
              <a:path w="1315" h="596">
                <a:moveTo>
                  <a:pt x="19422" y="17264"/>
                </a:moveTo>
                <a:cubicBezTo>
                  <a:pt x="19427" y="17243"/>
                  <a:pt x="19445" y="17173"/>
                  <a:pt x="19472" y="17165"/>
                </a:cubicBezTo>
                <a:cubicBezTo>
                  <a:pt x="19512" y="17153"/>
                  <a:pt x="19566" y="17122"/>
                  <a:pt x="19596" y="17165"/>
                </a:cubicBezTo>
                <a:cubicBezTo>
                  <a:pt x="19636" y="17222"/>
                  <a:pt x="19624" y="17262"/>
                  <a:pt x="19596" y="17314"/>
                </a:cubicBezTo>
                <a:cubicBezTo>
                  <a:pt x="19578" y="17347"/>
                  <a:pt x="19544" y="17412"/>
                  <a:pt x="19596" y="17438"/>
                </a:cubicBezTo>
                <a:cubicBezTo>
                  <a:pt x="19633" y="17456"/>
                  <a:pt x="19727" y="17438"/>
                  <a:pt x="19769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67760" y="6107040"/>
            <a:ext cx="776160" cy="385920"/>
          </a:xfrm>
          <a:custGeom>
            <a:avLst/>
            <a:gdLst/>
            <a:ahLst/>
            <a:rect l="l" t="t" r="r" b="b"/>
            <a:pathLst>
              <a:path w="2159" h="1068">
                <a:moveTo>
                  <a:pt x="20811" y="17314"/>
                </a:moveTo>
                <a:cubicBezTo>
                  <a:pt x="20822" y="17270"/>
                  <a:pt x="20852" y="17248"/>
                  <a:pt x="20886" y="17214"/>
                </a:cubicBezTo>
                <a:cubicBezTo>
                  <a:pt x="20928" y="17172"/>
                  <a:pt x="21045" y="17130"/>
                  <a:pt x="21109" y="17165"/>
                </a:cubicBezTo>
                <a:cubicBezTo>
                  <a:pt x="21183" y="17206"/>
                  <a:pt x="21201" y="17313"/>
                  <a:pt x="21183" y="17388"/>
                </a:cubicBezTo>
                <a:cubicBezTo>
                  <a:pt x="21168" y="17449"/>
                  <a:pt x="21083" y="17482"/>
                  <a:pt x="21034" y="17512"/>
                </a:cubicBezTo>
                <a:cubicBezTo>
                  <a:pt x="20976" y="17547"/>
                  <a:pt x="20985" y="17530"/>
                  <a:pt x="20985" y="17587"/>
                </a:cubicBezTo>
                <a:cubicBezTo>
                  <a:pt x="21040" y="17630"/>
                  <a:pt x="21135" y="17644"/>
                  <a:pt x="21183" y="17686"/>
                </a:cubicBezTo>
                <a:cubicBezTo>
                  <a:pt x="21208" y="17707"/>
                  <a:pt x="21297" y="17820"/>
                  <a:pt x="21258" y="17859"/>
                </a:cubicBezTo>
                <a:cubicBezTo>
                  <a:pt x="21196" y="17920"/>
                  <a:pt x="21120" y="17858"/>
                  <a:pt x="21059" y="17835"/>
                </a:cubicBezTo>
                <a:cubicBezTo>
                  <a:pt x="20999" y="17815"/>
                  <a:pt x="20984" y="17816"/>
                  <a:pt x="20960" y="17785"/>
                </a:cubicBezTo>
              </a:path>
              <a:path w="2159" h="1068">
                <a:moveTo>
                  <a:pt x="21630" y="17562"/>
                </a:moveTo>
                <a:cubicBezTo>
                  <a:pt x="21692" y="17508"/>
                  <a:pt x="21723" y="17512"/>
                  <a:pt x="21654" y="17512"/>
                </a:cubicBezTo>
                <a:cubicBezTo>
                  <a:pt x="21609" y="17512"/>
                  <a:pt x="21522" y="17531"/>
                  <a:pt x="21506" y="17587"/>
                </a:cubicBezTo>
                <a:cubicBezTo>
                  <a:pt x="21492" y="17637"/>
                  <a:pt x="21512" y="17684"/>
                  <a:pt x="21555" y="17711"/>
                </a:cubicBezTo>
                <a:cubicBezTo>
                  <a:pt x="21601" y="17740"/>
                  <a:pt x="21648" y="17752"/>
                  <a:pt x="21654" y="17810"/>
                </a:cubicBezTo>
                <a:cubicBezTo>
                  <a:pt x="21660" y="17869"/>
                  <a:pt x="21579" y="17825"/>
                  <a:pt x="21555" y="17810"/>
                </a:cubicBezTo>
              </a:path>
              <a:path w="2159" h="1068">
                <a:moveTo>
                  <a:pt x="21927" y="17462"/>
                </a:moveTo>
                <a:cubicBezTo>
                  <a:pt x="21986" y="17445"/>
                  <a:pt x="22041" y="17443"/>
                  <a:pt x="22076" y="17388"/>
                </a:cubicBezTo>
                <a:cubicBezTo>
                  <a:pt x="22124" y="17313"/>
                  <a:pt x="22093" y="17264"/>
                  <a:pt x="22076" y="17190"/>
                </a:cubicBezTo>
                <a:cubicBezTo>
                  <a:pt x="22076" y="17162"/>
                  <a:pt x="22074" y="17151"/>
                  <a:pt x="22051" y="17140"/>
                </a:cubicBezTo>
                <a:cubicBezTo>
                  <a:pt x="21992" y="17155"/>
                  <a:pt x="21960" y="17209"/>
                  <a:pt x="21927" y="17264"/>
                </a:cubicBezTo>
                <a:cubicBezTo>
                  <a:pt x="21868" y="17364"/>
                  <a:pt x="21857" y="17475"/>
                  <a:pt x="21853" y="17587"/>
                </a:cubicBezTo>
                <a:cubicBezTo>
                  <a:pt x="21850" y="17677"/>
                  <a:pt x="21864" y="17749"/>
                  <a:pt x="21878" y="17835"/>
                </a:cubicBezTo>
              </a:path>
              <a:path w="2159" h="1068">
                <a:moveTo>
                  <a:pt x="22051" y="17785"/>
                </a:moveTo>
                <a:cubicBezTo>
                  <a:pt x="22051" y="17727"/>
                  <a:pt x="22051" y="17719"/>
                  <a:pt x="22051" y="17686"/>
                </a:cubicBezTo>
                <a:cubicBezTo>
                  <a:pt x="21996" y="17686"/>
                  <a:pt x="21980" y="17675"/>
                  <a:pt x="21927" y="17661"/>
                </a:cubicBezTo>
                <a:cubicBezTo>
                  <a:pt x="21919" y="17661"/>
                  <a:pt x="21911" y="17661"/>
                  <a:pt x="21903" y="17661"/>
                </a:cubicBezTo>
              </a:path>
              <a:path w="2159" h="1068">
                <a:moveTo>
                  <a:pt x="22151" y="17190"/>
                </a:moveTo>
                <a:cubicBezTo>
                  <a:pt x="22214" y="17126"/>
                  <a:pt x="22214" y="17115"/>
                  <a:pt x="22299" y="17115"/>
                </a:cubicBezTo>
                <a:cubicBezTo>
                  <a:pt x="22376" y="17115"/>
                  <a:pt x="22439" y="17128"/>
                  <a:pt x="22498" y="17190"/>
                </a:cubicBezTo>
                <a:cubicBezTo>
                  <a:pt x="22604" y="17301"/>
                  <a:pt x="22619" y="17444"/>
                  <a:pt x="22622" y="17587"/>
                </a:cubicBezTo>
                <a:cubicBezTo>
                  <a:pt x="22626" y="17749"/>
                  <a:pt x="22575" y="17841"/>
                  <a:pt x="22448" y="17934"/>
                </a:cubicBezTo>
                <a:cubicBezTo>
                  <a:pt x="22344" y="18010"/>
                  <a:pt x="22245" y="18005"/>
                  <a:pt x="22126" y="18033"/>
                </a:cubicBezTo>
              </a:path>
              <a:path w="2159" h="1068">
                <a:moveTo>
                  <a:pt x="20613" y="16991"/>
                </a:moveTo>
                <a:cubicBezTo>
                  <a:pt x="20655" y="16991"/>
                  <a:pt x="20651" y="17001"/>
                  <a:pt x="20662" y="16966"/>
                </a:cubicBezTo>
                <a:cubicBezTo>
                  <a:pt x="20592" y="16984"/>
                  <a:pt x="20557" y="17028"/>
                  <a:pt x="20513" y="17090"/>
                </a:cubicBezTo>
                <a:cubicBezTo>
                  <a:pt x="20410" y="17234"/>
                  <a:pt x="20466" y="17430"/>
                  <a:pt x="20513" y="17587"/>
                </a:cubicBezTo>
                <a:cubicBezTo>
                  <a:pt x="20559" y="17742"/>
                  <a:pt x="20612" y="17884"/>
                  <a:pt x="20712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25760" y="6197760"/>
            <a:ext cx="44280" cy="61920"/>
          </a:xfrm>
          <a:custGeom>
            <a:avLst/>
            <a:gdLst/>
            <a:ahLst/>
            <a:rect l="l" t="t" r="r" b="b"/>
            <a:pathLst>
              <a:path w="125" h="175">
                <a:moveTo>
                  <a:pt x="4514" y="17214"/>
                </a:moveTo>
                <a:cubicBezTo>
                  <a:pt x="4558" y="17274"/>
                  <a:pt x="4600" y="17326"/>
                  <a:pt x="4638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62120" y="1579680"/>
            <a:ext cx="7489800" cy="1942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H="1">
            <a:off x="5811840" y="2793960"/>
            <a:ext cx="215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2840" y="2589120"/>
            <a:ext cx="384120" cy="331920"/>
          </a:xfrm>
          <a:custGeom>
            <a:avLst/>
            <a:gdLst/>
            <a:ahLst/>
            <a:rect l="l" t="t" r="r" b="b"/>
            <a:pathLst>
              <a:path w="1067" h="919">
                <a:moveTo>
                  <a:pt x="5035" y="7193"/>
                </a:moveTo>
                <a:cubicBezTo>
                  <a:pt x="5035" y="7218"/>
                  <a:pt x="5035" y="7226"/>
                  <a:pt x="5060" y="7218"/>
                </a:cubicBezTo>
                <a:cubicBezTo>
                  <a:pt x="5027" y="7218"/>
                  <a:pt x="4994" y="7218"/>
                  <a:pt x="4961" y="7218"/>
                </a:cubicBezTo>
                <a:cubicBezTo>
                  <a:pt x="4948" y="7258"/>
                  <a:pt x="4949" y="7228"/>
                  <a:pt x="4936" y="7268"/>
                </a:cubicBezTo>
                <a:cubicBezTo>
                  <a:pt x="4905" y="7268"/>
                  <a:pt x="4871" y="7276"/>
                  <a:pt x="4862" y="7293"/>
                </a:cubicBezTo>
                <a:cubicBezTo>
                  <a:pt x="4841" y="7333"/>
                  <a:pt x="4837" y="7354"/>
                  <a:pt x="4787" y="7367"/>
                </a:cubicBezTo>
                <a:cubicBezTo>
                  <a:pt x="4776" y="7411"/>
                  <a:pt x="4747" y="7432"/>
                  <a:pt x="4713" y="7466"/>
                </a:cubicBezTo>
                <a:cubicBezTo>
                  <a:pt x="4694" y="7485"/>
                  <a:pt x="4650" y="7539"/>
                  <a:pt x="4638" y="7565"/>
                </a:cubicBezTo>
                <a:cubicBezTo>
                  <a:pt x="4625" y="7593"/>
                  <a:pt x="4617" y="7619"/>
                  <a:pt x="4614" y="7640"/>
                </a:cubicBezTo>
                <a:cubicBezTo>
                  <a:pt x="4608" y="7693"/>
                  <a:pt x="4604" y="7719"/>
                  <a:pt x="4589" y="7764"/>
                </a:cubicBezTo>
                <a:cubicBezTo>
                  <a:pt x="4583" y="7783"/>
                  <a:pt x="4589" y="7818"/>
                  <a:pt x="4589" y="7838"/>
                </a:cubicBezTo>
                <a:cubicBezTo>
                  <a:pt x="4629" y="7851"/>
                  <a:pt x="4614" y="7877"/>
                  <a:pt x="4638" y="7913"/>
                </a:cubicBezTo>
                <a:cubicBezTo>
                  <a:pt x="4659" y="7945"/>
                  <a:pt x="4681" y="7954"/>
                  <a:pt x="4713" y="7962"/>
                </a:cubicBezTo>
                <a:cubicBezTo>
                  <a:pt x="4723" y="7991"/>
                  <a:pt x="4747" y="8007"/>
                  <a:pt x="4787" y="8012"/>
                </a:cubicBezTo>
                <a:cubicBezTo>
                  <a:pt x="4829" y="8017"/>
                  <a:pt x="4849" y="8033"/>
                  <a:pt x="4887" y="8037"/>
                </a:cubicBezTo>
                <a:cubicBezTo>
                  <a:pt x="4907" y="8039"/>
                  <a:pt x="4967" y="8052"/>
                  <a:pt x="4986" y="8062"/>
                </a:cubicBezTo>
                <a:cubicBezTo>
                  <a:pt x="5027" y="8084"/>
                  <a:pt x="5035" y="8086"/>
                  <a:pt x="5085" y="8086"/>
                </a:cubicBezTo>
                <a:cubicBezTo>
                  <a:pt x="5098" y="8124"/>
                  <a:pt x="5114" y="8111"/>
                  <a:pt x="5159" y="8111"/>
                </a:cubicBezTo>
                <a:cubicBezTo>
                  <a:pt x="5184" y="8111"/>
                  <a:pt x="5192" y="8111"/>
                  <a:pt x="5184" y="8086"/>
                </a:cubicBezTo>
              </a:path>
              <a:path w="1067" h="919">
                <a:moveTo>
                  <a:pt x="4118" y="7590"/>
                </a:moveTo>
                <a:cubicBezTo>
                  <a:pt x="4118" y="7565"/>
                  <a:pt x="4118" y="7557"/>
                  <a:pt x="4118" y="7541"/>
                </a:cubicBezTo>
                <a:cubicBezTo>
                  <a:pt x="4118" y="7596"/>
                  <a:pt x="4107" y="7646"/>
                  <a:pt x="4142" y="7689"/>
                </a:cubicBezTo>
                <a:cubicBezTo>
                  <a:pt x="4169" y="7723"/>
                  <a:pt x="4167" y="7721"/>
                  <a:pt x="4167" y="7764"/>
                </a:cubicBezTo>
              </a:path>
              <a:path w="1067" h="919">
                <a:moveTo>
                  <a:pt x="4242" y="7491"/>
                </a:moveTo>
                <a:cubicBezTo>
                  <a:pt x="4250" y="7483"/>
                  <a:pt x="4258" y="7474"/>
                  <a:pt x="4266" y="7466"/>
                </a:cubicBezTo>
                <a:cubicBezTo>
                  <a:pt x="4266" y="7528"/>
                  <a:pt x="4255" y="7586"/>
                  <a:pt x="4291" y="7640"/>
                </a:cubicBezTo>
                <a:cubicBezTo>
                  <a:pt x="4309" y="7667"/>
                  <a:pt x="4353" y="7709"/>
                  <a:pt x="4390" y="7689"/>
                </a:cubicBezTo>
                <a:cubicBezTo>
                  <a:pt x="4419" y="7673"/>
                  <a:pt x="4433" y="7618"/>
                  <a:pt x="4440" y="7590"/>
                </a:cubicBezTo>
              </a:path>
              <a:path w="1067" h="919">
                <a:moveTo>
                  <a:pt x="4415" y="7392"/>
                </a:moveTo>
                <a:cubicBezTo>
                  <a:pt x="4423" y="7384"/>
                  <a:pt x="4432" y="7375"/>
                  <a:pt x="4440" y="7367"/>
                </a:cubicBezTo>
                <a:cubicBezTo>
                  <a:pt x="4396" y="7378"/>
                  <a:pt x="4375" y="7407"/>
                  <a:pt x="4341" y="7441"/>
                </a:cubicBezTo>
                <a:cubicBezTo>
                  <a:pt x="4281" y="7500"/>
                  <a:pt x="4234" y="7519"/>
                  <a:pt x="4167" y="7565"/>
                </a:cubicBezTo>
                <a:cubicBezTo>
                  <a:pt x="4145" y="7587"/>
                  <a:pt x="4140" y="7596"/>
                  <a:pt x="4118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2880" y="3759120"/>
            <a:ext cx="187200" cy="2509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2257" y="10988"/>
                </a:moveTo>
                <a:cubicBezTo>
                  <a:pt x="2270" y="11026"/>
                  <a:pt x="2282" y="11009"/>
                  <a:pt x="2282" y="11063"/>
                </a:cubicBezTo>
                <a:cubicBezTo>
                  <a:pt x="2282" y="11105"/>
                  <a:pt x="2272" y="11101"/>
                  <a:pt x="2307" y="11112"/>
                </a:cubicBezTo>
                <a:cubicBezTo>
                  <a:pt x="2367" y="11097"/>
                  <a:pt x="2360" y="11047"/>
                  <a:pt x="2381" y="10988"/>
                </a:cubicBezTo>
                <a:cubicBezTo>
                  <a:pt x="2430" y="10847"/>
                  <a:pt x="2475" y="10745"/>
                  <a:pt x="2480" y="10592"/>
                </a:cubicBezTo>
                <a:cubicBezTo>
                  <a:pt x="2481" y="10542"/>
                  <a:pt x="2480" y="10493"/>
                  <a:pt x="2480" y="10443"/>
                </a:cubicBezTo>
                <a:cubicBezTo>
                  <a:pt x="2433" y="10459"/>
                  <a:pt x="2400" y="10556"/>
                  <a:pt x="2381" y="10616"/>
                </a:cubicBezTo>
                <a:cubicBezTo>
                  <a:pt x="2343" y="10737"/>
                  <a:pt x="2353" y="10871"/>
                  <a:pt x="2406" y="10988"/>
                </a:cubicBezTo>
                <a:cubicBezTo>
                  <a:pt x="2439" y="11060"/>
                  <a:pt x="2540" y="11157"/>
                  <a:pt x="2629" y="11137"/>
                </a:cubicBezTo>
                <a:cubicBezTo>
                  <a:pt x="2690" y="11123"/>
                  <a:pt x="2734" y="11077"/>
                  <a:pt x="2778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60640" y="3840120"/>
            <a:ext cx="98280" cy="61920"/>
          </a:xfrm>
          <a:custGeom>
            <a:avLst/>
            <a:gdLst/>
            <a:ahLst/>
            <a:rect l="l" t="t" r="r" b="b"/>
            <a:pathLst>
              <a:path w="273" h="175">
                <a:moveTo>
                  <a:pt x="3423" y="10666"/>
                </a:moveTo>
                <a:cubicBezTo>
                  <a:pt x="3448" y="10666"/>
                  <a:pt x="3456" y="10666"/>
                  <a:pt x="3473" y="10666"/>
                </a:cubicBezTo>
                <a:cubicBezTo>
                  <a:pt x="3415" y="10666"/>
                  <a:pt x="3378" y="10678"/>
                  <a:pt x="3324" y="10691"/>
                </a:cubicBezTo>
                <a:cubicBezTo>
                  <a:pt x="3279" y="10701"/>
                  <a:pt x="3264" y="10692"/>
                  <a:pt x="3225" y="10716"/>
                </a:cubicBezTo>
              </a:path>
              <a:path w="273" h="175">
                <a:moveTo>
                  <a:pt x="3448" y="10765"/>
                </a:moveTo>
                <a:cubicBezTo>
                  <a:pt x="3473" y="10765"/>
                  <a:pt x="3481" y="10765"/>
                  <a:pt x="3497" y="10765"/>
                </a:cubicBezTo>
                <a:cubicBezTo>
                  <a:pt x="3482" y="10827"/>
                  <a:pt x="3433" y="10818"/>
                  <a:pt x="3373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82840" y="3741840"/>
            <a:ext cx="339480" cy="241200"/>
          </a:xfrm>
          <a:custGeom>
            <a:avLst/>
            <a:gdLst/>
            <a:ahLst/>
            <a:rect l="l" t="t" r="r" b="b"/>
            <a:pathLst>
              <a:path w="943" h="671">
                <a:moveTo>
                  <a:pt x="4242" y="10592"/>
                </a:moveTo>
                <a:cubicBezTo>
                  <a:pt x="4204" y="10554"/>
                  <a:pt x="4192" y="10545"/>
                  <a:pt x="4192" y="10492"/>
                </a:cubicBezTo>
                <a:cubicBezTo>
                  <a:pt x="4192" y="10456"/>
                  <a:pt x="4222" y="10459"/>
                  <a:pt x="4242" y="10443"/>
                </a:cubicBezTo>
                <a:cubicBezTo>
                  <a:pt x="4273" y="10419"/>
                  <a:pt x="4302" y="10397"/>
                  <a:pt x="4341" y="10393"/>
                </a:cubicBezTo>
                <a:cubicBezTo>
                  <a:pt x="4376" y="10389"/>
                  <a:pt x="4416" y="10402"/>
                  <a:pt x="4440" y="10418"/>
                </a:cubicBezTo>
                <a:cubicBezTo>
                  <a:pt x="4466" y="10435"/>
                  <a:pt x="4508" y="10489"/>
                  <a:pt x="4514" y="10517"/>
                </a:cubicBezTo>
                <a:cubicBezTo>
                  <a:pt x="4516" y="10527"/>
                  <a:pt x="4539" y="10640"/>
                  <a:pt x="4539" y="10641"/>
                </a:cubicBezTo>
                <a:cubicBezTo>
                  <a:pt x="4514" y="10696"/>
                  <a:pt x="4465" y="10691"/>
                  <a:pt x="4415" y="10691"/>
                </a:cubicBezTo>
                <a:cubicBezTo>
                  <a:pt x="4342" y="10691"/>
                  <a:pt x="4327" y="10678"/>
                  <a:pt x="4266" y="10641"/>
                </a:cubicBezTo>
                <a:cubicBezTo>
                  <a:pt x="4224" y="10615"/>
                  <a:pt x="4202" y="10601"/>
                  <a:pt x="4167" y="10567"/>
                </a:cubicBezTo>
                <a:cubicBezTo>
                  <a:pt x="4167" y="10509"/>
                  <a:pt x="4192" y="10498"/>
                  <a:pt x="4242" y="10468"/>
                </a:cubicBezTo>
                <a:cubicBezTo>
                  <a:pt x="4284" y="10443"/>
                  <a:pt x="4365" y="10428"/>
                  <a:pt x="4415" y="10443"/>
                </a:cubicBezTo>
                <a:cubicBezTo>
                  <a:pt x="4505" y="10470"/>
                  <a:pt x="4573" y="10579"/>
                  <a:pt x="4589" y="10666"/>
                </a:cubicBezTo>
                <a:cubicBezTo>
                  <a:pt x="4606" y="10756"/>
                  <a:pt x="4591" y="10885"/>
                  <a:pt x="4539" y="10964"/>
                </a:cubicBezTo>
                <a:cubicBezTo>
                  <a:pt x="4483" y="11048"/>
                  <a:pt x="4374" y="11066"/>
                  <a:pt x="4291" y="11038"/>
                </a:cubicBezTo>
                <a:cubicBezTo>
                  <a:pt x="4175" y="10999"/>
                  <a:pt x="4172" y="10891"/>
                  <a:pt x="4142" y="10790"/>
                </a:cubicBezTo>
                <a:cubicBezTo>
                  <a:pt x="4122" y="10722"/>
                  <a:pt x="4118" y="10685"/>
                  <a:pt x="4118" y="10616"/>
                </a:cubicBezTo>
              </a:path>
              <a:path w="943" h="671">
                <a:moveTo>
                  <a:pt x="4762" y="10864"/>
                </a:moveTo>
                <a:cubicBezTo>
                  <a:pt x="4762" y="10801"/>
                  <a:pt x="4752" y="10747"/>
                  <a:pt x="4787" y="10691"/>
                </a:cubicBezTo>
                <a:cubicBezTo>
                  <a:pt x="4827" y="10627"/>
                  <a:pt x="4898" y="10599"/>
                  <a:pt x="4961" y="10567"/>
                </a:cubicBezTo>
                <a:cubicBezTo>
                  <a:pt x="5009" y="10543"/>
                  <a:pt x="5023" y="10535"/>
                  <a:pt x="5060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8080" y="3705120"/>
            <a:ext cx="152640" cy="26028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8855" y="10840"/>
                </a:moveTo>
                <a:cubicBezTo>
                  <a:pt x="8826" y="10877"/>
                  <a:pt x="8830" y="10891"/>
                  <a:pt x="8830" y="10939"/>
                </a:cubicBezTo>
                <a:cubicBezTo>
                  <a:pt x="8894" y="10923"/>
                  <a:pt x="8913" y="10871"/>
                  <a:pt x="8954" y="10815"/>
                </a:cubicBezTo>
                <a:cubicBezTo>
                  <a:pt x="9050" y="10684"/>
                  <a:pt x="9164" y="10556"/>
                  <a:pt x="9203" y="10393"/>
                </a:cubicBezTo>
                <a:cubicBezTo>
                  <a:pt x="9203" y="10368"/>
                  <a:pt x="9203" y="10344"/>
                  <a:pt x="9203" y="10319"/>
                </a:cubicBezTo>
                <a:cubicBezTo>
                  <a:pt x="9180" y="10273"/>
                  <a:pt x="9101" y="10423"/>
                  <a:pt x="9079" y="10468"/>
                </a:cubicBezTo>
                <a:cubicBezTo>
                  <a:pt x="9019" y="10591"/>
                  <a:pt x="8996" y="10759"/>
                  <a:pt x="9054" y="10889"/>
                </a:cubicBezTo>
                <a:cubicBezTo>
                  <a:pt x="9103" y="10999"/>
                  <a:pt x="9150" y="11027"/>
                  <a:pt x="9252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90920" y="3795840"/>
            <a:ext cx="117360" cy="7128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9947" y="10567"/>
                </a:moveTo>
                <a:cubicBezTo>
                  <a:pt x="9955" y="10559"/>
                  <a:pt x="9963" y="10550"/>
                  <a:pt x="9971" y="10542"/>
                </a:cubicBezTo>
                <a:cubicBezTo>
                  <a:pt x="9881" y="10542"/>
                  <a:pt x="9807" y="10547"/>
                  <a:pt x="9723" y="10567"/>
                </a:cubicBezTo>
                <a:cubicBezTo>
                  <a:pt x="9715" y="10567"/>
                  <a:pt x="9707" y="10567"/>
                  <a:pt x="9699" y="10567"/>
                </a:cubicBezTo>
              </a:path>
              <a:path w="323" h="199">
                <a:moveTo>
                  <a:pt x="9872" y="10666"/>
                </a:moveTo>
                <a:cubicBezTo>
                  <a:pt x="9943" y="10672"/>
                  <a:pt x="10002" y="10658"/>
                  <a:pt x="10021" y="10716"/>
                </a:cubicBezTo>
                <a:cubicBezTo>
                  <a:pt x="9977" y="10724"/>
                  <a:pt x="9943" y="10735"/>
                  <a:pt x="9897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7760" y="3544920"/>
            <a:ext cx="893520" cy="492120"/>
          </a:xfrm>
          <a:custGeom>
            <a:avLst/>
            <a:gdLst/>
            <a:ahLst/>
            <a:rect l="l" t="t" r="r" b="b"/>
            <a:pathLst>
              <a:path w="2481" h="1366">
                <a:moveTo>
                  <a:pt x="10740" y="10046"/>
                </a:moveTo>
                <a:cubicBezTo>
                  <a:pt x="10740" y="10021"/>
                  <a:pt x="10740" y="10013"/>
                  <a:pt x="10765" y="10021"/>
                </a:cubicBezTo>
                <a:cubicBezTo>
                  <a:pt x="10765" y="10137"/>
                  <a:pt x="10765" y="10252"/>
                  <a:pt x="10765" y="10368"/>
                </a:cubicBezTo>
              </a:path>
              <a:path w="2481" h="1366">
                <a:moveTo>
                  <a:pt x="10939" y="10021"/>
                </a:moveTo>
                <a:cubicBezTo>
                  <a:pt x="10905" y="10010"/>
                  <a:pt x="10898" y="9976"/>
                  <a:pt x="10939" y="9947"/>
                </a:cubicBezTo>
                <a:cubicBezTo>
                  <a:pt x="10988" y="9913"/>
                  <a:pt x="11032" y="9922"/>
                  <a:pt x="11088" y="9922"/>
                </a:cubicBezTo>
                <a:cubicBezTo>
                  <a:pt x="11140" y="9922"/>
                  <a:pt x="11149" y="10005"/>
                  <a:pt x="11137" y="10046"/>
                </a:cubicBezTo>
                <a:cubicBezTo>
                  <a:pt x="11118" y="10111"/>
                  <a:pt x="11065" y="10194"/>
                  <a:pt x="11038" y="10244"/>
                </a:cubicBezTo>
                <a:cubicBezTo>
                  <a:pt x="11015" y="10267"/>
                  <a:pt x="11007" y="10271"/>
                  <a:pt x="11013" y="10294"/>
                </a:cubicBezTo>
                <a:cubicBezTo>
                  <a:pt x="11064" y="10294"/>
                  <a:pt x="11071" y="10293"/>
                  <a:pt x="11112" y="10269"/>
                </a:cubicBezTo>
                <a:cubicBezTo>
                  <a:pt x="11169" y="10236"/>
                  <a:pt x="11227" y="10221"/>
                  <a:pt x="11286" y="10195"/>
                </a:cubicBezTo>
              </a:path>
              <a:path w="2481" h="1366">
                <a:moveTo>
                  <a:pt x="11559" y="9897"/>
                </a:moveTo>
                <a:cubicBezTo>
                  <a:pt x="11559" y="9845"/>
                  <a:pt x="11545" y="9947"/>
                  <a:pt x="11534" y="9971"/>
                </a:cubicBezTo>
                <a:cubicBezTo>
                  <a:pt x="11504" y="10034"/>
                  <a:pt x="11466" y="10079"/>
                  <a:pt x="11460" y="10145"/>
                </a:cubicBezTo>
                <a:cubicBezTo>
                  <a:pt x="11460" y="10153"/>
                  <a:pt x="11460" y="10162"/>
                  <a:pt x="11460" y="10170"/>
                </a:cubicBezTo>
                <a:cubicBezTo>
                  <a:pt x="11531" y="10170"/>
                  <a:pt x="11629" y="10147"/>
                  <a:pt x="11683" y="10195"/>
                </a:cubicBezTo>
                <a:cubicBezTo>
                  <a:pt x="11728" y="10235"/>
                  <a:pt x="11706" y="10254"/>
                  <a:pt x="11683" y="10294"/>
                </a:cubicBezTo>
                <a:cubicBezTo>
                  <a:pt x="11641" y="10368"/>
                  <a:pt x="11591" y="10344"/>
                  <a:pt x="11509" y="10344"/>
                </a:cubicBezTo>
              </a:path>
              <a:path w="2481" h="1366">
                <a:moveTo>
                  <a:pt x="11807" y="9872"/>
                </a:moveTo>
                <a:cubicBezTo>
                  <a:pt x="11832" y="9864"/>
                  <a:pt x="11856" y="9855"/>
                  <a:pt x="11881" y="9847"/>
                </a:cubicBezTo>
                <a:cubicBezTo>
                  <a:pt x="11809" y="9906"/>
                  <a:pt x="11744" y="9890"/>
                  <a:pt x="11658" y="9922"/>
                </a:cubicBezTo>
                <a:cubicBezTo>
                  <a:pt x="11603" y="9950"/>
                  <a:pt x="11580" y="9958"/>
                  <a:pt x="11534" y="9947"/>
                </a:cubicBezTo>
              </a:path>
              <a:path w="2481" h="1366">
                <a:moveTo>
                  <a:pt x="11782" y="10517"/>
                </a:moveTo>
                <a:cubicBezTo>
                  <a:pt x="11823" y="10517"/>
                  <a:pt x="11748" y="10508"/>
                  <a:pt x="11708" y="10517"/>
                </a:cubicBezTo>
                <a:cubicBezTo>
                  <a:pt x="11578" y="10547"/>
                  <a:pt x="11445" y="10568"/>
                  <a:pt x="11311" y="10592"/>
                </a:cubicBezTo>
                <a:cubicBezTo>
                  <a:pt x="11164" y="10619"/>
                  <a:pt x="11010" y="10650"/>
                  <a:pt x="10864" y="10666"/>
                </a:cubicBezTo>
                <a:cubicBezTo>
                  <a:pt x="10800" y="10673"/>
                  <a:pt x="10774" y="10691"/>
                  <a:pt x="10716" y="10691"/>
                </a:cubicBezTo>
              </a:path>
              <a:path w="2481" h="1366">
                <a:moveTo>
                  <a:pt x="10840" y="10889"/>
                </a:moveTo>
                <a:cubicBezTo>
                  <a:pt x="10815" y="10889"/>
                  <a:pt x="10807" y="10889"/>
                  <a:pt x="10790" y="10889"/>
                </a:cubicBezTo>
                <a:cubicBezTo>
                  <a:pt x="10840" y="10859"/>
                  <a:pt x="10900" y="10843"/>
                  <a:pt x="10964" y="10840"/>
                </a:cubicBezTo>
                <a:cubicBezTo>
                  <a:pt x="11028" y="10837"/>
                  <a:pt x="11067" y="10877"/>
                  <a:pt x="11088" y="10939"/>
                </a:cubicBezTo>
                <a:cubicBezTo>
                  <a:pt x="11088" y="10947"/>
                  <a:pt x="11088" y="10956"/>
                  <a:pt x="11088" y="10964"/>
                </a:cubicBezTo>
                <a:cubicBezTo>
                  <a:pt x="11068" y="10975"/>
                  <a:pt x="10973" y="11025"/>
                  <a:pt x="10964" y="11038"/>
                </a:cubicBezTo>
                <a:cubicBezTo>
                  <a:pt x="10964" y="11046"/>
                  <a:pt x="10964" y="11055"/>
                  <a:pt x="10964" y="11063"/>
                </a:cubicBezTo>
                <a:cubicBezTo>
                  <a:pt x="11004" y="11063"/>
                  <a:pt x="11056" y="11069"/>
                  <a:pt x="11088" y="11088"/>
                </a:cubicBezTo>
                <a:cubicBezTo>
                  <a:pt x="11122" y="11108"/>
                  <a:pt x="11126" y="11168"/>
                  <a:pt x="11088" y="11187"/>
                </a:cubicBezTo>
                <a:cubicBezTo>
                  <a:pt x="11018" y="11223"/>
                  <a:pt x="10960" y="11211"/>
                  <a:pt x="10889" y="11187"/>
                </a:cubicBezTo>
              </a:path>
              <a:path w="2481" h="1366">
                <a:moveTo>
                  <a:pt x="11385" y="10840"/>
                </a:moveTo>
                <a:cubicBezTo>
                  <a:pt x="11408" y="10817"/>
                  <a:pt x="11416" y="10813"/>
                  <a:pt x="11410" y="10790"/>
                </a:cubicBezTo>
                <a:cubicBezTo>
                  <a:pt x="11393" y="10857"/>
                  <a:pt x="11330" y="10885"/>
                  <a:pt x="11311" y="10964"/>
                </a:cubicBezTo>
                <a:cubicBezTo>
                  <a:pt x="11290" y="11052"/>
                  <a:pt x="11316" y="11136"/>
                  <a:pt x="11410" y="11162"/>
                </a:cubicBezTo>
                <a:cubicBezTo>
                  <a:pt x="11462" y="11177"/>
                  <a:pt x="11503" y="11164"/>
                  <a:pt x="11509" y="11112"/>
                </a:cubicBezTo>
                <a:cubicBezTo>
                  <a:pt x="11509" y="11088"/>
                  <a:pt x="11509" y="11079"/>
                  <a:pt x="11509" y="11063"/>
                </a:cubicBezTo>
                <a:cubicBezTo>
                  <a:pt x="11445" y="11063"/>
                  <a:pt x="11445" y="11064"/>
                  <a:pt x="11385" y="11038"/>
                </a:cubicBezTo>
              </a:path>
              <a:path w="2481" h="1366">
                <a:moveTo>
                  <a:pt x="11658" y="10964"/>
                </a:moveTo>
                <a:cubicBezTo>
                  <a:pt x="11636" y="10986"/>
                  <a:pt x="11631" y="10994"/>
                  <a:pt x="11609" y="10988"/>
                </a:cubicBezTo>
                <a:cubicBezTo>
                  <a:pt x="11609" y="10940"/>
                  <a:pt x="11614" y="10895"/>
                  <a:pt x="11658" y="10864"/>
                </a:cubicBezTo>
                <a:cubicBezTo>
                  <a:pt x="11730" y="10813"/>
                  <a:pt x="11798" y="10839"/>
                  <a:pt x="11832" y="10914"/>
                </a:cubicBezTo>
                <a:cubicBezTo>
                  <a:pt x="11866" y="10989"/>
                  <a:pt x="11874" y="11094"/>
                  <a:pt x="11782" y="11137"/>
                </a:cubicBezTo>
                <a:cubicBezTo>
                  <a:pt x="11711" y="11170"/>
                  <a:pt x="11632" y="11124"/>
                  <a:pt x="11584" y="11088"/>
                </a:cubicBezTo>
              </a:path>
              <a:path w="2481" h="1366">
                <a:moveTo>
                  <a:pt x="12254" y="10393"/>
                </a:moveTo>
                <a:cubicBezTo>
                  <a:pt x="12254" y="10368"/>
                  <a:pt x="12254" y="10360"/>
                  <a:pt x="12229" y="10368"/>
                </a:cubicBezTo>
                <a:cubicBezTo>
                  <a:pt x="12252" y="10346"/>
                  <a:pt x="12299" y="10277"/>
                  <a:pt x="12328" y="10269"/>
                </a:cubicBezTo>
                <a:cubicBezTo>
                  <a:pt x="12392" y="10251"/>
                  <a:pt x="12463" y="10308"/>
                  <a:pt x="12477" y="10368"/>
                </a:cubicBezTo>
                <a:cubicBezTo>
                  <a:pt x="12493" y="10437"/>
                  <a:pt x="12447" y="10519"/>
                  <a:pt x="12402" y="10567"/>
                </a:cubicBezTo>
                <a:cubicBezTo>
                  <a:pt x="12359" y="10613"/>
                  <a:pt x="12317" y="10659"/>
                  <a:pt x="12303" y="10716"/>
                </a:cubicBezTo>
                <a:cubicBezTo>
                  <a:pt x="12370" y="10716"/>
                  <a:pt x="12410" y="10679"/>
                  <a:pt x="12477" y="10666"/>
                </a:cubicBezTo>
                <a:cubicBezTo>
                  <a:pt x="12537" y="10654"/>
                  <a:pt x="12579" y="10677"/>
                  <a:pt x="12626" y="10691"/>
                </a:cubicBezTo>
                <a:cubicBezTo>
                  <a:pt x="12654" y="10691"/>
                  <a:pt x="12664" y="10694"/>
                  <a:pt x="12675" y="10716"/>
                </a:cubicBezTo>
              </a:path>
              <a:path w="2481" h="1366">
                <a:moveTo>
                  <a:pt x="12774" y="10443"/>
                </a:moveTo>
                <a:cubicBezTo>
                  <a:pt x="12794" y="10402"/>
                  <a:pt x="12792" y="10386"/>
                  <a:pt x="12824" y="10393"/>
                </a:cubicBezTo>
                <a:cubicBezTo>
                  <a:pt x="12824" y="10466"/>
                  <a:pt x="12803" y="10518"/>
                  <a:pt x="12799" y="10592"/>
                </a:cubicBezTo>
                <a:cubicBezTo>
                  <a:pt x="12795" y="10669"/>
                  <a:pt x="12809" y="10710"/>
                  <a:pt x="12874" y="10716"/>
                </a:cubicBezTo>
                <a:cubicBezTo>
                  <a:pt x="12902" y="10716"/>
                  <a:pt x="12912" y="10713"/>
                  <a:pt x="12923" y="10691"/>
                </a:cubicBezTo>
              </a:path>
              <a:path w="2481" h="1366">
                <a:moveTo>
                  <a:pt x="13022" y="10393"/>
                </a:moveTo>
                <a:cubicBezTo>
                  <a:pt x="12993" y="10444"/>
                  <a:pt x="12977" y="10504"/>
                  <a:pt x="12973" y="10567"/>
                </a:cubicBezTo>
                <a:cubicBezTo>
                  <a:pt x="12969" y="10638"/>
                  <a:pt x="12996" y="10720"/>
                  <a:pt x="13072" y="10740"/>
                </a:cubicBezTo>
                <a:cubicBezTo>
                  <a:pt x="13145" y="10759"/>
                  <a:pt x="13163" y="10713"/>
                  <a:pt x="13196" y="10666"/>
                </a:cubicBezTo>
              </a:path>
              <a:path w="2481" h="1366">
                <a:moveTo>
                  <a:pt x="13171" y="10344"/>
                </a:moveTo>
                <a:cubicBezTo>
                  <a:pt x="13138" y="10285"/>
                  <a:pt x="13124" y="10251"/>
                  <a:pt x="13047" y="10269"/>
                </a:cubicBezTo>
                <a:cubicBezTo>
                  <a:pt x="12948" y="10292"/>
                  <a:pt x="12851" y="10309"/>
                  <a:pt x="1275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94200" y="3643200"/>
            <a:ext cx="419040" cy="18756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3593" y="10492"/>
                </a:moveTo>
                <a:cubicBezTo>
                  <a:pt x="13593" y="10517"/>
                  <a:pt x="13593" y="10525"/>
                  <a:pt x="13593" y="10542"/>
                </a:cubicBezTo>
              </a:path>
              <a:path w="1167" h="522">
                <a:moveTo>
                  <a:pt x="13866" y="10145"/>
                </a:moveTo>
                <a:cubicBezTo>
                  <a:pt x="13825" y="10155"/>
                  <a:pt x="13826" y="10154"/>
                  <a:pt x="13816" y="10195"/>
                </a:cubicBezTo>
                <a:cubicBezTo>
                  <a:pt x="13828" y="10219"/>
                  <a:pt x="13907" y="10188"/>
                  <a:pt x="13965" y="10170"/>
                </a:cubicBezTo>
                <a:cubicBezTo>
                  <a:pt x="14055" y="10142"/>
                  <a:pt x="14146" y="10124"/>
                  <a:pt x="14238" y="10120"/>
                </a:cubicBezTo>
                <a:cubicBezTo>
                  <a:pt x="14314" y="10116"/>
                  <a:pt x="14332" y="10116"/>
                  <a:pt x="14337" y="10195"/>
                </a:cubicBezTo>
                <a:cubicBezTo>
                  <a:pt x="14343" y="10298"/>
                  <a:pt x="14285" y="10383"/>
                  <a:pt x="14238" y="10468"/>
                </a:cubicBezTo>
                <a:cubicBezTo>
                  <a:pt x="14204" y="10529"/>
                  <a:pt x="14069" y="10642"/>
                  <a:pt x="14139" y="10641"/>
                </a:cubicBezTo>
                <a:cubicBezTo>
                  <a:pt x="14147" y="10633"/>
                  <a:pt x="14155" y="10624"/>
                  <a:pt x="14163" y="10616"/>
                </a:cubicBezTo>
              </a:path>
              <a:path w="1167" h="522">
                <a:moveTo>
                  <a:pt x="14511" y="10443"/>
                </a:moveTo>
                <a:cubicBezTo>
                  <a:pt x="14491" y="10416"/>
                  <a:pt x="14472" y="10383"/>
                  <a:pt x="14486" y="10344"/>
                </a:cubicBezTo>
                <a:cubicBezTo>
                  <a:pt x="14511" y="10275"/>
                  <a:pt x="14548" y="10201"/>
                  <a:pt x="14635" y="10220"/>
                </a:cubicBezTo>
                <a:cubicBezTo>
                  <a:pt x="14718" y="10238"/>
                  <a:pt x="14754" y="10350"/>
                  <a:pt x="14759" y="10418"/>
                </a:cubicBezTo>
                <a:cubicBezTo>
                  <a:pt x="14766" y="10507"/>
                  <a:pt x="14701" y="10576"/>
                  <a:pt x="14610" y="10592"/>
                </a:cubicBezTo>
                <a:cubicBezTo>
                  <a:pt x="14525" y="10607"/>
                  <a:pt x="14445" y="10571"/>
                  <a:pt x="14436" y="10492"/>
                </a:cubicBezTo>
                <a:cubicBezTo>
                  <a:pt x="14436" y="10476"/>
                  <a:pt x="14436" y="10459"/>
                  <a:pt x="14436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11920" y="3490920"/>
            <a:ext cx="142920" cy="295200"/>
          </a:xfrm>
          <a:custGeom>
            <a:avLst/>
            <a:gdLst/>
            <a:ahLst/>
            <a:rect l="l" t="t" r="r" b="b"/>
            <a:pathLst>
              <a:path w="398" h="819">
                <a:moveTo>
                  <a:pt x="16446" y="10195"/>
                </a:moveTo>
                <a:cubicBezTo>
                  <a:pt x="16446" y="10262"/>
                  <a:pt x="16437" y="10287"/>
                  <a:pt x="16421" y="10319"/>
                </a:cubicBezTo>
                <a:cubicBezTo>
                  <a:pt x="16421" y="10344"/>
                  <a:pt x="16421" y="10352"/>
                  <a:pt x="16421" y="10368"/>
                </a:cubicBezTo>
                <a:cubicBezTo>
                  <a:pt x="16464" y="10326"/>
                  <a:pt x="16515" y="10270"/>
                  <a:pt x="16545" y="10220"/>
                </a:cubicBezTo>
                <a:cubicBezTo>
                  <a:pt x="16612" y="10109"/>
                  <a:pt x="16690" y="9948"/>
                  <a:pt x="16718" y="9823"/>
                </a:cubicBezTo>
                <a:cubicBezTo>
                  <a:pt x="16732" y="9761"/>
                  <a:pt x="16724" y="9739"/>
                  <a:pt x="16694" y="9699"/>
                </a:cubicBezTo>
                <a:cubicBezTo>
                  <a:pt x="16624" y="9781"/>
                  <a:pt x="16540" y="9887"/>
                  <a:pt x="16520" y="9996"/>
                </a:cubicBezTo>
                <a:cubicBezTo>
                  <a:pt x="16494" y="10137"/>
                  <a:pt x="16514" y="10321"/>
                  <a:pt x="16594" y="10443"/>
                </a:cubicBezTo>
                <a:cubicBezTo>
                  <a:pt x="16636" y="10507"/>
                  <a:pt x="16709" y="10542"/>
                  <a:pt x="16768" y="10492"/>
                </a:cubicBezTo>
                <a:cubicBezTo>
                  <a:pt x="16785" y="10476"/>
                  <a:pt x="16801" y="10459"/>
                  <a:pt x="1681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97760" y="3633840"/>
            <a:ext cx="98280" cy="98280"/>
          </a:xfrm>
          <a:custGeom>
            <a:avLst/>
            <a:gdLst/>
            <a:ahLst/>
            <a:rect l="l" t="t" r="r" b="b"/>
            <a:pathLst>
              <a:path w="274" h="273">
                <a:moveTo>
                  <a:pt x="17413" y="10096"/>
                </a:moveTo>
                <a:cubicBezTo>
                  <a:pt x="17393" y="10134"/>
                  <a:pt x="17340" y="10157"/>
                  <a:pt x="17289" y="10170"/>
                </a:cubicBezTo>
                <a:cubicBezTo>
                  <a:pt x="17243" y="10182"/>
                  <a:pt x="17229" y="10149"/>
                  <a:pt x="17214" y="10195"/>
                </a:cubicBezTo>
              </a:path>
              <a:path w="274" h="273">
                <a:moveTo>
                  <a:pt x="17462" y="10319"/>
                </a:moveTo>
                <a:cubicBezTo>
                  <a:pt x="17470" y="10319"/>
                  <a:pt x="17479" y="10319"/>
                  <a:pt x="17487" y="10319"/>
                </a:cubicBezTo>
                <a:cubicBezTo>
                  <a:pt x="17475" y="10368"/>
                  <a:pt x="17463" y="10368"/>
                  <a:pt x="17413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18160" y="3500280"/>
            <a:ext cx="233640" cy="374760"/>
          </a:xfrm>
          <a:custGeom>
            <a:avLst/>
            <a:gdLst/>
            <a:ahLst/>
            <a:rect l="l" t="t" r="r" b="b"/>
            <a:pathLst>
              <a:path w="646" h="1043">
                <a:moveTo>
                  <a:pt x="18256" y="9847"/>
                </a:moveTo>
                <a:cubicBezTo>
                  <a:pt x="18256" y="9823"/>
                  <a:pt x="18256" y="9814"/>
                  <a:pt x="18256" y="9798"/>
                </a:cubicBezTo>
                <a:cubicBezTo>
                  <a:pt x="18256" y="9889"/>
                  <a:pt x="18256" y="9980"/>
                  <a:pt x="18256" y="10071"/>
                </a:cubicBezTo>
              </a:path>
              <a:path w="646" h="1043">
                <a:moveTo>
                  <a:pt x="18430" y="9748"/>
                </a:moveTo>
                <a:cubicBezTo>
                  <a:pt x="18438" y="9740"/>
                  <a:pt x="18447" y="9731"/>
                  <a:pt x="18455" y="9723"/>
                </a:cubicBezTo>
                <a:cubicBezTo>
                  <a:pt x="18445" y="9796"/>
                  <a:pt x="18430" y="9839"/>
                  <a:pt x="18430" y="9922"/>
                </a:cubicBezTo>
                <a:cubicBezTo>
                  <a:pt x="18430" y="9970"/>
                  <a:pt x="18416" y="10073"/>
                  <a:pt x="18479" y="10096"/>
                </a:cubicBezTo>
                <a:cubicBezTo>
                  <a:pt x="18523" y="10112"/>
                  <a:pt x="18569" y="10066"/>
                  <a:pt x="18604" y="10046"/>
                </a:cubicBezTo>
              </a:path>
              <a:path w="646" h="1043">
                <a:moveTo>
                  <a:pt x="18653" y="9748"/>
                </a:moveTo>
                <a:cubicBezTo>
                  <a:pt x="18640" y="9710"/>
                  <a:pt x="18624" y="9723"/>
                  <a:pt x="18579" y="9723"/>
                </a:cubicBezTo>
                <a:cubicBezTo>
                  <a:pt x="18466" y="9723"/>
                  <a:pt x="18367" y="9737"/>
                  <a:pt x="18256" y="9748"/>
                </a:cubicBezTo>
                <a:cubicBezTo>
                  <a:pt x="18208" y="9753"/>
                  <a:pt x="18156" y="9748"/>
                  <a:pt x="18107" y="9748"/>
                </a:cubicBezTo>
              </a:path>
              <a:path w="646" h="1043">
                <a:moveTo>
                  <a:pt x="18653" y="10244"/>
                </a:moveTo>
                <a:cubicBezTo>
                  <a:pt x="18676" y="10267"/>
                  <a:pt x="18680" y="10275"/>
                  <a:pt x="18703" y="10269"/>
                </a:cubicBezTo>
                <a:cubicBezTo>
                  <a:pt x="18597" y="10269"/>
                  <a:pt x="18131" y="10221"/>
                  <a:pt x="18107" y="10294"/>
                </a:cubicBezTo>
              </a:path>
              <a:path w="646" h="1043">
                <a:moveTo>
                  <a:pt x="18355" y="10517"/>
                </a:moveTo>
                <a:cubicBezTo>
                  <a:pt x="18347" y="10517"/>
                  <a:pt x="18339" y="10517"/>
                  <a:pt x="18331" y="10517"/>
                </a:cubicBezTo>
                <a:cubicBezTo>
                  <a:pt x="18343" y="10469"/>
                  <a:pt x="18377" y="10436"/>
                  <a:pt x="18430" y="10418"/>
                </a:cubicBezTo>
                <a:cubicBezTo>
                  <a:pt x="18464" y="10407"/>
                  <a:pt x="18517" y="10418"/>
                  <a:pt x="18554" y="10418"/>
                </a:cubicBezTo>
                <a:cubicBezTo>
                  <a:pt x="18554" y="10489"/>
                  <a:pt x="18539" y="10509"/>
                  <a:pt x="18504" y="10567"/>
                </a:cubicBezTo>
                <a:cubicBezTo>
                  <a:pt x="18477" y="10612"/>
                  <a:pt x="18425" y="10671"/>
                  <a:pt x="18405" y="10716"/>
                </a:cubicBezTo>
                <a:cubicBezTo>
                  <a:pt x="18405" y="10724"/>
                  <a:pt x="18405" y="10732"/>
                  <a:pt x="18405" y="10740"/>
                </a:cubicBezTo>
                <a:cubicBezTo>
                  <a:pt x="18445" y="10770"/>
                  <a:pt x="18499" y="10777"/>
                  <a:pt x="18554" y="10765"/>
                </a:cubicBezTo>
                <a:cubicBezTo>
                  <a:pt x="18634" y="10747"/>
                  <a:pt x="18670" y="10723"/>
                  <a:pt x="18752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19920" y="3616200"/>
            <a:ext cx="393840" cy="196920"/>
          </a:xfrm>
          <a:custGeom>
            <a:avLst/>
            <a:gdLst/>
            <a:ahLst/>
            <a:rect l="l" t="t" r="r" b="b"/>
            <a:pathLst>
              <a:path w="1092" h="547">
                <a:moveTo>
                  <a:pt x="19447" y="10195"/>
                </a:moveTo>
                <a:cubicBezTo>
                  <a:pt x="19447" y="10187"/>
                  <a:pt x="19447" y="10178"/>
                  <a:pt x="19447" y="10170"/>
                </a:cubicBezTo>
                <a:cubicBezTo>
                  <a:pt x="19508" y="10190"/>
                  <a:pt x="19445" y="10187"/>
                  <a:pt x="19422" y="10220"/>
                </a:cubicBezTo>
                <a:cubicBezTo>
                  <a:pt x="19386" y="10272"/>
                  <a:pt x="19338" y="10322"/>
                  <a:pt x="19273" y="10344"/>
                </a:cubicBezTo>
                <a:cubicBezTo>
                  <a:pt x="19245" y="10344"/>
                  <a:pt x="19235" y="10346"/>
                  <a:pt x="19224" y="10368"/>
                </a:cubicBezTo>
              </a:path>
              <a:path w="1092" h="547">
                <a:moveTo>
                  <a:pt x="19447" y="10443"/>
                </a:moveTo>
                <a:cubicBezTo>
                  <a:pt x="19487" y="10463"/>
                  <a:pt x="19493" y="10472"/>
                  <a:pt x="19521" y="10468"/>
                </a:cubicBezTo>
                <a:cubicBezTo>
                  <a:pt x="19506" y="10406"/>
                  <a:pt x="19470" y="10407"/>
                  <a:pt x="19422" y="10368"/>
                </a:cubicBezTo>
                <a:cubicBezTo>
                  <a:pt x="19362" y="10319"/>
                  <a:pt x="19309" y="10267"/>
                  <a:pt x="19248" y="10220"/>
                </a:cubicBezTo>
              </a:path>
              <a:path w="1092" h="547">
                <a:moveTo>
                  <a:pt x="19819" y="10071"/>
                </a:moveTo>
                <a:cubicBezTo>
                  <a:pt x="19819" y="10063"/>
                  <a:pt x="19819" y="10054"/>
                  <a:pt x="19819" y="10046"/>
                </a:cubicBezTo>
                <a:cubicBezTo>
                  <a:pt x="19871" y="10059"/>
                  <a:pt x="19887" y="10114"/>
                  <a:pt x="19893" y="10170"/>
                </a:cubicBezTo>
                <a:cubicBezTo>
                  <a:pt x="19904" y="10278"/>
                  <a:pt x="19896" y="10399"/>
                  <a:pt x="19869" y="10492"/>
                </a:cubicBezTo>
                <a:cubicBezTo>
                  <a:pt x="19869" y="10500"/>
                  <a:pt x="19869" y="10509"/>
                  <a:pt x="19869" y="10517"/>
                </a:cubicBezTo>
              </a:path>
              <a:path w="1092" h="547">
                <a:moveTo>
                  <a:pt x="20191" y="10071"/>
                </a:moveTo>
                <a:cubicBezTo>
                  <a:pt x="20262" y="10036"/>
                  <a:pt x="20134" y="10183"/>
                  <a:pt x="20117" y="10220"/>
                </a:cubicBezTo>
                <a:cubicBezTo>
                  <a:pt x="20074" y="10313"/>
                  <a:pt x="20081" y="10426"/>
                  <a:pt x="20117" y="10517"/>
                </a:cubicBezTo>
                <a:cubicBezTo>
                  <a:pt x="20146" y="10590"/>
                  <a:pt x="20204" y="10616"/>
                  <a:pt x="20265" y="10567"/>
                </a:cubicBezTo>
                <a:cubicBezTo>
                  <a:pt x="20299" y="10539"/>
                  <a:pt x="20307" y="10508"/>
                  <a:pt x="20315" y="10468"/>
                </a:cubicBezTo>
                <a:cubicBezTo>
                  <a:pt x="20276" y="10439"/>
                  <a:pt x="20240" y="10439"/>
                  <a:pt x="20191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43880" y="3463920"/>
            <a:ext cx="1071360" cy="250920"/>
          </a:xfrm>
          <a:custGeom>
            <a:avLst/>
            <a:gdLst/>
            <a:ahLst/>
            <a:rect l="l" t="t" r="r" b="b"/>
            <a:pathLst>
              <a:path w="2977" h="696">
                <a:moveTo>
                  <a:pt x="21357" y="10021"/>
                </a:moveTo>
                <a:cubicBezTo>
                  <a:pt x="21382" y="10021"/>
                  <a:pt x="21390" y="10021"/>
                  <a:pt x="21406" y="10021"/>
                </a:cubicBezTo>
                <a:cubicBezTo>
                  <a:pt x="21348" y="10021"/>
                  <a:pt x="21291" y="10021"/>
                  <a:pt x="21233" y="10021"/>
                </a:cubicBezTo>
              </a:path>
              <a:path w="2977" h="696">
                <a:moveTo>
                  <a:pt x="21332" y="10220"/>
                </a:moveTo>
                <a:cubicBezTo>
                  <a:pt x="21373" y="10220"/>
                  <a:pt x="21381" y="10220"/>
                  <a:pt x="21406" y="10220"/>
                </a:cubicBezTo>
                <a:cubicBezTo>
                  <a:pt x="21378" y="10275"/>
                  <a:pt x="21345" y="10269"/>
                  <a:pt x="21282" y="10269"/>
                </a:cubicBezTo>
              </a:path>
              <a:path w="2977" h="696">
                <a:moveTo>
                  <a:pt x="21779" y="9947"/>
                </a:moveTo>
                <a:cubicBezTo>
                  <a:pt x="21737" y="9933"/>
                  <a:pt x="21749" y="9907"/>
                  <a:pt x="21779" y="9872"/>
                </a:cubicBezTo>
                <a:cubicBezTo>
                  <a:pt x="21823" y="9821"/>
                  <a:pt x="21837" y="9823"/>
                  <a:pt x="21903" y="9823"/>
                </a:cubicBezTo>
                <a:cubicBezTo>
                  <a:pt x="21944" y="9823"/>
                  <a:pt x="21975" y="9858"/>
                  <a:pt x="21977" y="9897"/>
                </a:cubicBezTo>
                <a:cubicBezTo>
                  <a:pt x="21982" y="9989"/>
                  <a:pt x="21974" y="10064"/>
                  <a:pt x="21927" y="10145"/>
                </a:cubicBezTo>
                <a:cubicBezTo>
                  <a:pt x="21900" y="10192"/>
                  <a:pt x="21824" y="10246"/>
                  <a:pt x="21803" y="10294"/>
                </a:cubicBezTo>
                <a:cubicBezTo>
                  <a:pt x="21803" y="10302"/>
                  <a:pt x="21803" y="10311"/>
                  <a:pt x="21803" y="10319"/>
                </a:cubicBezTo>
                <a:cubicBezTo>
                  <a:pt x="21879" y="10319"/>
                  <a:pt x="21932" y="10306"/>
                  <a:pt x="22002" y="10294"/>
                </a:cubicBezTo>
                <a:cubicBezTo>
                  <a:pt x="22049" y="10286"/>
                  <a:pt x="22103" y="10294"/>
                  <a:pt x="22151" y="10294"/>
                </a:cubicBezTo>
              </a:path>
              <a:path w="2977" h="696">
                <a:moveTo>
                  <a:pt x="22423" y="9897"/>
                </a:moveTo>
                <a:cubicBezTo>
                  <a:pt x="22431" y="9880"/>
                  <a:pt x="22440" y="9864"/>
                  <a:pt x="22448" y="9847"/>
                </a:cubicBezTo>
                <a:cubicBezTo>
                  <a:pt x="22432" y="9928"/>
                  <a:pt x="22388" y="9929"/>
                  <a:pt x="22349" y="9996"/>
                </a:cubicBezTo>
                <a:cubicBezTo>
                  <a:pt x="22335" y="10020"/>
                  <a:pt x="22330" y="10067"/>
                  <a:pt x="22324" y="10096"/>
                </a:cubicBezTo>
                <a:cubicBezTo>
                  <a:pt x="22374" y="10108"/>
                  <a:pt x="22389" y="10120"/>
                  <a:pt x="22448" y="10120"/>
                </a:cubicBezTo>
                <a:cubicBezTo>
                  <a:pt x="22503" y="10120"/>
                  <a:pt x="22528" y="10145"/>
                  <a:pt x="22547" y="10170"/>
                </a:cubicBezTo>
                <a:cubicBezTo>
                  <a:pt x="22575" y="10208"/>
                  <a:pt x="22580" y="10244"/>
                  <a:pt x="22523" y="10269"/>
                </a:cubicBezTo>
                <a:cubicBezTo>
                  <a:pt x="22476" y="10290"/>
                  <a:pt x="22427" y="10294"/>
                  <a:pt x="22374" y="10294"/>
                </a:cubicBezTo>
              </a:path>
              <a:path w="2977" h="696">
                <a:moveTo>
                  <a:pt x="22721" y="9922"/>
                </a:moveTo>
                <a:cubicBezTo>
                  <a:pt x="22760" y="9883"/>
                  <a:pt x="22777" y="9881"/>
                  <a:pt x="22771" y="9847"/>
                </a:cubicBezTo>
                <a:cubicBezTo>
                  <a:pt x="22705" y="9847"/>
                  <a:pt x="22638" y="9847"/>
                  <a:pt x="22572" y="9847"/>
                </a:cubicBezTo>
              </a:path>
              <a:path w="2977" h="696">
                <a:moveTo>
                  <a:pt x="22845" y="10170"/>
                </a:moveTo>
                <a:cubicBezTo>
                  <a:pt x="22845" y="10211"/>
                  <a:pt x="22845" y="10219"/>
                  <a:pt x="22845" y="10244"/>
                </a:cubicBezTo>
              </a:path>
              <a:path w="2977" h="696">
                <a:moveTo>
                  <a:pt x="23118" y="9922"/>
                </a:moveTo>
                <a:cubicBezTo>
                  <a:pt x="23126" y="9905"/>
                  <a:pt x="23135" y="9889"/>
                  <a:pt x="23143" y="9872"/>
                </a:cubicBezTo>
                <a:cubicBezTo>
                  <a:pt x="23143" y="9934"/>
                  <a:pt x="23135" y="10013"/>
                  <a:pt x="23118" y="10071"/>
                </a:cubicBezTo>
                <a:cubicBezTo>
                  <a:pt x="23102" y="10126"/>
                  <a:pt x="23093" y="10159"/>
                  <a:pt x="23093" y="10220"/>
                </a:cubicBezTo>
              </a:path>
              <a:path w="2977" h="696">
                <a:moveTo>
                  <a:pt x="23341" y="9872"/>
                </a:moveTo>
                <a:cubicBezTo>
                  <a:pt x="23354" y="9834"/>
                  <a:pt x="23363" y="9844"/>
                  <a:pt x="23391" y="9823"/>
                </a:cubicBezTo>
                <a:cubicBezTo>
                  <a:pt x="23432" y="9793"/>
                  <a:pt x="23468" y="9742"/>
                  <a:pt x="23515" y="9723"/>
                </a:cubicBezTo>
                <a:cubicBezTo>
                  <a:pt x="23558" y="9706"/>
                  <a:pt x="23585" y="9736"/>
                  <a:pt x="23589" y="9773"/>
                </a:cubicBezTo>
                <a:cubicBezTo>
                  <a:pt x="23594" y="9817"/>
                  <a:pt x="23540" y="9888"/>
                  <a:pt x="23515" y="9922"/>
                </a:cubicBezTo>
                <a:cubicBezTo>
                  <a:pt x="23496" y="9948"/>
                  <a:pt x="23470" y="10010"/>
                  <a:pt x="23490" y="10046"/>
                </a:cubicBezTo>
                <a:cubicBezTo>
                  <a:pt x="23513" y="10088"/>
                  <a:pt x="23560" y="10083"/>
                  <a:pt x="23564" y="10120"/>
                </a:cubicBezTo>
                <a:cubicBezTo>
                  <a:pt x="23570" y="10173"/>
                  <a:pt x="23528" y="10170"/>
                  <a:pt x="23490" y="10170"/>
                </a:cubicBezTo>
                <a:cubicBezTo>
                  <a:pt x="23449" y="10170"/>
                  <a:pt x="23441" y="10170"/>
                  <a:pt x="23416" y="10170"/>
                </a:cubicBezTo>
              </a:path>
              <a:path w="2977" h="696">
                <a:moveTo>
                  <a:pt x="23763" y="9872"/>
                </a:moveTo>
                <a:cubicBezTo>
                  <a:pt x="23763" y="9809"/>
                  <a:pt x="23786" y="9830"/>
                  <a:pt x="23812" y="9798"/>
                </a:cubicBezTo>
                <a:cubicBezTo>
                  <a:pt x="23860" y="9739"/>
                  <a:pt x="23894" y="9694"/>
                  <a:pt x="23961" y="9649"/>
                </a:cubicBezTo>
                <a:cubicBezTo>
                  <a:pt x="24006" y="9619"/>
                  <a:pt x="24035" y="9624"/>
                  <a:pt x="24085" y="9624"/>
                </a:cubicBezTo>
                <a:cubicBezTo>
                  <a:pt x="24085" y="9717"/>
                  <a:pt x="24062" y="9722"/>
                  <a:pt x="24011" y="9798"/>
                </a:cubicBezTo>
                <a:cubicBezTo>
                  <a:pt x="23971" y="9858"/>
                  <a:pt x="23942" y="9926"/>
                  <a:pt x="23937" y="9996"/>
                </a:cubicBezTo>
                <a:cubicBezTo>
                  <a:pt x="23937" y="10021"/>
                  <a:pt x="23937" y="10029"/>
                  <a:pt x="23937" y="10046"/>
                </a:cubicBezTo>
                <a:cubicBezTo>
                  <a:pt x="23990" y="10046"/>
                  <a:pt x="24010" y="10045"/>
                  <a:pt x="24061" y="10021"/>
                </a:cubicBezTo>
                <a:cubicBezTo>
                  <a:pt x="24117" y="9995"/>
                  <a:pt x="24148" y="9959"/>
                  <a:pt x="24209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97000" y="4286160"/>
            <a:ext cx="106200" cy="810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3522" y="11906"/>
                </a:moveTo>
                <a:cubicBezTo>
                  <a:pt x="3530" y="11906"/>
                  <a:pt x="3539" y="11906"/>
                  <a:pt x="3547" y="11906"/>
                </a:cubicBezTo>
                <a:cubicBezTo>
                  <a:pt x="3474" y="11906"/>
                  <a:pt x="3381" y="11888"/>
                  <a:pt x="3324" y="11931"/>
                </a:cubicBezTo>
              </a:path>
              <a:path w="298" h="224">
                <a:moveTo>
                  <a:pt x="3522" y="12055"/>
                </a:moveTo>
                <a:cubicBezTo>
                  <a:pt x="3583" y="12055"/>
                  <a:pt x="3606" y="12044"/>
                  <a:pt x="3621" y="12105"/>
                </a:cubicBezTo>
                <a:cubicBezTo>
                  <a:pt x="3577" y="12105"/>
                  <a:pt x="3561" y="12120"/>
                  <a:pt x="3522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17760" y="4160880"/>
            <a:ext cx="546120" cy="241200"/>
          </a:xfrm>
          <a:custGeom>
            <a:avLst/>
            <a:gdLst/>
            <a:ahLst/>
            <a:rect l="l" t="t" r="r" b="b"/>
            <a:pathLst>
              <a:path w="1514" h="671">
                <a:moveTo>
                  <a:pt x="4217" y="11757"/>
                </a:moveTo>
                <a:cubicBezTo>
                  <a:pt x="4217" y="11733"/>
                  <a:pt x="4217" y="11725"/>
                  <a:pt x="4242" y="11733"/>
                </a:cubicBezTo>
                <a:cubicBezTo>
                  <a:pt x="4242" y="11813"/>
                  <a:pt x="4257" y="11879"/>
                  <a:pt x="4266" y="11956"/>
                </a:cubicBezTo>
                <a:cubicBezTo>
                  <a:pt x="4275" y="12041"/>
                  <a:pt x="4285" y="12122"/>
                  <a:pt x="4291" y="12204"/>
                </a:cubicBezTo>
                <a:cubicBezTo>
                  <a:pt x="4291" y="12212"/>
                  <a:pt x="4291" y="12221"/>
                  <a:pt x="4291" y="12229"/>
                </a:cubicBezTo>
              </a:path>
              <a:path w="1514" h="671">
                <a:moveTo>
                  <a:pt x="4490" y="11708"/>
                </a:moveTo>
                <a:cubicBezTo>
                  <a:pt x="4462" y="11708"/>
                  <a:pt x="4451" y="11706"/>
                  <a:pt x="4440" y="11683"/>
                </a:cubicBezTo>
                <a:cubicBezTo>
                  <a:pt x="4455" y="11623"/>
                  <a:pt x="4490" y="11621"/>
                  <a:pt x="4539" y="11584"/>
                </a:cubicBezTo>
                <a:cubicBezTo>
                  <a:pt x="4561" y="11567"/>
                  <a:pt x="4660" y="11531"/>
                  <a:pt x="4688" y="11559"/>
                </a:cubicBezTo>
                <a:cubicBezTo>
                  <a:pt x="4749" y="11620"/>
                  <a:pt x="4744" y="11683"/>
                  <a:pt x="4713" y="11757"/>
                </a:cubicBezTo>
                <a:cubicBezTo>
                  <a:pt x="4682" y="11829"/>
                  <a:pt x="4644" y="11876"/>
                  <a:pt x="4589" y="11931"/>
                </a:cubicBezTo>
                <a:cubicBezTo>
                  <a:pt x="4566" y="11954"/>
                  <a:pt x="4558" y="11958"/>
                  <a:pt x="4564" y="11981"/>
                </a:cubicBezTo>
                <a:cubicBezTo>
                  <a:pt x="4630" y="11981"/>
                  <a:pt x="4677" y="11995"/>
                  <a:pt x="4738" y="12005"/>
                </a:cubicBezTo>
                <a:cubicBezTo>
                  <a:pt x="4795" y="12014"/>
                  <a:pt x="4854" y="11979"/>
                  <a:pt x="4862" y="12055"/>
                </a:cubicBezTo>
                <a:cubicBezTo>
                  <a:pt x="4868" y="12106"/>
                  <a:pt x="4779" y="12145"/>
                  <a:pt x="4738" y="12154"/>
                </a:cubicBezTo>
                <a:cubicBezTo>
                  <a:pt x="4701" y="12162"/>
                  <a:pt x="4652" y="12154"/>
                  <a:pt x="4614" y="12154"/>
                </a:cubicBezTo>
              </a:path>
              <a:path w="1514" h="671">
                <a:moveTo>
                  <a:pt x="5110" y="11807"/>
                </a:moveTo>
                <a:cubicBezTo>
                  <a:pt x="5135" y="11807"/>
                  <a:pt x="5143" y="11807"/>
                  <a:pt x="5135" y="11782"/>
                </a:cubicBezTo>
                <a:cubicBezTo>
                  <a:pt x="5164" y="11852"/>
                  <a:pt x="5164" y="11911"/>
                  <a:pt x="5184" y="11981"/>
                </a:cubicBezTo>
                <a:cubicBezTo>
                  <a:pt x="5199" y="12033"/>
                  <a:pt x="5205" y="12110"/>
                  <a:pt x="5234" y="12129"/>
                </a:cubicBezTo>
              </a:path>
              <a:path w="1514" h="671">
                <a:moveTo>
                  <a:pt x="5333" y="11807"/>
                </a:moveTo>
                <a:cubicBezTo>
                  <a:pt x="5341" y="11790"/>
                  <a:pt x="5350" y="11774"/>
                  <a:pt x="5358" y="11757"/>
                </a:cubicBezTo>
                <a:cubicBezTo>
                  <a:pt x="5369" y="11811"/>
                  <a:pt x="5369" y="11878"/>
                  <a:pt x="5383" y="11931"/>
                </a:cubicBezTo>
                <a:cubicBezTo>
                  <a:pt x="5399" y="11991"/>
                  <a:pt x="5442" y="12064"/>
                  <a:pt x="5507" y="12080"/>
                </a:cubicBezTo>
                <a:cubicBezTo>
                  <a:pt x="5569" y="12095"/>
                  <a:pt x="5637" y="12043"/>
                  <a:pt x="5680" y="12005"/>
                </a:cubicBezTo>
                <a:cubicBezTo>
                  <a:pt x="5710" y="11976"/>
                  <a:pt x="5722" y="11962"/>
                  <a:pt x="5730" y="11931"/>
                </a:cubicBezTo>
              </a:path>
              <a:path w="1514" h="671">
                <a:moveTo>
                  <a:pt x="5507" y="11658"/>
                </a:moveTo>
                <a:cubicBezTo>
                  <a:pt x="5560" y="11658"/>
                  <a:pt x="5434" y="11694"/>
                  <a:pt x="5407" y="11708"/>
                </a:cubicBezTo>
                <a:cubicBezTo>
                  <a:pt x="5328" y="11748"/>
                  <a:pt x="5242" y="11764"/>
                  <a:pt x="5159" y="11782"/>
                </a:cubicBezTo>
                <a:cubicBezTo>
                  <a:pt x="5131" y="11782"/>
                  <a:pt x="5121" y="11779"/>
                  <a:pt x="511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17920" y="438480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9996" y="12179"/>
                </a:moveTo>
                <a:cubicBezTo>
                  <a:pt x="10021" y="12179"/>
                  <a:pt x="10029" y="12179"/>
                  <a:pt x="10046" y="12179"/>
                </a:cubicBezTo>
                <a:cubicBezTo>
                  <a:pt x="10017" y="12201"/>
                  <a:pt x="9960" y="12222"/>
                  <a:pt x="9922" y="12229"/>
                </a:cubicBezTo>
                <a:cubicBezTo>
                  <a:pt x="9866" y="12239"/>
                  <a:pt x="9834" y="12254"/>
                  <a:pt x="9773" y="12254"/>
                </a:cubicBezTo>
              </a:path>
              <a:path w="274" h="224">
                <a:moveTo>
                  <a:pt x="9971" y="12353"/>
                </a:moveTo>
                <a:cubicBezTo>
                  <a:pt x="9979" y="12353"/>
                  <a:pt x="9988" y="12353"/>
                  <a:pt x="9996" y="12353"/>
                </a:cubicBezTo>
                <a:cubicBezTo>
                  <a:pt x="9982" y="12395"/>
                  <a:pt x="9949" y="12395"/>
                  <a:pt x="9897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02040" y="4249800"/>
            <a:ext cx="992160" cy="179280"/>
          </a:xfrm>
          <a:custGeom>
            <a:avLst/>
            <a:gdLst/>
            <a:ahLst/>
            <a:rect l="l" t="t" r="r" b="b"/>
            <a:pathLst>
              <a:path w="2754" h="497">
                <a:moveTo>
                  <a:pt x="10840" y="11931"/>
                </a:moveTo>
                <a:cubicBezTo>
                  <a:pt x="10840" y="11906"/>
                  <a:pt x="10840" y="11898"/>
                  <a:pt x="10864" y="11906"/>
                </a:cubicBezTo>
                <a:cubicBezTo>
                  <a:pt x="10864" y="12002"/>
                  <a:pt x="10878" y="12090"/>
                  <a:pt x="10889" y="12179"/>
                </a:cubicBezTo>
                <a:cubicBezTo>
                  <a:pt x="10894" y="12216"/>
                  <a:pt x="10889" y="12264"/>
                  <a:pt x="10889" y="12303"/>
                </a:cubicBezTo>
              </a:path>
              <a:path w="2754" h="497">
                <a:moveTo>
                  <a:pt x="11187" y="11906"/>
                </a:moveTo>
                <a:cubicBezTo>
                  <a:pt x="11228" y="11906"/>
                  <a:pt x="11172" y="11933"/>
                  <a:pt x="11162" y="11981"/>
                </a:cubicBezTo>
                <a:cubicBezTo>
                  <a:pt x="11157" y="12007"/>
                  <a:pt x="11150" y="12094"/>
                  <a:pt x="11187" y="12105"/>
                </a:cubicBezTo>
                <a:cubicBezTo>
                  <a:pt x="11244" y="12122"/>
                  <a:pt x="11326" y="12116"/>
                  <a:pt x="11385" y="12129"/>
                </a:cubicBezTo>
                <a:cubicBezTo>
                  <a:pt x="11427" y="12138"/>
                  <a:pt x="11455" y="12158"/>
                  <a:pt x="11460" y="12204"/>
                </a:cubicBezTo>
                <a:cubicBezTo>
                  <a:pt x="11466" y="12259"/>
                  <a:pt x="11376" y="12271"/>
                  <a:pt x="11336" y="12278"/>
                </a:cubicBezTo>
                <a:cubicBezTo>
                  <a:pt x="11286" y="12278"/>
                  <a:pt x="11270" y="12278"/>
                  <a:pt x="11237" y="12278"/>
                </a:cubicBezTo>
              </a:path>
              <a:path w="2754" h="497">
                <a:moveTo>
                  <a:pt x="11435" y="11956"/>
                </a:moveTo>
                <a:cubicBezTo>
                  <a:pt x="11488" y="11903"/>
                  <a:pt x="11377" y="11931"/>
                  <a:pt x="11336" y="11931"/>
                </a:cubicBezTo>
              </a:path>
              <a:path w="2754" h="497">
                <a:moveTo>
                  <a:pt x="11733" y="12005"/>
                </a:moveTo>
                <a:cubicBezTo>
                  <a:pt x="11733" y="11965"/>
                  <a:pt x="11739" y="11925"/>
                  <a:pt x="11782" y="11906"/>
                </a:cubicBezTo>
                <a:cubicBezTo>
                  <a:pt x="11823" y="11888"/>
                  <a:pt x="11877" y="11905"/>
                  <a:pt x="11906" y="11931"/>
                </a:cubicBezTo>
                <a:cubicBezTo>
                  <a:pt x="11969" y="11987"/>
                  <a:pt x="11962" y="12035"/>
                  <a:pt x="11931" y="12105"/>
                </a:cubicBezTo>
                <a:cubicBezTo>
                  <a:pt x="11906" y="12161"/>
                  <a:pt x="11863" y="12191"/>
                  <a:pt x="11857" y="12254"/>
                </a:cubicBezTo>
                <a:cubicBezTo>
                  <a:pt x="11857" y="12262"/>
                  <a:pt x="11857" y="12270"/>
                  <a:pt x="11857" y="12278"/>
                </a:cubicBezTo>
                <a:cubicBezTo>
                  <a:pt x="11909" y="12278"/>
                  <a:pt x="11937" y="12277"/>
                  <a:pt x="11981" y="12254"/>
                </a:cubicBezTo>
                <a:cubicBezTo>
                  <a:pt x="12028" y="12229"/>
                  <a:pt x="12042" y="12233"/>
                  <a:pt x="12080" y="12204"/>
                </a:cubicBezTo>
              </a:path>
              <a:path w="2754" h="497">
                <a:moveTo>
                  <a:pt x="12303" y="12204"/>
                </a:moveTo>
                <a:cubicBezTo>
                  <a:pt x="12328" y="12204"/>
                  <a:pt x="12336" y="12204"/>
                  <a:pt x="12353" y="12204"/>
                </a:cubicBezTo>
              </a:path>
              <a:path w="2754" h="497">
                <a:moveTo>
                  <a:pt x="12551" y="11881"/>
                </a:moveTo>
                <a:cubicBezTo>
                  <a:pt x="12564" y="11919"/>
                  <a:pt x="12581" y="11906"/>
                  <a:pt x="12626" y="11906"/>
                </a:cubicBezTo>
                <a:cubicBezTo>
                  <a:pt x="12717" y="11906"/>
                  <a:pt x="12789" y="11901"/>
                  <a:pt x="12874" y="11881"/>
                </a:cubicBezTo>
                <a:cubicBezTo>
                  <a:pt x="12943" y="11865"/>
                  <a:pt x="12923" y="11975"/>
                  <a:pt x="12923" y="12005"/>
                </a:cubicBezTo>
                <a:cubicBezTo>
                  <a:pt x="12923" y="12081"/>
                  <a:pt x="12893" y="12165"/>
                  <a:pt x="12849" y="12229"/>
                </a:cubicBezTo>
                <a:cubicBezTo>
                  <a:pt x="12841" y="12237"/>
                  <a:pt x="12832" y="12246"/>
                  <a:pt x="12824" y="12254"/>
                </a:cubicBezTo>
              </a:path>
              <a:path w="2754" h="497">
                <a:moveTo>
                  <a:pt x="13146" y="11807"/>
                </a:moveTo>
                <a:cubicBezTo>
                  <a:pt x="13209" y="11818"/>
                  <a:pt x="13217" y="11832"/>
                  <a:pt x="13221" y="11906"/>
                </a:cubicBezTo>
                <a:cubicBezTo>
                  <a:pt x="13226" y="11988"/>
                  <a:pt x="13221" y="12072"/>
                  <a:pt x="13221" y="12154"/>
                </a:cubicBezTo>
              </a:path>
              <a:path w="2754" h="497">
                <a:moveTo>
                  <a:pt x="13419" y="11857"/>
                </a:moveTo>
                <a:cubicBezTo>
                  <a:pt x="13442" y="11834"/>
                  <a:pt x="13450" y="11830"/>
                  <a:pt x="13444" y="11807"/>
                </a:cubicBezTo>
                <a:cubicBezTo>
                  <a:pt x="13444" y="11867"/>
                  <a:pt x="13417" y="11900"/>
                  <a:pt x="13395" y="11956"/>
                </a:cubicBezTo>
                <a:cubicBezTo>
                  <a:pt x="13368" y="12025"/>
                  <a:pt x="13344" y="12173"/>
                  <a:pt x="13419" y="12229"/>
                </a:cubicBezTo>
                <a:cubicBezTo>
                  <a:pt x="13494" y="12284"/>
                  <a:pt x="13566" y="12260"/>
                  <a:pt x="13593" y="12179"/>
                </a:cubicBezTo>
                <a:cubicBezTo>
                  <a:pt x="13604" y="12145"/>
                  <a:pt x="13600" y="12107"/>
                  <a:pt x="13568" y="12105"/>
                </a:cubicBezTo>
                <a:cubicBezTo>
                  <a:pt x="13552" y="12105"/>
                  <a:pt x="13535" y="12105"/>
                  <a:pt x="13519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54800" y="4276800"/>
            <a:ext cx="125280" cy="216000"/>
          </a:xfrm>
          <a:custGeom>
            <a:avLst/>
            <a:gdLst/>
            <a:ahLst/>
            <a:rect l="l" t="t" r="r" b="b"/>
            <a:pathLst>
              <a:path w="348" h="597">
                <a:moveTo>
                  <a:pt x="15478" y="12154"/>
                </a:moveTo>
                <a:cubicBezTo>
                  <a:pt x="15478" y="12138"/>
                  <a:pt x="15478" y="12121"/>
                  <a:pt x="15478" y="12105"/>
                </a:cubicBezTo>
                <a:cubicBezTo>
                  <a:pt x="15478" y="12218"/>
                  <a:pt x="15480" y="12321"/>
                  <a:pt x="15503" y="12427"/>
                </a:cubicBezTo>
                <a:cubicBezTo>
                  <a:pt x="15503" y="12452"/>
                  <a:pt x="15503" y="12460"/>
                  <a:pt x="15503" y="12477"/>
                </a:cubicBezTo>
              </a:path>
              <a:path w="348" h="597">
                <a:moveTo>
                  <a:pt x="15453" y="12105"/>
                </a:moveTo>
                <a:cubicBezTo>
                  <a:pt x="15426" y="12013"/>
                  <a:pt x="15416" y="12018"/>
                  <a:pt x="15478" y="11956"/>
                </a:cubicBezTo>
                <a:cubicBezTo>
                  <a:pt x="15525" y="11909"/>
                  <a:pt x="15609" y="11866"/>
                  <a:pt x="15677" y="11881"/>
                </a:cubicBezTo>
                <a:cubicBezTo>
                  <a:pt x="15771" y="11901"/>
                  <a:pt x="15798" y="11997"/>
                  <a:pt x="15776" y="12080"/>
                </a:cubicBezTo>
                <a:cubicBezTo>
                  <a:pt x="15761" y="12138"/>
                  <a:pt x="15715" y="12214"/>
                  <a:pt x="15652" y="12229"/>
                </a:cubicBezTo>
                <a:cubicBezTo>
                  <a:pt x="15616" y="12238"/>
                  <a:pt x="15566" y="12229"/>
                  <a:pt x="15528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03920" y="4224240"/>
            <a:ext cx="1000080" cy="196920"/>
          </a:xfrm>
          <a:custGeom>
            <a:avLst/>
            <a:gdLst/>
            <a:ahLst/>
            <a:rect l="l" t="t" r="r" b="b"/>
            <a:pathLst>
              <a:path w="2779" h="546">
                <a:moveTo>
                  <a:pt x="16272" y="12154"/>
                </a:moveTo>
                <a:cubicBezTo>
                  <a:pt x="16222" y="12154"/>
                  <a:pt x="16173" y="12154"/>
                  <a:pt x="16123" y="12154"/>
                </a:cubicBezTo>
              </a:path>
              <a:path w="2779" h="546">
                <a:moveTo>
                  <a:pt x="16247" y="12254"/>
                </a:moveTo>
                <a:cubicBezTo>
                  <a:pt x="16255" y="12262"/>
                  <a:pt x="16264" y="12270"/>
                  <a:pt x="16272" y="12278"/>
                </a:cubicBezTo>
                <a:cubicBezTo>
                  <a:pt x="16231" y="12278"/>
                  <a:pt x="16189" y="12278"/>
                  <a:pt x="16148" y="12278"/>
                </a:cubicBezTo>
              </a:path>
              <a:path w="2779" h="546">
                <a:moveTo>
                  <a:pt x="16446" y="12055"/>
                </a:moveTo>
                <a:cubicBezTo>
                  <a:pt x="16446" y="12004"/>
                  <a:pt x="16441" y="12003"/>
                  <a:pt x="16470" y="11981"/>
                </a:cubicBezTo>
                <a:cubicBezTo>
                  <a:pt x="16533" y="11933"/>
                  <a:pt x="16565" y="11931"/>
                  <a:pt x="16644" y="11931"/>
                </a:cubicBezTo>
                <a:cubicBezTo>
                  <a:pt x="16723" y="11931"/>
                  <a:pt x="16718" y="11967"/>
                  <a:pt x="16718" y="12030"/>
                </a:cubicBezTo>
                <a:cubicBezTo>
                  <a:pt x="16718" y="12098"/>
                  <a:pt x="16678" y="12123"/>
                  <a:pt x="16644" y="12179"/>
                </a:cubicBezTo>
                <a:cubicBezTo>
                  <a:pt x="16618" y="12223"/>
                  <a:pt x="16619" y="12234"/>
                  <a:pt x="16619" y="12278"/>
                </a:cubicBezTo>
                <a:cubicBezTo>
                  <a:pt x="16696" y="12278"/>
                  <a:pt x="16754" y="12275"/>
                  <a:pt x="16818" y="12254"/>
                </a:cubicBezTo>
                <a:cubicBezTo>
                  <a:pt x="16826" y="12254"/>
                  <a:pt x="16834" y="12254"/>
                  <a:pt x="16842" y="12254"/>
                </a:cubicBezTo>
              </a:path>
              <a:path w="2779" h="546">
                <a:moveTo>
                  <a:pt x="17140" y="11931"/>
                </a:moveTo>
                <a:cubicBezTo>
                  <a:pt x="17111" y="11953"/>
                  <a:pt x="17074" y="11966"/>
                  <a:pt x="17066" y="12005"/>
                </a:cubicBezTo>
                <a:cubicBezTo>
                  <a:pt x="17052" y="12071"/>
                  <a:pt x="17074" y="12093"/>
                  <a:pt x="17140" y="12105"/>
                </a:cubicBezTo>
                <a:cubicBezTo>
                  <a:pt x="17195" y="12115"/>
                  <a:pt x="17245" y="12118"/>
                  <a:pt x="17289" y="12154"/>
                </a:cubicBezTo>
                <a:cubicBezTo>
                  <a:pt x="17327" y="12184"/>
                  <a:pt x="17314" y="12240"/>
                  <a:pt x="17264" y="12254"/>
                </a:cubicBezTo>
                <a:cubicBezTo>
                  <a:pt x="17238" y="12261"/>
                  <a:pt x="17167" y="12254"/>
                  <a:pt x="17140" y="12254"/>
                </a:cubicBezTo>
              </a:path>
              <a:path w="2779" h="546">
                <a:moveTo>
                  <a:pt x="17438" y="11881"/>
                </a:moveTo>
                <a:cubicBezTo>
                  <a:pt x="17425" y="11832"/>
                  <a:pt x="17413" y="11832"/>
                  <a:pt x="17363" y="11832"/>
                </a:cubicBezTo>
                <a:cubicBezTo>
                  <a:pt x="17322" y="11832"/>
                  <a:pt x="17280" y="11832"/>
                  <a:pt x="17239" y="11832"/>
                </a:cubicBezTo>
              </a:path>
              <a:path w="2779" h="546">
                <a:moveTo>
                  <a:pt x="17686" y="12179"/>
                </a:moveTo>
                <a:cubicBezTo>
                  <a:pt x="17686" y="12171"/>
                  <a:pt x="17686" y="12162"/>
                  <a:pt x="17686" y="12154"/>
                </a:cubicBezTo>
              </a:path>
              <a:path w="2779" h="546">
                <a:moveTo>
                  <a:pt x="17934" y="11807"/>
                </a:moveTo>
                <a:cubicBezTo>
                  <a:pt x="17926" y="11799"/>
                  <a:pt x="17917" y="11790"/>
                  <a:pt x="17909" y="11782"/>
                </a:cubicBezTo>
                <a:cubicBezTo>
                  <a:pt x="17909" y="11863"/>
                  <a:pt x="17902" y="11929"/>
                  <a:pt x="17884" y="12005"/>
                </a:cubicBezTo>
                <a:cubicBezTo>
                  <a:pt x="17879" y="12027"/>
                  <a:pt x="17884" y="12058"/>
                  <a:pt x="17884" y="12080"/>
                </a:cubicBezTo>
              </a:path>
              <a:path w="2779" h="546">
                <a:moveTo>
                  <a:pt x="18033" y="11881"/>
                </a:moveTo>
                <a:cubicBezTo>
                  <a:pt x="18033" y="11822"/>
                  <a:pt x="18042" y="11844"/>
                  <a:pt x="18083" y="11807"/>
                </a:cubicBezTo>
                <a:cubicBezTo>
                  <a:pt x="18116" y="11777"/>
                  <a:pt x="18161" y="11762"/>
                  <a:pt x="18207" y="11757"/>
                </a:cubicBezTo>
                <a:cubicBezTo>
                  <a:pt x="18250" y="11753"/>
                  <a:pt x="18282" y="11820"/>
                  <a:pt x="18256" y="11857"/>
                </a:cubicBezTo>
                <a:cubicBezTo>
                  <a:pt x="18239" y="11880"/>
                  <a:pt x="18187" y="11908"/>
                  <a:pt x="18182" y="11956"/>
                </a:cubicBezTo>
                <a:cubicBezTo>
                  <a:pt x="18178" y="11989"/>
                  <a:pt x="18172" y="12037"/>
                  <a:pt x="18207" y="12055"/>
                </a:cubicBezTo>
                <a:cubicBezTo>
                  <a:pt x="18245" y="12074"/>
                  <a:pt x="18295" y="12081"/>
                  <a:pt x="18306" y="12129"/>
                </a:cubicBezTo>
                <a:cubicBezTo>
                  <a:pt x="18318" y="12182"/>
                  <a:pt x="18265" y="12179"/>
                  <a:pt x="18231" y="12179"/>
                </a:cubicBezTo>
                <a:cubicBezTo>
                  <a:pt x="18215" y="12179"/>
                  <a:pt x="18198" y="12179"/>
                  <a:pt x="18182" y="12179"/>
                </a:cubicBezTo>
              </a:path>
              <a:path w="2779" h="546">
                <a:moveTo>
                  <a:pt x="18554" y="11881"/>
                </a:moveTo>
                <a:cubicBezTo>
                  <a:pt x="18554" y="11835"/>
                  <a:pt x="18548" y="11817"/>
                  <a:pt x="18579" y="11782"/>
                </a:cubicBezTo>
                <a:cubicBezTo>
                  <a:pt x="18614" y="11743"/>
                  <a:pt x="18627" y="11733"/>
                  <a:pt x="18678" y="11733"/>
                </a:cubicBezTo>
                <a:cubicBezTo>
                  <a:pt x="18732" y="11733"/>
                  <a:pt x="18744" y="11785"/>
                  <a:pt x="18728" y="11832"/>
                </a:cubicBezTo>
                <a:cubicBezTo>
                  <a:pt x="18706" y="11896"/>
                  <a:pt x="18661" y="11950"/>
                  <a:pt x="18628" y="12005"/>
                </a:cubicBezTo>
                <a:cubicBezTo>
                  <a:pt x="18601" y="12051"/>
                  <a:pt x="18604" y="12079"/>
                  <a:pt x="18604" y="12129"/>
                </a:cubicBezTo>
                <a:cubicBezTo>
                  <a:pt x="18665" y="12129"/>
                  <a:pt x="18702" y="12131"/>
                  <a:pt x="18752" y="12105"/>
                </a:cubicBezTo>
                <a:cubicBezTo>
                  <a:pt x="18805" y="12077"/>
                  <a:pt x="18844" y="12080"/>
                  <a:pt x="18901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73920" y="4214880"/>
            <a:ext cx="482400" cy="196920"/>
          </a:xfrm>
          <a:custGeom>
            <a:avLst/>
            <a:gdLst/>
            <a:ahLst/>
            <a:rect l="l" t="t" r="r" b="b"/>
            <a:pathLst>
              <a:path w="1341" h="547">
                <a:moveTo>
                  <a:pt x="19645" y="12005"/>
                </a:moveTo>
                <a:cubicBezTo>
                  <a:pt x="19695" y="11981"/>
                  <a:pt x="19607" y="11967"/>
                  <a:pt x="19571" y="11956"/>
                </a:cubicBezTo>
                <a:cubicBezTo>
                  <a:pt x="19497" y="11934"/>
                  <a:pt x="19447" y="11931"/>
                  <a:pt x="19372" y="11931"/>
                </a:cubicBezTo>
              </a:path>
              <a:path w="1341" h="547">
                <a:moveTo>
                  <a:pt x="19447" y="11782"/>
                </a:moveTo>
                <a:cubicBezTo>
                  <a:pt x="19499" y="11826"/>
                  <a:pt x="19518" y="11857"/>
                  <a:pt x="19521" y="11931"/>
                </a:cubicBezTo>
                <a:cubicBezTo>
                  <a:pt x="19523" y="11980"/>
                  <a:pt x="19521" y="12031"/>
                  <a:pt x="19521" y="12080"/>
                </a:cubicBezTo>
              </a:path>
              <a:path w="1341" h="547">
                <a:moveTo>
                  <a:pt x="19893" y="11832"/>
                </a:moveTo>
                <a:cubicBezTo>
                  <a:pt x="19901" y="11832"/>
                  <a:pt x="19910" y="11832"/>
                  <a:pt x="19918" y="11832"/>
                </a:cubicBezTo>
              </a:path>
              <a:path w="1341" h="547">
                <a:moveTo>
                  <a:pt x="19893" y="11832"/>
                </a:moveTo>
                <a:cubicBezTo>
                  <a:pt x="19956" y="11813"/>
                  <a:pt x="19981" y="11807"/>
                  <a:pt x="20042" y="11807"/>
                </a:cubicBezTo>
                <a:cubicBezTo>
                  <a:pt x="20119" y="11807"/>
                  <a:pt x="20170" y="11815"/>
                  <a:pt x="20241" y="11832"/>
                </a:cubicBezTo>
                <a:cubicBezTo>
                  <a:pt x="20297" y="11845"/>
                  <a:pt x="20307" y="11897"/>
                  <a:pt x="20290" y="11956"/>
                </a:cubicBezTo>
                <a:cubicBezTo>
                  <a:pt x="20273" y="12015"/>
                  <a:pt x="20226" y="12103"/>
                  <a:pt x="20191" y="12154"/>
                </a:cubicBezTo>
                <a:cubicBezTo>
                  <a:pt x="20166" y="12190"/>
                  <a:pt x="20173" y="12193"/>
                  <a:pt x="20141" y="12204"/>
                </a:cubicBezTo>
              </a:path>
              <a:path w="1341" h="547">
                <a:moveTo>
                  <a:pt x="20489" y="11832"/>
                </a:moveTo>
                <a:cubicBezTo>
                  <a:pt x="20507" y="11820"/>
                  <a:pt x="20625" y="11758"/>
                  <a:pt x="20638" y="11733"/>
                </a:cubicBezTo>
                <a:cubicBezTo>
                  <a:pt x="20638" y="11725"/>
                  <a:pt x="20638" y="11716"/>
                  <a:pt x="20638" y="11708"/>
                </a:cubicBezTo>
                <a:cubicBezTo>
                  <a:pt x="20592" y="11799"/>
                  <a:pt x="20564" y="11882"/>
                  <a:pt x="20538" y="11981"/>
                </a:cubicBezTo>
                <a:cubicBezTo>
                  <a:pt x="20515" y="12070"/>
                  <a:pt x="20471" y="12213"/>
                  <a:pt x="20588" y="12254"/>
                </a:cubicBezTo>
                <a:cubicBezTo>
                  <a:pt x="20649" y="12275"/>
                  <a:pt x="20704" y="12237"/>
                  <a:pt x="20712" y="12179"/>
                </a:cubicBezTo>
                <a:cubicBezTo>
                  <a:pt x="20725" y="12084"/>
                  <a:pt x="20710" y="12132"/>
                  <a:pt x="20662" y="12105"/>
                </a:cubicBezTo>
                <a:cubicBezTo>
                  <a:pt x="20634" y="12076"/>
                  <a:pt x="20621" y="12068"/>
                  <a:pt x="20588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62880" y="4249800"/>
            <a:ext cx="125280" cy="1000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21332" y="11931"/>
                </a:moveTo>
                <a:cubicBezTo>
                  <a:pt x="21340" y="11939"/>
                  <a:pt x="21349" y="11948"/>
                  <a:pt x="21357" y="11956"/>
                </a:cubicBezTo>
                <a:cubicBezTo>
                  <a:pt x="21312" y="11945"/>
                  <a:pt x="21287" y="11931"/>
                  <a:pt x="21233" y="11931"/>
                </a:cubicBezTo>
                <a:cubicBezTo>
                  <a:pt x="21170" y="11931"/>
                  <a:pt x="21130" y="11956"/>
                  <a:pt x="21059" y="11956"/>
                </a:cubicBezTo>
                <a:cubicBezTo>
                  <a:pt x="21007" y="11956"/>
                  <a:pt x="21010" y="11958"/>
                  <a:pt x="21010" y="11906"/>
                </a:cubicBezTo>
              </a:path>
              <a:path w="348" h="274">
                <a:moveTo>
                  <a:pt x="21134" y="11857"/>
                </a:moveTo>
                <a:cubicBezTo>
                  <a:pt x="21177" y="11835"/>
                  <a:pt x="21189" y="11831"/>
                  <a:pt x="21208" y="11807"/>
                </a:cubicBezTo>
                <a:cubicBezTo>
                  <a:pt x="21208" y="11898"/>
                  <a:pt x="21208" y="11989"/>
                  <a:pt x="21208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96160" y="4170240"/>
            <a:ext cx="384120" cy="204840"/>
          </a:xfrm>
          <a:custGeom>
            <a:avLst/>
            <a:gdLst/>
            <a:ahLst/>
            <a:rect l="l" t="t" r="r" b="b"/>
            <a:pathLst>
              <a:path w="1068" h="571">
                <a:moveTo>
                  <a:pt x="21654" y="11733"/>
                </a:moveTo>
                <a:cubicBezTo>
                  <a:pt x="21677" y="11710"/>
                  <a:pt x="21681" y="11702"/>
                  <a:pt x="21704" y="11708"/>
                </a:cubicBezTo>
                <a:cubicBezTo>
                  <a:pt x="21704" y="11821"/>
                  <a:pt x="21712" y="11924"/>
                  <a:pt x="21729" y="12030"/>
                </a:cubicBezTo>
                <a:cubicBezTo>
                  <a:pt x="21729" y="12072"/>
                  <a:pt x="21729" y="12080"/>
                  <a:pt x="21729" y="12105"/>
                </a:cubicBezTo>
              </a:path>
              <a:path w="1068" h="571">
                <a:moveTo>
                  <a:pt x="21952" y="11683"/>
                </a:moveTo>
                <a:cubicBezTo>
                  <a:pt x="21987" y="11648"/>
                  <a:pt x="21999" y="11620"/>
                  <a:pt x="22027" y="11584"/>
                </a:cubicBezTo>
                <a:cubicBezTo>
                  <a:pt x="22017" y="11650"/>
                  <a:pt x="21993" y="11713"/>
                  <a:pt x="21977" y="11782"/>
                </a:cubicBezTo>
                <a:cubicBezTo>
                  <a:pt x="21954" y="11882"/>
                  <a:pt x="21936" y="11957"/>
                  <a:pt x="21977" y="12055"/>
                </a:cubicBezTo>
                <a:cubicBezTo>
                  <a:pt x="22000" y="12110"/>
                  <a:pt x="22023" y="12186"/>
                  <a:pt x="22101" y="12154"/>
                </a:cubicBezTo>
                <a:cubicBezTo>
                  <a:pt x="22165" y="12127"/>
                  <a:pt x="22151" y="12033"/>
                  <a:pt x="22151" y="11981"/>
                </a:cubicBezTo>
                <a:cubicBezTo>
                  <a:pt x="22151" y="11934"/>
                  <a:pt x="22145" y="11883"/>
                  <a:pt x="22076" y="11906"/>
                </a:cubicBezTo>
                <a:cubicBezTo>
                  <a:pt x="22068" y="11914"/>
                  <a:pt x="22059" y="11923"/>
                  <a:pt x="22051" y="11931"/>
                </a:cubicBezTo>
              </a:path>
              <a:path w="1068" h="571">
                <a:moveTo>
                  <a:pt x="22721" y="11906"/>
                </a:moveTo>
                <a:cubicBezTo>
                  <a:pt x="22630" y="11906"/>
                  <a:pt x="22539" y="11906"/>
                  <a:pt x="22448" y="11906"/>
                </a:cubicBezTo>
                <a:cubicBezTo>
                  <a:pt x="22448" y="11931"/>
                  <a:pt x="22448" y="11939"/>
                  <a:pt x="22423" y="11931"/>
                </a:cubicBezTo>
              </a:path>
              <a:path w="1068" h="571">
                <a:moveTo>
                  <a:pt x="22547" y="11733"/>
                </a:moveTo>
                <a:cubicBezTo>
                  <a:pt x="22578" y="11753"/>
                  <a:pt x="22595" y="11804"/>
                  <a:pt x="22597" y="11857"/>
                </a:cubicBezTo>
                <a:cubicBezTo>
                  <a:pt x="22600" y="11923"/>
                  <a:pt x="22597" y="11989"/>
                  <a:pt x="22597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296200" y="4143240"/>
            <a:ext cx="28584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23267" y="11559"/>
                </a:moveTo>
                <a:cubicBezTo>
                  <a:pt x="23280" y="11519"/>
                  <a:pt x="23279" y="11549"/>
                  <a:pt x="23292" y="11509"/>
                </a:cubicBezTo>
                <a:cubicBezTo>
                  <a:pt x="23246" y="11509"/>
                  <a:pt x="23219" y="11516"/>
                  <a:pt x="23192" y="11559"/>
                </a:cubicBezTo>
                <a:cubicBezTo>
                  <a:pt x="23143" y="11637"/>
                  <a:pt x="23099" y="11692"/>
                  <a:pt x="23068" y="11782"/>
                </a:cubicBezTo>
                <a:cubicBezTo>
                  <a:pt x="23042" y="11857"/>
                  <a:pt x="23019" y="11958"/>
                  <a:pt x="23068" y="12030"/>
                </a:cubicBezTo>
                <a:cubicBezTo>
                  <a:pt x="23104" y="12083"/>
                  <a:pt x="23200" y="12143"/>
                  <a:pt x="23267" y="12129"/>
                </a:cubicBezTo>
                <a:cubicBezTo>
                  <a:pt x="23336" y="12114"/>
                  <a:pt x="23361" y="12064"/>
                  <a:pt x="23366" y="12005"/>
                </a:cubicBezTo>
                <a:cubicBezTo>
                  <a:pt x="23371" y="11945"/>
                  <a:pt x="23319" y="11899"/>
                  <a:pt x="23267" y="11881"/>
                </a:cubicBezTo>
                <a:cubicBezTo>
                  <a:pt x="23239" y="11872"/>
                  <a:pt x="23198" y="11881"/>
                  <a:pt x="23168" y="11881"/>
                </a:cubicBezTo>
              </a:path>
              <a:path w="794" h="621">
                <a:moveTo>
                  <a:pt x="23589" y="11807"/>
                </a:moveTo>
                <a:cubicBezTo>
                  <a:pt x="23573" y="11807"/>
                  <a:pt x="23556" y="11807"/>
                  <a:pt x="23540" y="11807"/>
                </a:cubicBezTo>
                <a:cubicBezTo>
                  <a:pt x="23540" y="11757"/>
                  <a:pt x="23557" y="11725"/>
                  <a:pt x="23589" y="11683"/>
                </a:cubicBezTo>
                <a:cubicBezTo>
                  <a:pt x="23619" y="11643"/>
                  <a:pt x="23714" y="11606"/>
                  <a:pt x="23763" y="11633"/>
                </a:cubicBezTo>
                <a:cubicBezTo>
                  <a:pt x="23855" y="11685"/>
                  <a:pt x="23853" y="11843"/>
                  <a:pt x="23837" y="11931"/>
                </a:cubicBezTo>
                <a:cubicBezTo>
                  <a:pt x="23818" y="12036"/>
                  <a:pt x="23797" y="12099"/>
                  <a:pt x="23688" y="12105"/>
                </a:cubicBezTo>
                <a:cubicBezTo>
                  <a:pt x="23592" y="12110"/>
                  <a:pt x="23596" y="12003"/>
                  <a:pt x="23589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4240" y="4581360"/>
            <a:ext cx="108000" cy="293760"/>
          </a:xfrm>
          <a:custGeom>
            <a:avLst/>
            <a:gdLst/>
            <a:ahLst/>
            <a:rect l="l" t="t" r="r" b="b"/>
            <a:pathLst>
              <a:path w="299" h="819">
                <a:moveTo>
                  <a:pt x="2059" y="12849"/>
                </a:moveTo>
                <a:cubicBezTo>
                  <a:pt x="2059" y="12923"/>
                  <a:pt x="2081" y="12973"/>
                  <a:pt x="2084" y="13047"/>
                </a:cubicBezTo>
                <a:cubicBezTo>
                  <a:pt x="2089" y="13166"/>
                  <a:pt x="2121" y="13278"/>
                  <a:pt x="2133" y="13395"/>
                </a:cubicBezTo>
                <a:cubicBezTo>
                  <a:pt x="2142" y="13482"/>
                  <a:pt x="2141" y="13471"/>
                  <a:pt x="2183" y="13543"/>
                </a:cubicBezTo>
              </a:path>
              <a:path w="299" h="819">
                <a:moveTo>
                  <a:pt x="1984" y="12874"/>
                </a:moveTo>
                <a:cubicBezTo>
                  <a:pt x="1993" y="12813"/>
                  <a:pt x="2012" y="12746"/>
                  <a:pt x="2084" y="12725"/>
                </a:cubicBezTo>
                <a:cubicBezTo>
                  <a:pt x="2121" y="12714"/>
                  <a:pt x="2258" y="12712"/>
                  <a:pt x="2282" y="12750"/>
                </a:cubicBezTo>
                <a:cubicBezTo>
                  <a:pt x="2327" y="12822"/>
                  <a:pt x="2274" y="12972"/>
                  <a:pt x="2232" y="13022"/>
                </a:cubicBezTo>
                <a:cubicBezTo>
                  <a:pt x="2194" y="13068"/>
                  <a:pt x="2162" y="13065"/>
                  <a:pt x="2108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27080" y="4697280"/>
            <a:ext cx="98280" cy="81000"/>
          </a:xfrm>
          <a:custGeom>
            <a:avLst/>
            <a:gdLst/>
            <a:ahLst/>
            <a:rect l="l" t="t" r="r" b="b"/>
            <a:pathLst>
              <a:path w="273" h="225">
                <a:moveTo>
                  <a:pt x="3026" y="13047"/>
                </a:moveTo>
                <a:cubicBezTo>
                  <a:pt x="3059" y="13047"/>
                  <a:pt x="3092" y="13047"/>
                  <a:pt x="3125" y="13047"/>
                </a:cubicBezTo>
                <a:cubicBezTo>
                  <a:pt x="3068" y="13047"/>
                  <a:pt x="3029" y="13063"/>
                  <a:pt x="2977" y="13072"/>
                </a:cubicBezTo>
                <a:cubicBezTo>
                  <a:pt x="2933" y="13079"/>
                  <a:pt x="2896" y="13088"/>
                  <a:pt x="2853" y="13097"/>
                </a:cubicBezTo>
              </a:path>
              <a:path w="273" h="225">
                <a:moveTo>
                  <a:pt x="3026" y="13221"/>
                </a:moveTo>
                <a:cubicBezTo>
                  <a:pt x="3043" y="13221"/>
                  <a:pt x="3059" y="13221"/>
                  <a:pt x="3076" y="13221"/>
                </a:cubicBezTo>
                <a:cubicBezTo>
                  <a:pt x="3061" y="13265"/>
                  <a:pt x="3006" y="13264"/>
                  <a:pt x="2952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74840" y="4626000"/>
            <a:ext cx="47448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3820" y="13022"/>
                </a:moveTo>
                <a:cubicBezTo>
                  <a:pt x="3820" y="13006"/>
                  <a:pt x="3820" y="12989"/>
                  <a:pt x="3820" y="12973"/>
                </a:cubicBezTo>
                <a:cubicBezTo>
                  <a:pt x="3820" y="13139"/>
                  <a:pt x="3787" y="13340"/>
                  <a:pt x="3845" y="13494"/>
                </a:cubicBezTo>
              </a:path>
              <a:path w="1316" h="671">
                <a:moveTo>
                  <a:pt x="4018" y="13072"/>
                </a:moveTo>
                <a:cubicBezTo>
                  <a:pt x="4018" y="13013"/>
                  <a:pt x="4038" y="13020"/>
                  <a:pt x="4068" y="12973"/>
                </a:cubicBezTo>
                <a:cubicBezTo>
                  <a:pt x="4112" y="12905"/>
                  <a:pt x="4162" y="12861"/>
                  <a:pt x="4242" y="12849"/>
                </a:cubicBezTo>
                <a:cubicBezTo>
                  <a:pt x="4275" y="12849"/>
                  <a:pt x="4291" y="12849"/>
                  <a:pt x="4316" y="12849"/>
                </a:cubicBezTo>
                <a:cubicBezTo>
                  <a:pt x="4316" y="12924"/>
                  <a:pt x="4320" y="12937"/>
                  <a:pt x="4266" y="12998"/>
                </a:cubicBezTo>
                <a:cubicBezTo>
                  <a:pt x="4208" y="13064"/>
                  <a:pt x="4147" y="13101"/>
                  <a:pt x="4093" y="13171"/>
                </a:cubicBezTo>
                <a:cubicBezTo>
                  <a:pt x="4065" y="13199"/>
                  <a:pt x="4056" y="13213"/>
                  <a:pt x="4068" y="13246"/>
                </a:cubicBezTo>
                <a:cubicBezTo>
                  <a:pt x="4123" y="13279"/>
                  <a:pt x="4196" y="13291"/>
                  <a:pt x="4266" y="13295"/>
                </a:cubicBezTo>
                <a:cubicBezTo>
                  <a:pt x="4320" y="13298"/>
                  <a:pt x="4359" y="13311"/>
                  <a:pt x="4366" y="13370"/>
                </a:cubicBezTo>
                <a:cubicBezTo>
                  <a:pt x="4373" y="13430"/>
                  <a:pt x="4303" y="13429"/>
                  <a:pt x="4266" y="13444"/>
                </a:cubicBezTo>
                <a:cubicBezTo>
                  <a:pt x="4209" y="13467"/>
                  <a:pt x="4202" y="13494"/>
                  <a:pt x="4142" y="13494"/>
                </a:cubicBezTo>
              </a:path>
              <a:path w="1316" h="671">
                <a:moveTo>
                  <a:pt x="4564" y="13171"/>
                </a:moveTo>
                <a:cubicBezTo>
                  <a:pt x="4587" y="13148"/>
                  <a:pt x="4591" y="13140"/>
                  <a:pt x="4614" y="13146"/>
                </a:cubicBezTo>
                <a:cubicBezTo>
                  <a:pt x="4614" y="13220"/>
                  <a:pt x="4623" y="13276"/>
                  <a:pt x="4638" y="13345"/>
                </a:cubicBezTo>
                <a:cubicBezTo>
                  <a:pt x="4647" y="13388"/>
                  <a:pt x="4660" y="13410"/>
                  <a:pt x="4688" y="13444"/>
                </a:cubicBezTo>
              </a:path>
              <a:path w="1316" h="671">
                <a:moveTo>
                  <a:pt x="4762" y="13171"/>
                </a:moveTo>
                <a:cubicBezTo>
                  <a:pt x="4782" y="13125"/>
                  <a:pt x="4813" y="13073"/>
                  <a:pt x="4787" y="13146"/>
                </a:cubicBezTo>
                <a:cubicBezTo>
                  <a:pt x="4757" y="13228"/>
                  <a:pt x="4742" y="13313"/>
                  <a:pt x="4787" y="13395"/>
                </a:cubicBezTo>
                <a:cubicBezTo>
                  <a:pt x="4830" y="13474"/>
                  <a:pt x="4915" y="13535"/>
                  <a:pt x="5011" y="13519"/>
                </a:cubicBezTo>
                <a:cubicBezTo>
                  <a:pt x="5078" y="13496"/>
                  <a:pt x="5096" y="13491"/>
                  <a:pt x="5135" y="13469"/>
                </a:cubicBezTo>
              </a:path>
              <a:path w="1316" h="671">
                <a:moveTo>
                  <a:pt x="5085" y="13171"/>
                </a:moveTo>
                <a:cubicBezTo>
                  <a:pt x="5037" y="13103"/>
                  <a:pt x="5037" y="13072"/>
                  <a:pt x="4961" y="13072"/>
                </a:cubicBezTo>
                <a:cubicBezTo>
                  <a:pt x="4852" y="13072"/>
                  <a:pt x="4741" y="13113"/>
                  <a:pt x="4638" y="13146"/>
                </a:cubicBezTo>
                <a:cubicBezTo>
                  <a:pt x="4613" y="13154"/>
                  <a:pt x="4589" y="13163"/>
                  <a:pt x="4564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52800" y="4653000"/>
            <a:ext cx="534960" cy="258840"/>
          </a:xfrm>
          <a:custGeom>
            <a:avLst/>
            <a:gdLst/>
            <a:ahLst/>
            <a:rect l="l" t="t" r="r" b="b"/>
            <a:pathLst>
              <a:path w="1489" h="721">
                <a:moveTo>
                  <a:pt x="6276" y="13320"/>
                </a:moveTo>
                <a:cubicBezTo>
                  <a:pt x="6317" y="13320"/>
                  <a:pt x="6242" y="13320"/>
                  <a:pt x="6201" y="13320"/>
                </a:cubicBezTo>
                <a:cubicBezTo>
                  <a:pt x="6129" y="13320"/>
                  <a:pt x="6093" y="13328"/>
                  <a:pt x="6028" y="13345"/>
                </a:cubicBezTo>
                <a:cubicBezTo>
                  <a:pt x="6000" y="13345"/>
                  <a:pt x="5989" y="13347"/>
                  <a:pt x="5978" y="13370"/>
                </a:cubicBezTo>
              </a:path>
              <a:path w="1489" h="721">
                <a:moveTo>
                  <a:pt x="6028" y="13122"/>
                </a:moveTo>
                <a:cubicBezTo>
                  <a:pt x="6072" y="13182"/>
                  <a:pt x="6061" y="13248"/>
                  <a:pt x="6077" y="13320"/>
                </a:cubicBezTo>
                <a:cubicBezTo>
                  <a:pt x="6092" y="13389"/>
                  <a:pt x="6102" y="13424"/>
                  <a:pt x="6102" y="13494"/>
                </a:cubicBezTo>
              </a:path>
              <a:path w="1489" h="721">
                <a:moveTo>
                  <a:pt x="6573" y="13271"/>
                </a:moveTo>
                <a:cubicBezTo>
                  <a:pt x="6551" y="13264"/>
                  <a:pt x="6528" y="13232"/>
                  <a:pt x="6548" y="13196"/>
                </a:cubicBezTo>
                <a:cubicBezTo>
                  <a:pt x="6579" y="13140"/>
                  <a:pt x="6640" y="13125"/>
                  <a:pt x="6697" y="13122"/>
                </a:cubicBezTo>
                <a:cubicBezTo>
                  <a:pt x="6802" y="13116"/>
                  <a:pt x="6796" y="13159"/>
                  <a:pt x="6796" y="13246"/>
                </a:cubicBezTo>
                <a:cubicBezTo>
                  <a:pt x="6796" y="13335"/>
                  <a:pt x="6738" y="13371"/>
                  <a:pt x="6697" y="13444"/>
                </a:cubicBezTo>
                <a:cubicBezTo>
                  <a:pt x="6664" y="13503"/>
                  <a:pt x="6659" y="13560"/>
                  <a:pt x="6697" y="13618"/>
                </a:cubicBezTo>
                <a:cubicBezTo>
                  <a:pt x="6737" y="13679"/>
                  <a:pt x="6820" y="13625"/>
                  <a:pt x="6871" y="13618"/>
                </a:cubicBezTo>
                <a:cubicBezTo>
                  <a:pt x="6938" y="13608"/>
                  <a:pt x="7003" y="13598"/>
                  <a:pt x="7069" y="13593"/>
                </a:cubicBezTo>
                <a:cubicBezTo>
                  <a:pt x="7094" y="13593"/>
                  <a:pt x="7102" y="13593"/>
                  <a:pt x="7094" y="13568"/>
                </a:cubicBezTo>
              </a:path>
              <a:path w="1489" h="721">
                <a:moveTo>
                  <a:pt x="7293" y="12973"/>
                </a:moveTo>
                <a:cubicBezTo>
                  <a:pt x="7293" y="12948"/>
                  <a:pt x="7293" y="12940"/>
                  <a:pt x="7293" y="12923"/>
                </a:cubicBezTo>
                <a:cubicBezTo>
                  <a:pt x="7327" y="12941"/>
                  <a:pt x="7261" y="12969"/>
                  <a:pt x="7243" y="13022"/>
                </a:cubicBezTo>
                <a:cubicBezTo>
                  <a:pt x="7205" y="13135"/>
                  <a:pt x="7138" y="13325"/>
                  <a:pt x="7169" y="13444"/>
                </a:cubicBezTo>
                <a:cubicBezTo>
                  <a:pt x="7192" y="13531"/>
                  <a:pt x="7284" y="13634"/>
                  <a:pt x="7367" y="13643"/>
                </a:cubicBezTo>
                <a:cubicBezTo>
                  <a:pt x="7428" y="13650"/>
                  <a:pt x="7453" y="13619"/>
                  <a:pt x="7466" y="13568"/>
                </a:cubicBezTo>
                <a:cubicBezTo>
                  <a:pt x="7413" y="13530"/>
                  <a:pt x="7387" y="13474"/>
                  <a:pt x="7317" y="13469"/>
                </a:cubicBezTo>
                <a:cubicBezTo>
                  <a:pt x="7276" y="13469"/>
                  <a:pt x="7268" y="13469"/>
                  <a:pt x="724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57720" y="4786200"/>
            <a:ext cx="125280" cy="20664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9376" y="13395"/>
                </a:moveTo>
                <a:cubicBezTo>
                  <a:pt x="9376" y="13378"/>
                  <a:pt x="9376" y="13362"/>
                  <a:pt x="9376" y="13345"/>
                </a:cubicBezTo>
                <a:cubicBezTo>
                  <a:pt x="9376" y="13434"/>
                  <a:pt x="9384" y="13533"/>
                  <a:pt x="9401" y="13618"/>
                </a:cubicBezTo>
                <a:cubicBezTo>
                  <a:pt x="9418" y="13703"/>
                  <a:pt x="9440" y="13782"/>
                  <a:pt x="9451" y="13866"/>
                </a:cubicBezTo>
              </a:path>
              <a:path w="348" h="572">
                <a:moveTo>
                  <a:pt x="9327" y="13469"/>
                </a:moveTo>
                <a:cubicBezTo>
                  <a:pt x="9338" y="13360"/>
                  <a:pt x="9354" y="13369"/>
                  <a:pt x="9451" y="13320"/>
                </a:cubicBezTo>
                <a:cubicBezTo>
                  <a:pt x="9556" y="13267"/>
                  <a:pt x="9596" y="13301"/>
                  <a:pt x="9649" y="13395"/>
                </a:cubicBezTo>
                <a:cubicBezTo>
                  <a:pt x="9689" y="13466"/>
                  <a:pt x="9679" y="13528"/>
                  <a:pt x="9599" y="13568"/>
                </a:cubicBezTo>
                <a:cubicBezTo>
                  <a:pt x="9534" y="13590"/>
                  <a:pt x="9519" y="13598"/>
                  <a:pt x="9475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2920" y="4822920"/>
            <a:ext cx="792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0294" y="13444"/>
                </a:moveTo>
                <a:cubicBezTo>
                  <a:pt x="10353" y="13436"/>
                  <a:pt x="10354" y="13450"/>
                  <a:pt x="10368" y="13395"/>
                </a:cubicBezTo>
                <a:cubicBezTo>
                  <a:pt x="10325" y="13395"/>
                  <a:pt x="10282" y="13404"/>
                  <a:pt x="10244" y="13419"/>
                </a:cubicBezTo>
                <a:cubicBezTo>
                  <a:pt x="10194" y="13439"/>
                  <a:pt x="10193" y="13444"/>
                  <a:pt x="10145" y="13444"/>
                </a:cubicBezTo>
              </a:path>
              <a:path w="224" h="174">
                <a:moveTo>
                  <a:pt x="10269" y="13469"/>
                </a:moveTo>
                <a:cubicBezTo>
                  <a:pt x="10339" y="13497"/>
                  <a:pt x="10353" y="13481"/>
                  <a:pt x="10368" y="13543"/>
                </a:cubicBezTo>
                <a:cubicBezTo>
                  <a:pt x="10308" y="13569"/>
                  <a:pt x="10309" y="13568"/>
                  <a:pt x="10244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67120" y="473220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0765" y="13593"/>
                </a:moveTo>
                <a:cubicBezTo>
                  <a:pt x="10739" y="13628"/>
                  <a:pt x="10740" y="13624"/>
                  <a:pt x="10740" y="13667"/>
                </a:cubicBezTo>
                <a:cubicBezTo>
                  <a:pt x="10810" y="13613"/>
                  <a:pt x="10843" y="13577"/>
                  <a:pt x="10889" y="13494"/>
                </a:cubicBezTo>
                <a:cubicBezTo>
                  <a:pt x="10947" y="13388"/>
                  <a:pt x="10981" y="13290"/>
                  <a:pt x="10988" y="13171"/>
                </a:cubicBezTo>
                <a:cubicBezTo>
                  <a:pt x="10988" y="13163"/>
                  <a:pt x="10988" y="13154"/>
                  <a:pt x="10988" y="13146"/>
                </a:cubicBezTo>
                <a:cubicBezTo>
                  <a:pt x="10891" y="13216"/>
                  <a:pt x="10871" y="13297"/>
                  <a:pt x="10864" y="13419"/>
                </a:cubicBezTo>
                <a:cubicBezTo>
                  <a:pt x="10859" y="13508"/>
                  <a:pt x="10835" y="13655"/>
                  <a:pt x="10939" y="13692"/>
                </a:cubicBezTo>
                <a:cubicBezTo>
                  <a:pt x="10992" y="13711"/>
                  <a:pt x="11064" y="13680"/>
                  <a:pt x="11112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79960" y="4803840"/>
            <a:ext cx="98280" cy="9036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11807" y="13444"/>
                </a:moveTo>
                <a:cubicBezTo>
                  <a:pt x="11848" y="13444"/>
                  <a:pt x="11856" y="13444"/>
                  <a:pt x="11881" y="13444"/>
                </a:cubicBezTo>
                <a:cubicBezTo>
                  <a:pt x="11865" y="13495"/>
                  <a:pt x="11836" y="13453"/>
                  <a:pt x="11782" y="13469"/>
                </a:cubicBezTo>
                <a:cubicBezTo>
                  <a:pt x="11717" y="13488"/>
                  <a:pt x="11678" y="13494"/>
                  <a:pt x="11609" y="13494"/>
                </a:cubicBezTo>
              </a:path>
              <a:path w="273" h="249">
                <a:moveTo>
                  <a:pt x="11658" y="13345"/>
                </a:moveTo>
                <a:cubicBezTo>
                  <a:pt x="11724" y="13378"/>
                  <a:pt x="11727" y="13470"/>
                  <a:pt x="11757" y="13543"/>
                </a:cubicBezTo>
                <a:cubicBezTo>
                  <a:pt x="11765" y="13560"/>
                  <a:pt x="11774" y="13576"/>
                  <a:pt x="11782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94160" y="4732200"/>
            <a:ext cx="357120" cy="16992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12229" y="13246"/>
                </a:moveTo>
                <a:cubicBezTo>
                  <a:pt x="12221" y="13238"/>
                  <a:pt x="12212" y="13229"/>
                  <a:pt x="12204" y="13221"/>
                </a:cubicBezTo>
                <a:cubicBezTo>
                  <a:pt x="12217" y="13299"/>
                  <a:pt x="12212" y="13393"/>
                  <a:pt x="12229" y="13469"/>
                </a:cubicBezTo>
                <a:cubicBezTo>
                  <a:pt x="12253" y="13517"/>
                  <a:pt x="12261" y="13531"/>
                  <a:pt x="12254" y="13568"/>
                </a:cubicBezTo>
              </a:path>
              <a:path w="993" h="473">
                <a:moveTo>
                  <a:pt x="12402" y="13171"/>
                </a:moveTo>
                <a:cubicBezTo>
                  <a:pt x="12410" y="13163"/>
                  <a:pt x="12419" y="13154"/>
                  <a:pt x="12427" y="13146"/>
                </a:cubicBezTo>
                <a:cubicBezTo>
                  <a:pt x="12466" y="13198"/>
                  <a:pt x="12452" y="13253"/>
                  <a:pt x="12452" y="13320"/>
                </a:cubicBezTo>
                <a:cubicBezTo>
                  <a:pt x="12452" y="13346"/>
                  <a:pt x="12443" y="13482"/>
                  <a:pt x="12477" y="13494"/>
                </a:cubicBezTo>
                <a:cubicBezTo>
                  <a:pt x="12535" y="13515"/>
                  <a:pt x="12600" y="13477"/>
                  <a:pt x="12650" y="13469"/>
                </a:cubicBezTo>
                <a:cubicBezTo>
                  <a:pt x="12669" y="13466"/>
                  <a:pt x="12788" y="13458"/>
                  <a:pt x="12799" y="13444"/>
                </a:cubicBezTo>
                <a:cubicBezTo>
                  <a:pt x="12820" y="13417"/>
                  <a:pt x="12798" y="13419"/>
                  <a:pt x="12849" y="13419"/>
                </a:cubicBezTo>
              </a:path>
              <a:path w="993" h="473">
                <a:moveTo>
                  <a:pt x="12750" y="13370"/>
                </a:moveTo>
                <a:cubicBezTo>
                  <a:pt x="12709" y="13350"/>
                  <a:pt x="12703" y="13341"/>
                  <a:pt x="12675" y="13345"/>
                </a:cubicBezTo>
                <a:cubicBezTo>
                  <a:pt x="12675" y="13436"/>
                  <a:pt x="12675" y="13527"/>
                  <a:pt x="12675" y="13618"/>
                </a:cubicBezTo>
              </a:path>
              <a:path w="993" h="473">
                <a:moveTo>
                  <a:pt x="12998" y="13320"/>
                </a:moveTo>
                <a:cubicBezTo>
                  <a:pt x="12998" y="13361"/>
                  <a:pt x="12983" y="13284"/>
                  <a:pt x="12998" y="13246"/>
                </a:cubicBezTo>
                <a:cubicBezTo>
                  <a:pt x="13010" y="13217"/>
                  <a:pt x="13071" y="13107"/>
                  <a:pt x="13122" y="13146"/>
                </a:cubicBezTo>
                <a:cubicBezTo>
                  <a:pt x="13182" y="13192"/>
                  <a:pt x="13194" y="13353"/>
                  <a:pt x="13196" y="13419"/>
                </a:cubicBezTo>
                <a:cubicBezTo>
                  <a:pt x="13198" y="13482"/>
                  <a:pt x="13192" y="13535"/>
                  <a:pt x="13122" y="13543"/>
                </a:cubicBezTo>
                <a:cubicBezTo>
                  <a:pt x="13082" y="13547"/>
                  <a:pt x="13070" y="13498"/>
                  <a:pt x="13047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69000" y="4714920"/>
            <a:ext cx="98280" cy="3636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16297" y="13097"/>
                </a:moveTo>
                <a:cubicBezTo>
                  <a:pt x="16208" y="13097"/>
                  <a:pt x="16125" y="13096"/>
                  <a:pt x="16049" y="13122"/>
                </a:cubicBezTo>
                <a:cubicBezTo>
                  <a:pt x="16041" y="13122"/>
                  <a:pt x="16032" y="13122"/>
                  <a:pt x="16024" y="13122"/>
                </a:cubicBezTo>
              </a:path>
              <a:path w="274" h="100">
                <a:moveTo>
                  <a:pt x="16222" y="13146"/>
                </a:moveTo>
                <a:cubicBezTo>
                  <a:pt x="16183" y="13198"/>
                  <a:pt x="16216" y="13184"/>
                  <a:pt x="16148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1840" y="4670280"/>
            <a:ext cx="490320" cy="231840"/>
          </a:xfrm>
          <a:custGeom>
            <a:avLst/>
            <a:gdLst/>
            <a:ahLst/>
            <a:rect l="l" t="t" r="r" b="b"/>
            <a:pathLst>
              <a:path w="1365" h="646">
                <a:moveTo>
                  <a:pt x="16892" y="12998"/>
                </a:moveTo>
                <a:cubicBezTo>
                  <a:pt x="16892" y="12924"/>
                  <a:pt x="16892" y="13122"/>
                  <a:pt x="16892" y="13122"/>
                </a:cubicBezTo>
                <a:cubicBezTo>
                  <a:pt x="16892" y="13240"/>
                  <a:pt x="16867" y="13395"/>
                  <a:pt x="16917" y="13494"/>
                </a:cubicBezTo>
              </a:path>
              <a:path w="1365" h="646">
                <a:moveTo>
                  <a:pt x="17115" y="13047"/>
                </a:moveTo>
                <a:cubicBezTo>
                  <a:pt x="17128" y="13087"/>
                  <a:pt x="17163" y="13072"/>
                  <a:pt x="17214" y="13072"/>
                </a:cubicBezTo>
                <a:cubicBezTo>
                  <a:pt x="17257" y="13072"/>
                  <a:pt x="17433" y="13043"/>
                  <a:pt x="17462" y="13097"/>
                </a:cubicBezTo>
                <a:cubicBezTo>
                  <a:pt x="17485" y="13139"/>
                  <a:pt x="17460" y="13284"/>
                  <a:pt x="17438" y="13320"/>
                </a:cubicBezTo>
                <a:cubicBezTo>
                  <a:pt x="17408" y="13368"/>
                  <a:pt x="17337" y="13416"/>
                  <a:pt x="17314" y="13469"/>
                </a:cubicBezTo>
                <a:cubicBezTo>
                  <a:pt x="17314" y="13477"/>
                  <a:pt x="17314" y="13486"/>
                  <a:pt x="17314" y="13494"/>
                </a:cubicBezTo>
              </a:path>
              <a:path w="1365" h="646">
                <a:moveTo>
                  <a:pt x="17686" y="13146"/>
                </a:moveTo>
                <a:cubicBezTo>
                  <a:pt x="17645" y="13146"/>
                  <a:pt x="17719" y="13146"/>
                  <a:pt x="17760" y="13146"/>
                </a:cubicBezTo>
                <a:cubicBezTo>
                  <a:pt x="17823" y="13146"/>
                  <a:pt x="17878" y="13136"/>
                  <a:pt x="17934" y="13171"/>
                </a:cubicBezTo>
                <a:cubicBezTo>
                  <a:pt x="17992" y="13207"/>
                  <a:pt x="17952" y="13324"/>
                  <a:pt x="17934" y="13370"/>
                </a:cubicBezTo>
                <a:cubicBezTo>
                  <a:pt x="17905" y="13445"/>
                  <a:pt x="17835" y="13488"/>
                  <a:pt x="17810" y="13568"/>
                </a:cubicBezTo>
                <a:cubicBezTo>
                  <a:pt x="17810" y="13593"/>
                  <a:pt x="17810" y="13601"/>
                  <a:pt x="17810" y="13618"/>
                </a:cubicBezTo>
              </a:path>
              <a:path w="1365" h="646">
                <a:moveTo>
                  <a:pt x="18256" y="13494"/>
                </a:moveTo>
                <a:cubicBezTo>
                  <a:pt x="18256" y="13469"/>
                  <a:pt x="18256" y="13461"/>
                  <a:pt x="18256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24800" y="4616280"/>
            <a:ext cx="642960" cy="258840"/>
          </a:xfrm>
          <a:custGeom>
            <a:avLst/>
            <a:gdLst/>
            <a:ahLst/>
            <a:rect l="l" t="t" r="r" b="b"/>
            <a:pathLst>
              <a:path w="1787" h="720">
                <a:moveTo>
                  <a:pt x="18703" y="13097"/>
                </a:moveTo>
                <a:cubicBezTo>
                  <a:pt x="18703" y="13080"/>
                  <a:pt x="18703" y="13064"/>
                  <a:pt x="18703" y="13047"/>
                </a:cubicBezTo>
                <a:cubicBezTo>
                  <a:pt x="18692" y="13132"/>
                  <a:pt x="18678" y="13204"/>
                  <a:pt x="18678" y="13295"/>
                </a:cubicBezTo>
                <a:cubicBezTo>
                  <a:pt x="18678" y="13361"/>
                  <a:pt x="18678" y="13378"/>
                  <a:pt x="18678" y="13419"/>
                </a:cubicBezTo>
              </a:path>
              <a:path w="1787" h="720">
                <a:moveTo>
                  <a:pt x="18901" y="13171"/>
                </a:moveTo>
                <a:cubicBezTo>
                  <a:pt x="18911" y="13099"/>
                  <a:pt x="18933" y="13061"/>
                  <a:pt x="19000" y="13022"/>
                </a:cubicBezTo>
                <a:cubicBezTo>
                  <a:pt x="19040" y="12999"/>
                  <a:pt x="19151" y="12941"/>
                  <a:pt x="19199" y="12973"/>
                </a:cubicBezTo>
                <a:cubicBezTo>
                  <a:pt x="19275" y="13023"/>
                  <a:pt x="19255" y="13101"/>
                  <a:pt x="19224" y="13171"/>
                </a:cubicBezTo>
                <a:cubicBezTo>
                  <a:pt x="19196" y="13234"/>
                  <a:pt x="19147" y="13272"/>
                  <a:pt x="19100" y="13320"/>
                </a:cubicBezTo>
                <a:cubicBezTo>
                  <a:pt x="19152" y="13373"/>
                  <a:pt x="19206" y="13387"/>
                  <a:pt x="19273" y="13419"/>
                </a:cubicBezTo>
                <a:cubicBezTo>
                  <a:pt x="19326" y="13444"/>
                  <a:pt x="19359" y="13465"/>
                  <a:pt x="19372" y="13519"/>
                </a:cubicBezTo>
                <a:cubicBezTo>
                  <a:pt x="19320" y="13550"/>
                  <a:pt x="19240" y="13556"/>
                  <a:pt x="19174" y="13543"/>
                </a:cubicBezTo>
                <a:cubicBezTo>
                  <a:pt x="19107" y="13521"/>
                  <a:pt x="19089" y="13517"/>
                  <a:pt x="19050" y="13494"/>
                </a:cubicBezTo>
              </a:path>
              <a:path w="1787" h="720">
                <a:moveTo>
                  <a:pt x="19596" y="13122"/>
                </a:moveTo>
                <a:cubicBezTo>
                  <a:pt x="19571" y="13122"/>
                  <a:pt x="19563" y="13122"/>
                  <a:pt x="19546" y="13122"/>
                </a:cubicBezTo>
                <a:cubicBezTo>
                  <a:pt x="19546" y="13076"/>
                  <a:pt x="19539" y="13057"/>
                  <a:pt x="19571" y="13022"/>
                </a:cubicBezTo>
                <a:cubicBezTo>
                  <a:pt x="19604" y="12985"/>
                  <a:pt x="19719" y="12984"/>
                  <a:pt x="19769" y="12998"/>
                </a:cubicBezTo>
                <a:cubicBezTo>
                  <a:pt x="19865" y="13024"/>
                  <a:pt x="19888" y="13073"/>
                  <a:pt x="19869" y="13171"/>
                </a:cubicBezTo>
                <a:cubicBezTo>
                  <a:pt x="19856" y="13239"/>
                  <a:pt x="19772" y="13351"/>
                  <a:pt x="19720" y="13395"/>
                </a:cubicBezTo>
                <a:cubicBezTo>
                  <a:pt x="19679" y="13415"/>
                  <a:pt x="19662" y="13412"/>
                  <a:pt x="19670" y="13444"/>
                </a:cubicBezTo>
                <a:cubicBezTo>
                  <a:pt x="19688" y="13499"/>
                  <a:pt x="19744" y="13461"/>
                  <a:pt x="19794" y="13444"/>
                </a:cubicBezTo>
                <a:cubicBezTo>
                  <a:pt x="19845" y="13426"/>
                  <a:pt x="19915" y="13400"/>
                  <a:pt x="19968" y="13395"/>
                </a:cubicBezTo>
                <a:cubicBezTo>
                  <a:pt x="19993" y="13395"/>
                  <a:pt x="20001" y="13395"/>
                  <a:pt x="20017" y="13395"/>
                </a:cubicBezTo>
              </a:path>
              <a:path w="1787" h="720">
                <a:moveTo>
                  <a:pt x="20166" y="12874"/>
                </a:moveTo>
                <a:cubicBezTo>
                  <a:pt x="20155" y="12874"/>
                  <a:pt x="20050" y="12874"/>
                  <a:pt x="20117" y="12874"/>
                </a:cubicBezTo>
                <a:cubicBezTo>
                  <a:pt x="20176" y="12874"/>
                  <a:pt x="20233" y="12831"/>
                  <a:pt x="20290" y="12824"/>
                </a:cubicBezTo>
                <a:cubicBezTo>
                  <a:pt x="20362" y="12815"/>
                  <a:pt x="20437" y="12802"/>
                  <a:pt x="20464" y="12874"/>
                </a:cubicBezTo>
                <a:cubicBezTo>
                  <a:pt x="20489" y="12942"/>
                  <a:pt x="20464" y="13058"/>
                  <a:pt x="20439" y="13122"/>
                </a:cubicBezTo>
                <a:cubicBezTo>
                  <a:pt x="20403" y="13212"/>
                  <a:pt x="20344" y="13302"/>
                  <a:pt x="20315" y="13395"/>
                </a:cubicBezTo>
                <a:cubicBezTo>
                  <a:pt x="20315" y="13403"/>
                  <a:pt x="20315" y="13411"/>
                  <a:pt x="20315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71720" y="5126040"/>
            <a:ext cx="9036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3175" y="14238"/>
                </a:moveTo>
                <a:cubicBezTo>
                  <a:pt x="3136" y="14267"/>
                  <a:pt x="3090" y="14263"/>
                  <a:pt x="3051" y="14288"/>
                </a:cubicBezTo>
                <a:cubicBezTo>
                  <a:pt x="3019" y="14308"/>
                  <a:pt x="3007" y="14314"/>
                  <a:pt x="2977" y="14337"/>
                </a:cubicBezTo>
              </a:path>
              <a:path w="249" h="299">
                <a:moveTo>
                  <a:pt x="3225" y="14436"/>
                </a:moveTo>
                <a:cubicBezTo>
                  <a:pt x="3225" y="14444"/>
                  <a:pt x="3225" y="14453"/>
                  <a:pt x="3225" y="14461"/>
                </a:cubicBezTo>
                <a:cubicBezTo>
                  <a:pt x="3186" y="14471"/>
                  <a:pt x="3140" y="14495"/>
                  <a:pt x="3101" y="14511"/>
                </a:cubicBezTo>
                <a:cubicBezTo>
                  <a:pt x="3060" y="14531"/>
                  <a:pt x="3054" y="14540"/>
                  <a:pt x="3026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6120" y="5099040"/>
            <a:ext cx="777960" cy="231840"/>
          </a:xfrm>
          <a:custGeom>
            <a:avLst/>
            <a:gdLst/>
            <a:ahLst/>
            <a:rect l="l" t="t" r="r" b="b"/>
            <a:pathLst>
              <a:path w="2159" h="646">
                <a:moveTo>
                  <a:pt x="4167" y="14337"/>
                </a:moveTo>
                <a:cubicBezTo>
                  <a:pt x="4191" y="14305"/>
                  <a:pt x="4213" y="14252"/>
                  <a:pt x="4217" y="14213"/>
                </a:cubicBezTo>
                <a:cubicBezTo>
                  <a:pt x="4222" y="14171"/>
                  <a:pt x="4224" y="14174"/>
                  <a:pt x="4192" y="14163"/>
                </a:cubicBezTo>
                <a:cubicBezTo>
                  <a:pt x="4138" y="14163"/>
                  <a:pt x="4116" y="14187"/>
                  <a:pt x="4093" y="14238"/>
                </a:cubicBezTo>
                <a:cubicBezTo>
                  <a:pt x="4052" y="14328"/>
                  <a:pt x="4021" y="14413"/>
                  <a:pt x="4018" y="14511"/>
                </a:cubicBezTo>
                <a:cubicBezTo>
                  <a:pt x="4015" y="14600"/>
                  <a:pt x="4055" y="14733"/>
                  <a:pt x="4142" y="14784"/>
                </a:cubicBezTo>
                <a:cubicBezTo>
                  <a:pt x="4188" y="14811"/>
                  <a:pt x="4303" y="14833"/>
                  <a:pt x="4341" y="14784"/>
                </a:cubicBezTo>
                <a:cubicBezTo>
                  <a:pt x="4363" y="14755"/>
                  <a:pt x="4390" y="14661"/>
                  <a:pt x="4341" y="14635"/>
                </a:cubicBezTo>
                <a:cubicBezTo>
                  <a:pt x="4284" y="14605"/>
                  <a:pt x="4146" y="14640"/>
                  <a:pt x="4093" y="14660"/>
                </a:cubicBezTo>
              </a:path>
              <a:path w="2159" h="646">
                <a:moveTo>
                  <a:pt x="4539" y="14312"/>
                </a:moveTo>
                <a:cubicBezTo>
                  <a:pt x="4582" y="14281"/>
                  <a:pt x="4589" y="14294"/>
                  <a:pt x="4589" y="14238"/>
                </a:cubicBezTo>
                <a:cubicBezTo>
                  <a:pt x="4618" y="14252"/>
                  <a:pt x="4583" y="14285"/>
                  <a:pt x="4564" y="14337"/>
                </a:cubicBezTo>
                <a:cubicBezTo>
                  <a:pt x="4530" y="14429"/>
                  <a:pt x="4482" y="14513"/>
                  <a:pt x="4539" y="14610"/>
                </a:cubicBezTo>
                <a:cubicBezTo>
                  <a:pt x="4570" y="14662"/>
                  <a:pt x="4649" y="14723"/>
                  <a:pt x="4713" y="14709"/>
                </a:cubicBezTo>
                <a:cubicBezTo>
                  <a:pt x="4749" y="14701"/>
                  <a:pt x="4813" y="14657"/>
                  <a:pt x="4787" y="14610"/>
                </a:cubicBezTo>
                <a:cubicBezTo>
                  <a:pt x="4750" y="14544"/>
                  <a:pt x="4691" y="14575"/>
                  <a:pt x="4638" y="14560"/>
                </a:cubicBezTo>
                <a:cubicBezTo>
                  <a:pt x="4598" y="14540"/>
                  <a:pt x="4591" y="14532"/>
                  <a:pt x="4564" y="14536"/>
                </a:cubicBezTo>
              </a:path>
              <a:path w="2159" h="646">
                <a:moveTo>
                  <a:pt x="5110" y="14635"/>
                </a:moveTo>
                <a:cubicBezTo>
                  <a:pt x="5110" y="14643"/>
                  <a:pt x="5110" y="14652"/>
                  <a:pt x="5110" y="14660"/>
                </a:cubicBezTo>
              </a:path>
              <a:path w="2159" h="646">
                <a:moveTo>
                  <a:pt x="5457" y="14337"/>
                </a:moveTo>
                <a:cubicBezTo>
                  <a:pt x="5503" y="14311"/>
                  <a:pt x="5550" y="14293"/>
                  <a:pt x="5556" y="14238"/>
                </a:cubicBezTo>
                <a:cubicBezTo>
                  <a:pt x="5556" y="14230"/>
                  <a:pt x="5556" y="14221"/>
                  <a:pt x="5556" y="14213"/>
                </a:cubicBezTo>
                <a:cubicBezTo>
                  <a:pt x="5505" y="14213"/>
                  <a:pt x="5498" y="14214"/>
                  <a:pt x="5457" y="14238"/>
                </a:cubicBezTo>
                <a:cubicBezTo>
                  <a:pt x="5379" y="14282"/>
                  <a:pt x="5359" y="14294"/>
                  <a:pt x="5308" y="14362"/>
                </a:cubicBezTo>
                <a:cubicBezTo>
                  <a:pt x="5270" y="14413"/>
                  <a:pt x="5268" y="14394"/>
                  <a:pt x="5259" y="14461"/>
                </a:cubicBezTo>
                <a:cubicBezTo>
                  <a:pt x="5313" y="14475"/>
                  <a:pt x="5346" y="14521"/>
                  <a:pt x="5407" y="14536"/>
                </a:cubicBezTo>
                <a:cubicBezTo>
                  <a:pt x="5451" y="14547"/>
                  <a:pt x="5494" y="14535"/>
                  <a:pt x="5531" y="14560"/>
                </a:cubicBezTo>
                <a:cubicBezTo>
                  <a:pt x="5558" y="14578"/>
                  <a:pt x="5573" y="14653"/>
                  <a:pt x="5556" y="14684"/>
                </a:cubicBezTo>
                <a:cubicBezTo>
                  <a:pt x="5525" y="14740"/>
                  <a:pt x="5460" y="14734"/>
                  <a:pt x="5407" y="14734"/>
                </a:cubicBezTo>
                <a:cubicBezTo>
                  <a:pt x="5374" y="14734"/>
                  <a:pt x="5341" y="14734"/>
                  <a:pt x="5308" y="14734"/>
                </a:cubicBezTo>
                <a:cubicBezTo>
                  <a:pt x="5320" y="14675"/>
                  <a:pt x="5355" y="14639"/>
                  <a:pt x="5383" y="14585"/>
                </a:cubicBezTo>
                <a:cubicBezTo>
                  <a:pt x="5413" y="14528"/>
                  <a:pt x="5463" y="14485"/>
                  <a:pt x="5507" y="14436"/>
                </a:cubicBezTo>
                <a:cubicBezTo>
                  <a:pt x="5515" y="14428"/>
                  <a:pt x="5523" y="14420"/>
                  <a:pt x="5531" y="14412"/>
                </a:cubicBezTo>
              </a:path>
              <a:path w="2159" h="646">
                <a:moveTo>
                  <a:pt x="5779" y="14288"/>
                </a:moveTo>
                <a:cubicBezTo>
                  <a:pt x="5799" y="14247"/>
                  <a:pt x="5797" y="14231"/>
                  <a:pt x="5829" y="14238"/>
                </a:cubicBezTo>
                <a:cubicBezTo>
                  <a:pt x="5860" y="14248"/>
                  <a:pt x="5867" y="14292"/>
                  <a:pt x="5854" y="14337"/>
                </a:cubicBezTo>
                <a:cubicBezTo>
                  <a:pt x="5830" y="14420"/>
                  <a:pt x="5804" y="14471"/>
                  <a:pt x="5804" y="14560"/>
                </a:cubicBezTo>
                <a:cubicBezTo>
                  <a:pt x="5804" y="14603"/>
                  <a:pt x="5840" y="14631"/>
                  <a:pt x="5879" y="14635"/>
                </a:cubicBezTo>
                <a:cubicBezTo>
                  <a:pt x="5934" y="14641"/>
                  <a:pt x="5958" y="14615"/>
                  <a:pt x="6003" y="14610"/>
                </a:cubicBezTo>
                <a:cubicBezTo>
                  <a:pt x="6052" y="14605"/>
                  <a:pt x="6085" y="14590"/>
                  <a:pt x="6127" y="14585"/>
                </a:cubicBezTo>
                <a:cubicBezTo>
                  <a:pt x="6179" y="14579"/>
                  <a:pt x="6176" y="14588"/>
                  <a:pt x="6176" y="14635"/>
                </a:cubicBezTo>
              </a:path>
              <a:path w="2159" h="646">
                <a:moveTo>
                  <a:pt x="6052" y="14486"/>
                </a:moveTo>
                <a:cubicBezTo>
                  <a:pt x="6044" y="14478"/>
                  <a:pt x="6036" y="14469"/>
                  <a:pt x="6028" y="14461"/>
                </a:cubicBezTo>
                <a:cubicBezTo>
                  <a:pt x="6028" y="14526"/>
                  <a:pt x="6007" y="14572"/>
                  <a:pt x="6003" y="14635"/>
                </a:cubicBezTo>
                <a:cubicBezTo>
                  <a:pt x="6003" y="14684"/>
                  <a:pt x="6003" y="14701"/>
                  <a:pt x="6003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5920" y="5180040"/>
            <a:ext cx="712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0195" y="14387"/>
                </a:moveTo>
                <a:cubicBezTo>
                  <a:pt x="10203" y="14395"/>
                  <a:pt x="10212" y="14404"/>
                  <a:pt x="10220" y="14412"/>
                </a:cubicBezTo>
                <a:cubicBezTo>
                  <a:pt x="10169" y="14449"/>
                  <a:pt x="10151" y="14413"/>
                  <a:pt x="10096" y="14436"/>
                </a:cubicBezTo>
                <a:cubicBezTo>
                  <a:pt x="10088" y="14444"/>
                  <a:pt x="10079" y="14453"/>
                  <a:pt x="10071" y="14461"/>
                </a:cubicBezTo>
              </a:path>
              <a:path w="199" h="199">
                <a:moveTo>
                  <a:pt x="10244" y="14461"/>
                </a:moveTo>
                <a:cubicBezTo>
                  <a:pt x="10269" y="14494"/>
                  <a:pt x="10290" y="14528"/>
                  <a:pt x="10244" y="14560"/>
                </a:cubicBezTo>
                <a:cubicBezTo>
                  <a:pt x="10204" y="14580"/>
                  <a:pt x="10198" y="14589"/>
                  <a:pt x="10170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94120" y="5099040"/>
            <a:ext cx="1017720" cy="196920"/>
          </a:xfrm>
          <a:custGeom>
            <a:avLst/>
            <a:gdLst/>
            <a:ahLst/>
            <a:rect l="l" t="t" r="r" b="b"/>
            <a:pathLst>
              <a:path w="2829" h="547">
                <a:moveTo>
                  <a:pt x="10889" y="14436"/>
                </a:moveTo>
                <a:cubicBezTo>
                  <a:pt x="10846" y="14415"/>
                  <a:pt x="10834" y="14411"/>
                  <a:pt x="10815" y="14387"/>
                </a:cubicBezTo>
                <a:cubicBezTo>
                  <a:pt x="10826" y="14341"/>
                  <a:pt x="10851" y="14307"/>
                  <a:pt x="10889" y="14288"/>
                </a:cubicBezTo>
                <a:cubicBezTo>
                  <a:pt x="10948" y="14259"/>
                  <a:pt x="11041" y="14249"/>
                  <a:pt x="11063" y="14337"/>
                </a:cubicBezTo>
                <a:cubicBezTo>
                  <a:pt x="11085" y="14423"/>
                  <a:pt x="11049" y="14510"/>
                  <a:pt x="11013" y="14585"/>
                </a:cubicBezTo>
                <a:cubicBezTo>
                  <a:pt x="10986" y="14642"/>
                  <a:pt x="10988" y="14647"/>
                  <a:pt x="10988" y="14709"/>
                </a:cubicBezTo>
                <a:cubicBezTo>
                  <a:pt x="11055" y="14709"/>
                  <a:pt x="11100" y="14694"/>
                  <a:pt x="11162" y="14684"/>
                </a:cubicBezTo>
                <a:cubicBezTo>
                  <a:pt x="11214" y="14684"/>
                  <a:pt x="11232" y="14683"/>
                  <a:pt x="11261" y="14660"/>
                </a:cubicBezTo>
              </a:path>
              <a:path w="2829" h="547">
                <a:moveTo>
                  <a:pt x="11658" y="14312"/>
                </a:moveTo>
                <a:cubicBezTo>
                  <a:pt x="11685" y="14277"/>
                  <a:pt x="11683" y="14282"/>
                  <a:pt x="11683" y="14238"/>
                </a:cubicBezTo>
                <a:cubicBezTo>
                  <a:pt x="11607" y="14238"/>
                  <a:pt x="11559" y="14246"/>
                  <a:pt x="11509" y="14312"/>
                </a:cubicBezTo>
                <a:cubicBezTo>
                  <a:pt x="11470" y="14364"/>
                  <a:pt x="11476" y="14416"/>
                  <a:pt x="11509" y="14461"/>
                </a:cubicBezTo>
                <a:cubicBezTo>
                  <a:pt x="11537" y="14443"/>
                  <a:pt x="11545" y="14401"/>
                  <a:pt x="11584" y="14362"/>
                </a:cubicBezTo>
                <a:cubicBezTo>
                  <a:pt x="11592" y="14354"/>
                  <a:pt x="11601" y="14345"/>
                  <a:pt x="11609" y="14337"/>
                </a:cubicBezTo>
                <a:cubicBezTo>
                  <a:pt x="11666" y="14366"/>
                  <a:pt x="11685" y="14444"/>
                  <a:pt x="11708" y="14511"/>
                </a:cubicBezTo>
                <a:cubicBezTo>
                  <a:pt x="11726" y="14561"/>
                  <a:pt x="11747" y="14610"/>
                  <a:pt x="11757" y="14660"/>
                </a:cubicBezTo>
              </a:path>
              <a:path w="2829" h="547">
                <a:moveTo>
                  <a:pt x="12030" y="14288"/>
                </a:moveTo>
                <a:cubicBezTo>
                  <a:pt x="11987" y="14231"/>
                  <a:pt x="12015" y="14244"/>
                  <a:pt x="12030" y="14213"/>
                </a:cubicBezTo>
                <a:cubicBezTo>
                  <a:pt x="12039" y="14195"/>
                  <a:pt x="12067" y="14167"/>
                  <a:pt x="12105" y="14188"/>
                </a:cubicBezTo>
                <a:cubicBezTo>
                  <a:pt x="12159" y="14219"/>
                  <a:pt x="12122" y="14298"/>
                  <a:pt x="12105" y="14337"/>
                </a:cubicBezTo>
                <a:cubicBezTo>
                  <a:pt x="12076" y="14403"/>
                  <a:pt x="12036" y="14443"/>
                  <a:pt x="12030" y="14511"/>
                </a:cubicBezTo>
                <a:cubicBezTo>
                  <a:pt x="12030" y="14536"/>
                  <a:pt x="12030" y="14544"/>
                  <a:pt x="12030" y="14560"/>
                </a:cubicBezTo>
                <a:cubicBezTo>
                  <a:pt x="12088" y="14560"/>
                  <a:pt x="12125" y="14560"/>
                  <a:pt x="12179" y="14536"/>
                </a:cubicBezTo>
                <a:cubicBezTo>
                  <a:pt x="12250" y="14505"/>
                  <a:pt x="12312" y="14474"/>
                  <a:pt x="12378" y="14436"/>
                </a:cubicBezTo>
              </a:path>
              <a:path w="2829" h="547">
                <a:moveTo>
                  <a:pt x="12675" y="14536"/>
                </a:moveTo>
                <a:cubicBezTo>
                  <a:pt x="12699" y="14592"/>
                  <a:pt x="12713" y="14599"/>
                  <a:pt x="12725" y="14635"/>
                </a:cubicBezTo>
              </a:path>
              <a:path w="2829" h="547">
                <a:moveTo>
                  <a:pt x="12923" y="14188"/>
                </a:moveTo>
                <a:cubicBezTo>
                  <a:pt x="12942" y="14246"/>
                  <a:pt x="12981" y="14196"/>
                  <a:pt x="13022" y="14188"/>
                </a:cubicBezTo>
                <a:cubicBezTo>
                  <a:pt x="13074" y="14177"/>
                  <a:pt x="13145" y="14166"/>
                  <a:pt x="13196" y="14163"/>
                </a:cubicBezTo>
                <a:cubicBezTo>
                  <a:pt x="13255" y="14159"/>
                  <a:pt x="13286" y="14221"/>
                  <a:pt x="13271" y="14288"/>
                </a:cubicBezTo>
                <a:cubicBezTo>
                  <a:pt x="13254" y="14364"/>
                  <a:pt x="13187" y="14434"/>
                  <a:pt x="13171" y="14511"/>
                </a:cubicBezTo>
                <a:cubicBezTo>
                  <a:pt x="13159" y="14569"/>
                  <a:pt x="13193" y="14569"/>
                  <a:pt x="13146" y="14585"/>
                </a:cubicBezTo>
              </a:path>
              <a:path w="2829" h="547">
                <a:moveTo>
                  <a:pt x="13593" y="14188"/>
                </a:moveTo>
                <a:cubicBezTo>
                  <a:pt x="13593" y="14248"/>
                  <a:pt x="13608" y="14281"/>
                  <a:pt x="13618" y="14337"/>
                </a:cubicBezTo>
                <a:cubicBezTo>
                  <a:pt x="13629" y="14401"/>
                  <a:pt x="13626" y="14456"/>
                  <a:pt x="13643" y="14511"/>
                </a:cubicBezTo>
                <a:cubicBezTo>
                  <a:pt x="13643" y="14519"/>
                  <a:pt x="13643" y="14528"/>
                  <a:pt x="13643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76920" y="5214960"/>
            <a:ext cx="9036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6272" y="14536"/>
                </a:moveTo>
                <a:cubicBezTo>
                  <a:pt x="16272" y="14511"/>
                  <a:pt x="16272" y="14503"/>
                  <a:pt x="16297" y="14511"/>
                </a:cubicBezTo>
                <a:cubicBezTo>
                  <a:pt x="16214" y="14511"/>
                  <a:pt x="16144" y="14508"/>
                  <a:pt x="16073" y="14486"/>
                </a:cubicBezTo>
                <a:cubicBezTo>
                  <a:pt x="16065" y="14486"/>
                  <a:pt x="16057" y="14486"/>
                  <a:pt x="16049" y="14486"/>
                </a:cubicBezTo>
              </a:path>
              <a:path w="249" h="175">
                <a:moveTo>
                  <a:pt x="16247" y="14610"/>
                </a:moveTo>
                <a:cubicBezTo>
                  <a:pt x="16288" y="14630"/>
                  <a:pt x="16304" y="14628"/>
                  <a:pt x="16297" y="14660"/>
                </a:cubicBezTo>
                <a:cubicBezTo>
                  <a:pt x="16256" y="14660"/>
                  <a:pt x="16214" y="14660"/>
                  <a:pt x="16173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81840" y="5126040"/>
            <a:ext cx="419040" cy="196920"/>
          </a:xfrm>
          <a:custGeom>
            <a:avLst/>
            <a:gdLst/>
            <a:ahLst/>
            <a:rect l="l" t="t" r="r" b="b"/>
            <a:pathLst>
              <a:path w="1167" h="547">
                <a:moveTo>
                  <a:pt x="16892" y="14263"/>
                </a:moveTo>
                <a:cubicBezTo>
                  <a:pt x="16932" y="14250"/>
                  <a:pt x="16902" y="14251"/>
                  <a:pt x="16942" y="14238"/>
                </a:cubicBezTo>
                <a:cubicBezTo>
                  <a:pt x="16942" y="14316"/>
                  <a:pt x="16919" y="14382"/>
                  <a:pt x="16917" y="14461"/>
                </a:cubicBezTo>
                <a:cubicBezTo>
                  <a:pt x="16914" y="14552"/>
                  <a:pt x="16917" y="14643"/>
                  <a:pt x="16917" y="14734"/>
                </a:cubicBezTo>
              </a:path>
              <a:path w="1167" h="547">
                <a:moveTo>
                  <a:pt x="17214" y="14288"/>
                </a:moveTo>
                <a:cubicBezTo>
                  <a:pt x="17257" y="14288"/>
                  <a:pt x="17299" y="14277"/>
                  <a:pt x="17338" y="14263"/>
                </a:cubicBezTo>
                <a:cubicBezTo>
                  <a:pt x="17409" y="14238"/>
                  <a:pt x="17461" y="14238"/>
                  <a:pt x="17537" y="14238"/>
                </a:cubicBezTo>
                <a:cubicBezTo>
                  <a:pt x="17601" y="14238"/>
                  <a:pt x="17598" y="14313"/>
                  <a:pt x="17587" y="14362"/>
                </a:cubicBezTo>
                <a:cubicBezTo>
                  <a:pt x="17565" y="14460"/>
                  <a:pt x="17509" y="14549"/>
                  <a:pt x="17462" y="14635"/>
                </a:cubicBezTo>
                <a:cubicBezTo>
                  <a:pt x="17436" y="14682"/>
                  <a:pt x="17442" y="14695"/>
                  <a:pt x="17413" y="14734"/>
                </a:cubicBezTo>
              </a:path>
              <a:path w="1167" h="547">
                <a:moveTo>
                  <a:pt x="17760" y="14312"/>
                </a:moveTo>
                <a:cubicBezTo>
                  <a:pt x="17798" y="14303"/>
                  <a:pt x="17829" y="14290"/>
                  <a:pt x="17859" y="14263"/>
                </a:cubicBezTo>
                <a:cubicBezTo>
                  <a:pt x="17898" y="14228"/>
                  <a:pt x="17930" y="14238"/>
                  <a:pt x="17983" y="14238"/>
                </a:cubicBezTo>
                <a:cubicBezTo>
                  <a:pt x="18032" y="14238"/>
                  <a:pt x="18070" y="14288"/>
                  <a:pt x="18058" y="14337"/>
                </a:cubicBezTo>
                <a:cubicBezTo>
                  <a:pt x="18040" y="14411"/>
                  <a:pt x="17986" y="14488"/>
                  <a:pt x="17959" y="14560"/>
                </a:cubicBezTo>
                <a:cubicBezTo>
                  <a:pt x="17936" y="14621"/>
                  <a:pt x="17890" y="14695"/>
                  <a:pt x="17884" y="14759"/>
                </a:cubicBezTo>
                <a:cubicBezTo>
                  <a:pt x="17884" y="14767"/>
                  <a:pt x="17884" y="14776"/>
                  <a:pt x="17884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34080" y="5224320"/>
            <a:ext cx="366840" cy="98640"/>
          </a:xfrm>
          <a:custGeom>
            <a:avLst/>
            <a:gdLst/>
            <a:ahLst/>
            <a:rect l="l" t="t" r="r" b="b"/>
            <a:pathLst>
              <a:path w="1018" h="274">
                <a:moveTo>
                  <a:pt x="18455" y="14511"/>
                </a:moveTo>
                <a:cubicBezTo>
                  <a:pt x="18420" y="14558"/>
                  <a:pt x="18430" y="14598"/>
                  <a:pt x="18430" y="14660"/>
                </a:cubicBezTo>
                <a:cubicBezTo>
                  <a:pt x="18430" y="14693"/>
                  <a:pt x="18430" y="14726"/>
                  <a:pt x="18430" y="14759"/>
                </a:cubicBezTo>
                <a:cubicBezTo>
                  <a:pt x="18440" y="14717"/>
                  <a:pt x="18464" y="14677"/>
                  <a:pt x="18479" y="14635"/>
                </a:cubicBezTo>
                <a:cubicBezTo>
                  <a:pt x="18497" y="14583"/>
                  <a:pt x="18509" y="14571"/>
                  <a:pt x="18554" y="14560"/>
                </a:cubicBezTo>
                <a:cubicBezTo>
                  <a:pt x="18586" y="14602"/>
                  <a:pt x="18579" y="14628"/>
                  <a:pt x="18579" y="14684"/>
                </a:cubicBezTo>
                <a:cubicBezTo>
                  <a:pt x="18631" y="14667"/>
                  <a:pt x="18604" y="14633"/>
                  <a:pt x="18628" y="14585"/>
                </a:cubicBezTo>
                <a:cubicBezTo>
                  <a:pt x="18642" y="14556"/>
                  <a:pt x="18693" y="14517"/>
                  <a:pt x="18728" y="14536"/>
                </a:cubicBezTo>
                <a:cubicBezTo>
                  <a:pt x="18769" y="14558"/>
                  <a:pt x="18814" y="14666"/>
                  <a:pt x="18827" y="14709"/>
                </a:cubicBezTo>
                <a:cubicBezTo>
                  <a:pt x="18827" y="14737"/>
                  <a:pt x="18829" y="14748"/>
                  <a:pt x="18852" y="14759"/>
                </a:cubicBezTo>
              </a:path>
              <a:path w="1018" h="274">
                <a:moveTo>
                  <a:pt x="18951" y="14635"/>
                </a:moveTo>
                <a:cubicBezTo>
                  <a:pt x="18991" y="14615"/>
                  <a:pt x="18997" y="14606"/>
                  <a:pt x="19025" y="14610"/>
                </a:cubicBezTo>
                <a:cubicBezTo>
                  <a:pt x="19025" y="14671"/>
                  <a:pt x="19035" y="14712"/>
                  <a:pt x="19000" y="14759"/>
                </a:cubicBezTo>
                <a:cubicBezTo>
                  <a:pt x="19000" y="14811"/>
                  <a:pt x="19006" y="14688"/>
                  <a:pt x="19025" y="14660"/>
                </a:cubicBezTo>
                <a:cubicBezTo>
                  <a:pt x="19050" y="14635"/>
                  <a:pt x="19058" y="14627"/>
                  <a:pt x="19075" y="14610"/>
                </a:cubicBezTo>
                <a:cubicBezTo>
                  <a:pt x="19106" y="14641"/>
                  <a:pt x="19145" y="14711"/>
                  <a:pt x="19174" y="14734"/>
                </a:cubicBezTo>
                <a:cubicBezTo>
                  <a:pt x="19182" y="14734"/>
                  <a:pt x="19191" y="14734"/>
                  <a:pt x="19199" y="14734"/>
                </a:cubicBezTo>
                <a:cubicBezTo>
                  <a:pt x="19223" y="14704"/>
                  <a:pt x="19256" y="14622"/>
                  <a:pt x="19298" y="14610"/>
                </a:cubicBezTo>
                <a:cubicBezTo>
                  <a:pt x="19376" y="14588"/>
                  <a:pt x="19423" y="14730"/>
                  <a:pt x="19447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3120" y="4956120"/>
            <a:ext cx="696960" cy="419040"/>
          </a:xfrm>
          <a:custGeom>
            <a:avLst/>
            <a:gdLst/>
            <a:ahLst/>
            <a:rect l="l" t="t" r="r" b="b"/>
            <a:pathLst>
              <a:path w="1936" h="1166">
                <a:moveTo>
                  <a:pt x="20811" y="14288"/>
                </a:moveTo>
                <a:cubicBezTo>
                  <a:pt x="20786" y="14288"/>
                  <a:pt x="20778" y="14288"/>
                  <a:pt x="20762" y="14288"/>
                </a:cubicBezTo>
                <a:cubicBezTo>
                  <a:pt x="20762" y="14235"/>
                  <a:pt x="20785" y="14211"/>
                  <a:pt x="20836" y="14188"/>
                </a:cubicBezTo>
                <a:cubicBezTo>
                  <a:pt x="20885" y="14165"/>
                  <a:pt x="21003" y="14141"/>
                  <a:pt x="21059" y="14163"/>
                </a:cubicBezTo>
                <a:cubicBezTo>
                  <a:pt x="21154" y="14200"/>
                  <a:pt x="21095" y="14295"/>
                  <a:pt x="21059" y="14337"/>
                </a:cubicBezTo>
                <a:cubicBezTo>
                  <a:pt x="21010" y="14394"/>
                  <a:pt x="20938" y="14418"/>
                  <a:pt x="20910" y="14486"/>
                </a:cubicBezTo>
                <a:cubicBezTo>
                  <a:pt x="20895" y="14523"/>
                  <a:pt x="21031" y="14620"/>
                  <a:pt x="21059" y="14635"/>
                </a:cubicBezTo>
                <a:cubicBezTo>
                  <a:pt x="21124" y="14669"/>
                  <a:pt x="21210" y="14674"/>
                  <a:pt x="21233" y="14759"/>
                </a:cubicBezTo>
                <a:cubicBezTo>
                  <a:pt x="21233" y="14775"/>
                  <a:pt x="21233" y="14792"/>
                  <a:pt x="21233" y="14808"/>
                </a:cubicBezTo>
                <a:cubicBezTo>
                  <a:pt x="21182" y="14839"/>
                  <a:pt x="21099" y="14846"/>
                  <a:pt x="21034" y="14833"/>
                </a:cubicBezTo>
                <a:cubicBezTo>
                  <a:pt x="21009" y="14825"/>
                  <a:pt x="20985" y="14816"/>
                  <a:pt x="20960" y="14808"/>
                </a:cubicBezTo>
              </a:path>
              <a:path w="1936" h="1166">
                <a:moveTo>
                  <a:pt x="21481" y="14486"/>
                </a:moveTo>
                <a:cubicBezTo>
                  <a:pt x="21490" y="14450"/>
                  <a:pt x="21501" y="14441"/>
                  <a:pt x="21530" y="14412"/>
                </a:cubicBezTo>
                <a:cubicBezTo>
                  <a:pt x="21452" y="14412"/>
                  <a:pt x="21484" y="14440"/>
                  <a:pt x="21431" y="14486"/>
                </a:cubicBezTo>
                <a:cubicBezTo>
                  <a:pt x="21377" y="14533"/>
                  <a:pt x="21357" y="14554"/>
                  <a:pt x="21406" y="14635"/>
                </a:cubicBezTo>
                <a:cubicBezTo>
                  <a:pt x="21437" y="14685"/>
                  <a:pt x="21499" y="14669"/>
                  <a:pt x="21506" y="14734"/>
                </a:cubicBezTo>
                <a:cubicBezTo>
                  <a:pt x="21506" y="14759"/>
                  <a:pt x="21506" y="14767"/>
                  <a:pt x="21506" y="14784"/>
                </a:cubicBezTo>
                <a:cubicBezTo>
                  <a:pt x="21473" y="14784"/>
                  <a:pt x="21439" y="14784"/>
                  <a:pt x="21406" y="14784"/>
                </a:cubicBezTo>
              </a:path>
              <a:path w="1936" h="1166">
                <a:moveTo>
                  <a:pt x="21903" y="14461"/>
                </a:moveTo>
                <a:cubicBezTo>
                  <a:pt x="21980" y="14438"/>
                  <a:pt x="22002" y="14455"/>
                  <a:pt x="22002" y="14387"/>
                </a:cubicBezTo>
                <a:cubicBezTo>
                  <a:pt x="22002" y="14320"/>
                  <a:pt x="21975" y="14234"/>
                  <a:pt x="21903" y="14213"/>
                </a:cubicBezTo>
                <a:cubicBezTo>
                  <a:pt x="21820" y="14188"/>
                  <a:pt x="21758" y="14269"/>
                  <a:pt x="21729" y="14337"/>
                </a:cubicBezTo>
                <a:cubicBezTo>
                  <a:pt x="21675" y="14464"/>
                  <a:pt x="21679" y="14600"/>
                  <a:pt x="21679" y="14734"/>
                </a:cubicBezTo>
                <a:cubicBezTo>
                  <a:pt x="21679" y="14775"/>
                  <a:pt x="21679" y="14783"/>
                  <a:pt x="21679" y="14808"/>
                </a:cubicBezTo>
              </a:path>
              <a:path w="1936" h="1166">
                <a:moveTo>
                  <a:pt x="21878" y="14684"/>
                </a:moveTo>
                <a:cubicBezTo>
                  <a:pt x="21878" y="14668"/>
                  <a:pt x="21878" y="14651"/>
                  <a:pt x="21878" y="14635"/>
                </a:cubicBezTo>
                <a:cubicBezTo>
                  <a:pt x="21820" y="14635"/>
                  <a:pt x="21762" y="14635"/>
                  <a:pt x="21704" y="14635"/>
                </a:cubicBezTo>
              </a:path>
              <a:path w="1936" h="1166">
                <a:moveTo>
                  <a:pt x="21878" y="14163"/>
                </a:moveTo>
                <a:cubicBezTo>
                  <a:pt x="21994" y="14144"/>
                  <a:pt x="22065" y="14169"/>
                  <a:pt x="22151" y="14263"/>
                </a:cubicBezTo>
                <a:cubicBezTo>
                  <a:pt x="22239" y="14359"/>
                  <a:pt x="22289" y="14506"/>
                  <a:pt x="22275" y="14635"/>
                </a:cubicBezTo>
                <a:cubicBezTo>
                  <a:pt x="22262" y="14747"/>
                  <a:pt x="22183" y="14864"/>
                  <a:pt x="22076" y="14908"/>
                </a:cubicBezTo>
                <a:cubicBezTo>
                  <a:pt x="22043" y="14916"/>
                  <a:pt x="22010" y="14924"/>
                  <a:pt x="21977" y="14932"/>
                </a:cubicBezTo>
              </a:path>
              <a:path w="1936" h="1166">
                <a:moveTo>
                  <a:pt x="20513" y="13891"/>
                </a:moveTo>
                <a:cubicBezTo>
                  <a:pt x="20597" y="13857"/>
                  <a:pt x="20589" y="13824"/>
                  <a:pt x="20638" y="13791"/>
                </a:cubicBezTo>
                <a:cubicBezTo>
                  <a:pt x="20662" y="13791"/>
                  <a:pt x="20670" y="13791"/>
                  <a:pt x="20662" y="13767"/>
                </a:cubicBezTo>
                <a:cubicBezTo>
                  <a:pt x="20578" y="13779"/>
                  <a:pt x="20521" y="13845"/>
                  <a:pt x="20464" y="13915"/>
                </a:cubicBezTo>
                <a:cubicBezTo>
                  <a:pt x="20358" y="14047"/>
                  <a:pt x="20329" y="14223"/>
                  <a:pt x="20340" y="14387"/>
                </a:cubicBezTo>
                <a:cubicBezTo>
                  <a:pt x="20352" y="14561"/>
                  <a:pt x="20387" y="14705"/>
                  <a:pt x="20464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54080" y="5572080"/>
            <a:ext cx="88920" cy="637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3125" y="15478"/>
                </a:moveTo>
                <a:cubicBezTo>
                  <a:pt x="3125" y="15486"/>
                  <a:pt x="3125" y="15495"/>
                  <a:pt x="3125" y="15503"/>
                </a:cubicBezTo>
                <a:cubicBezTo>
                  <a:pt x="3179" y="15521"/>
                  <a:pt x="3139" y="15528"/>
                  <a:pt x="3101" y="15528"/>
                </a:cubicBezTo>
                <a:cubicBezTo>
                  <a:pt x="3043" y="15528"/>
                  <a:pt x="2985" y="15528"/>
                  <a:pt x="2927" y="15528"/>
                </a:cubicBezTo>
              </a:path>
              <a:path w="249" h="175">
                <a:moveTo>
                  <a:pt x="3175" y="15577"/>
                </a:moveTo>
                <a:cubicBezTo>
                  <a:pt x="3175" y="15602"/>
                  <a:pt x="3175" y="15610"/>
                  <a:pt x="3175" y="15627"/>
                </a:cubicBezTo>
                <a:cubicBezTo>
                  <a:pt x="3122" y="15640"/>
                  <a:pt x="3090" y="15652"/>
                  <a:pt x="3026" y="15652"/>
                </a:cubicBezTo>
                <a:cubicBezTo>
                  <a:pt x="3018" y="15652"/>
                  <a:pt x="3009" y="15652"/>
                  <a:pt x="300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9920" y="5518080"/>
            <a:ext cx="384120" cy="216000"/>
          </a:xfrm>
          <a:custGeom>
            <a:avLst/>
            <a:gdLst/>
            <a:ahLst/>
            <a:rect l="l" t="t" r="r" b="b"/>
            <a:pathLst>
              <a:path w="1067" h="597">
                <a:moveTo>
                  <a:pt x="3894" y="15453"/>
                </a:moveTo>
                <a:cubicBezTo>
                  <a:pt x="3929" y="15401"/>
                  <a:pt x="3944" y="15412"/>
                  <a:pt x="3944" y="15354"/>
                </a:cubicBezTo>
                <a:cubicBezTo>
                  <a:pt x="3917" y="15334"/>
                  <a:pt x="3884" y="15315"/>
                  <a:pt x="3845" y="15329"/>
                </a:cubicBezTo>
                <a:cubicBezTo>
                  <a:pt x="3766" y="15357"/>
                  <a:pt x="3732" y="15476"/>
                  <a:pt x="3721" y="15553"/>
                </a:cubicBezTo>
                <a:cubicBezTo>
                  <a:pt x="3705" y="15664"/>
                  <a:pt x="3736" y="15771"/>
                  <a:pt x="3820" y="15850"/>
                </a:cubicBezTo>
                <a:cubicBezTo>
                  <a:pt x="3878" y="15905"/>
                  <a:pt x="3987" y="15914"/>
                  <a:pt x="4043" y="15850"/>
                </a:cubicBezTo>
                <a:cubicBezTo>
                  <a:pt x="4076" y="15813"/>
                  <a:pt x="4035" y="15754"/>
                  <a:pt x="3994" y="15751"/>
                </a:cubicBezTo>
                <a:cubicBezTo>
                  <a:pt x="3937" y="15747"/>
                  <a:pt x="3878" y="15751"/>
                  <a:pt x="3820" y="15751"/>
                </a:cubicBezTo>
              </a:path>
              <a:path w="1067" h="597">
                <a:moveTo>
                  <a:pt x="4316" y="15453"/>
                </a:moveTo>
                <a:cubicBezTo>
                  <a:pt x="4353" y="15426"/>
                  <a:pt x="4359" y="15415"/>
                  <a:pt x="4390" y="15404"/>
                </a:cubicBezTo>
                <a:cubicBezTo>
                  <a:pt x="4343" y="15420"/>
                  <a:pt x="4314" y="15494"/>
                  <a:pt x="4291" y="15553"/>
                </a:cubicBezTo>
                <a:cubicBezTo>
                  <a:pt x="4254" y="15649"/>
                  <a:pt x="4254" y="15761"/>
                  <a:pt x="4316" y="15850"/>
                </a:cubicBezTo>
                <a:cubicBezTo>
                  <a:pt x="4350" y="15898"/>
                  <a:pt x="4434" y="15964"/>
                  <a:pt x="4490" y="15900"/>
                </a:cubicBezTo>
                <a:cubicBezTo>
                  <a:pt x="4506" y="15881"/>
                  <a:pt x="4489" y="15808"/>
                  <a:pt x="4465" y="15801"/>
                </a:cubicBezTo>
                <a:cubicBezTo>
                  <a:pt x="4410" y="15784"/>
                  <a:pt x="4351" y="15776"/>
                  <a:pt x="4291" y="15776"/>
                </a:cubicBezTo>
                <a:cubicBezTo>
                  <a:pt x="4283" y="15776"/>
                  <a:pt x="4274" y="15776"/>
                  <a:pt x="4266" y="15776"/>
                </a:cubicBezTo>
              </a:path>
              <a:path w="1067" h="597">
                <a:moveTo>
                  <a:pt x="4762" y="15900"/>
                </a:moveTo>
                <a:cubicBezTo>
                  <a:pt x="4770" y="15908"/>
                  <a:pt x="4779" y="15917"/>
                  <a:pt x="4787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57240" y="553716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5259" y="15379"/>
                </a:moveTo>
                <a:cubicBezTo>
                  <a:pt x="5292" y="15379"/>
                  <a:pt x="5336" y="15414"/>
                  <a:pt x="5358" y="15404"/>
                </a:cubicBezTo>
                <a:cubicBezTo>
                  <a:pt x="5381" y="15381"/>
                  <a:pt x="5392" y="15373"/>
                  <a:pt x="5358" y="15379"/>
                </a:cubicBezTo>
                <a:cubicBezTo>
                  <a:pt x="5311" y="15391"/>
                  <a:pt x="5277" y="15427"/>
                  <a:pt x="5234" y="15453"/>
                </a:cubicBezTo>
                <a:cubicBezTo>
                  <a:pt x="5183" y="15483"/>
                  <a:pt x="5172" y="15476"/>
                  <a:pt x="5159" y="15528"/>
                </a:cubicBezTo>
                <a:cubicBezTo>
                  <a:pt x="5169" y="15567"/>
                  <a:pt x="5216" y="15615"/>
                  <a:pt x="5259" y="15627"/>
                </a:cubicBezTo>
                <a:cubicBezTo>
                  <a:pt x="5315" y="15642"/>
                  <a:pt x="5446" y="15655"/>
                  <a:pt x="5482" y="15701"/>
                </a:cubicBezTo>
                <a:cubicBezTo>
                  <a:pt x="5511" y="15739"/>
                  <a:pt x="5507" y="15760"/>
                  <a:pt x="5507" y="15801"/>
                </a:cubicBezTo>
                <a:cubicBezTo>
                  <a:pt x="5465" y="15831"/>
                  <a:pt x="5438" y="15825"/>
                  <a:pt x="5383" y="15825"/>
                </a:cubicBezTo>
                <a:cubicBezTo>
                  <a:pt x="5300" y="15825"/>
                  <a:pt x="5308" y="15798"/>
                  <a:pt x="5308" y="15726"/>
                </a:cubicBezTo>
                <a:cubicBezTo>
                  <a:pt x="5308" y="15673"/>
                  <a:pt x="5403" y="15556"/>
                  <a:pt x="5432" y="15503"/>
                </a:cubicBezTo>
                <a:cubicBezTo>
                  <a:pt x="5461" y="15450"/>
                  <a:pt x="5477" y="15426"/>
                  <a:pt x="5531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43080" y="5626080"/>
            <a:ext cx="339840" cy="81000"/>
          </a:xfrm>
          <a:custGeom>
            <a:avLst/>
            <a:gdLst/>
            <a:ahLst/>
            <a:rect l="l" t="t" r="r" b="b"/>
            <a:pathLst>
              <a:path w="944" h="224">
                <a:moveTo>
                  <a:pt x="6127" y="15652"/>
                </a:moveTo>
                <a:cubicBezTo>
                  <a:pt x="6127" y="15627"/>
                  <a:pt x="6127" y="15619"/>
                  <a:pt x="6152" y="15627"/>
                </a:cubicBezTo>
                <a:cubicBezTo>
                  <a:pt x="6097" y="15627"/>
                  <a:pt x="6052" y="15619"/>
                  <a:pt x="6003" y="15652"/>
                </a:cubicBezTo>
                <a:cubicBezTo>
                  <a:pt x="5956" y="15683"/>
                  <a:pt x="5929" y="15757"/>
                  <a:pt x="5978" y="15801"/>
                </a:cubicBezTo>
                <a:cubicBezTo>
                  <a:pt x="6026" y="15844"/>
                  <a:pt x="6118" y="15825"/>
                  <a:pt x="6176" y="15825"/>
                </a:cubicBezTo>
                <a:cubicBezTo>
                  <a:pt x="6208" y="15825"/>
                  <a:pt x="6221" y="15808"/>
                  <a:pt x="6251" y="15801"/>
                </a:cubicBezTo>
              </a:path>
              <a:path w="944" h="224">
                <a:moveTo>
                  <a:pt x="6350" y="15701"/>
                </a:moveTo>
                <a:cubicBezTo>
                  <a:pt x="6350" y="15652"/>
                  <a:pt x="6369" y="15733"/>
                  <a:pt x="6375" y="15751"/>
                </a:cubicBezTo>
                <a:cubicBezTo>
                  <a:pt x="6389" y="15794"/>
                  <a:pt x="6362" y="15818"/>
                  <a:pt x="6424" y="15825"/>
                </a:cubicBezTo>
                <a:cubicBezTo>
                  <a:pt x="6478" y="15831"/>
                  <a:pt x="6480" y="15779"/>
                  <a:pt x="6499" y="15751"/>
                </a:cubicBezTo>
                <a:cubicBezTo>
                  <a:pt x="6507" y="15743"/>
                  <a:pt x="6516" y="15734"/>
                  <a:pt x="6524" y="15726"/>
                </a:cubicBezTo>
                <a:cubicBezTo>
                  <a:pt x="6556" y="15759"/>
                  <a:pt x="6577" y="15794"/>
                  <a:pt x="6598" y="15825"/>
                </a:cubicBezTo>
                <a:cubicBezTo>
                  <a:pt x="6646" y="15896"/>
                  <a:pt x="6672" y="15809"/>
                  <a:pt x="6697" y="15776"/>
                </a:cubicBezTo>
                <a:cubicBezTo>
                  <a:pt x="6717" y="15749"/>
                  <a:pt x="6748" y="15725"/>
                  <a:pt x="6772" y="15701"/>
                </a:cubicBezTo>
                <a:cubicBezTo>
                  <a:pt x="6811" y="15721"/>
                  <a:pt x="6856" y="15786"/>
                  <a:pt x="6896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70120" y="5419800"/>
            <a:ext cx="687600" cy="331560"/>
          </a:xfrm>
          <a:custGeom>
            <a:avLst/>
            <a:gdLst/>
            <a:ahLst/>
            <a:rect l="l" t="t" r="r" b="b"/>
            <a:pathLst>
              <a:path w="1911" h="919">
                <a:moveTo>
                  <a:pt x="7689" y="15404"/>
                </a:moveTo>
                <a:cubicBezTo>
                  <a:pt x="7658" y="15393"/>
                  <a:pt x="7650" y="15385"/>
                  <a:pt x="7640" y="15354"/>
                </a:cubicBezTo>
                <a:cubicBezTo>
                  <a:pt x="7716" y="15310"/>
                  <a:pt x="7745" y="15284"/>
                  <a:pt x="7838" y="15280"/>
                </a:cubicBezTo>
                <a:cubicBezTo>
                  <a:pt x="7906" y="15277"/>
                  <a:pt x="7967" y="15277"/>
                  <a:pt x="7987" y="15354"/>
                </a:cubicBezTo>
                <a:cubicBezTo>
                  <a:pt x="8008" y="15434"/>
                  <a:pt x="7964" y="15460"/>
                  <a:pt x="7913" y="15503"/>
                </a:cubicBezTo>
                <a:cubicBezTo>
                  <a:pt x="7885" y="15527"/>
                  <a:pt x="7799" y="15555"/>
                  <a:pt x="7813" y="15602"/>
                </a:cubicBezTo>
                <a:cubicBezTo>
                  <a:pt x="7842" y="15702"/>
                  <a:pt x="7938" y="15664"/>
                  <a:pt x="8012" y="15701"/>
                </a:cubicBezTo>
                <a:cubicBezTo>
                  <a:pt x="8079" y="15734"/>
                  <a:pt x="8086" y="15755"/>
                  <a:pt x="8086" y="15825"/>
                </a:cubicBezTo>
                <a:cubicBezTo>
                  <a:pt x="8086" y="15887"/>
                  <a:pt x="8011" y="15889"/>
                  <a:pt x="7962" y="15875"/>
                </a:cubicBezTo>
                <a:cubicBezTo>
                  <a:pt x="7917" y="15862"/>
                  <a:pt x="7884" y="15834"/>
                  <a:pt x="7838" y="15825"/>
                </a:cubicBezTo>
              </a:path>
              <a:path w="1911" h="919">
                <a:moveTo>
                  <a:pt x="8458" y="15528"/>
                </a:moveTo>
                <a:cubicBezTo>
                  <a:pt x="8498" y="15528"/>
                  <a:pt x="8538" y="15549"/>
                  <a:pt x="8508" y="15528"/>
                </a:cubicBezTo>
                <a:cubicBezTo>
                  <a:pt x="8463" y="15496"/>
                  <a:pt x="8432" y="15489"/>
                  <a:pt x="8384" y="15528"/>
                </a:cubicBezTo>
                <a:cubicBezTo>
                  <a:pt x="8359" y="15553"/>
                  <a:pt x="8351" y="15561"/>
                  <a:pt x="8334" y="15577"/>
                </a:cubicBezTo>
                <a:cubicBezTo>
                  <a:pt x="8346" y="15612"/>
                  <a:pt x="8389" y="15628"/>
                  <a:pt x="8434" y="15652"/>
                </a:cubicBezTo>
                <a:cubicBezTo>
                  <a:pt x="8480" y="15677"/>
                  <a:pt x="8527" y="15697"/>
                  <a:pt x="8533" y="15751"/>
                </a:cubicBezTo>
                <a:cubicBezTo>
                  <a:pt x="8538" y="15795"/>
                  <a:pt x="8466" y="15776"/>
                  <a:pt x="8434" y="15776"/>
                </a:cubicBezTo>
              </a:path>
              <a:path w="1911" h="919">
                <a:moveTo>
                  <a:pt x="8880" y="15429"/>
                </a:moveTo>
                <a:cubicBezTo>
                  <a:pt x="8926" y="15421"/>
                  <a:pt x="8949" y="15423"/>
                  <a:pt x="8954" y="15379"/>
                </a:cubicBezTo>
                <a:cubicBezTo>
                  <a:pt x="8958" y="15343"/>
                  <a:pt x="8960" y="15281"/>
                  <a:pt x="8930" y="15255"/>
                </a:cubicBezTo>
                <a:cubicBezTo>
                  <a:pt x="8918" y="15244"/>
                  <a:pt x="8874" y="15235"/>
                  <a:pt x="8855" y="15230"/>
                </a:cubicBezTo>
                <a:cubicBezTo>
                  <a:pt x="8820" y="15274"/>
                  <a:pt x="8766" y="15347"/>
                  <a:pt x="8756" y="15404"/>
                </a:cubicBezTo>
                <a:cubicBezTo>
                  <a:pt x="8739" y="15502"/>
                  <a:pt x="8731" y="15599"/>
                  <a:pt x="8731" y="15701"/>
                </a:cubicBezTo>
                <a:cubicBezTo>
                  <a:pt x="8731" y="15768"/>
                  <a:pt x="8744" y="15813"/>
                  <a:pt x="8756" y="15875"/>
                </a:cubicBezTo>
              </a:path>
              <a:path w="1911" h="919">
                <a:moveTo>
                  <a:pt x="8880" y="15701"/>
                </a:moveTo>
                <a:cubicBezTo>
                  <a:pt x="8880" y="15677"/>
                  <a:pt x="8880" y="15668"/>
                  <a:pt x="8880" y="15652"/>
                </a:cubicBezTo>
                <a:cubicBezTo>
                  <a:pt x="8839" y="15652"/>
                  <a:pt x="8797" y="15652"/>
                  <a:pt x="8756" y="15652"/>
                </a:cubicBezTo>
              </a:path>
              <a:path w="1911" h="919">
                <a:moveTo>
                  <a:pt x="8930" y="15230"/>
                </a:moveTo>
                <a:cubicBezTo>
                  <a:pt x="8982" y="15208"/>
                  <a:pt x="9044" y="15189"/>
                  <a:pt x="9103" y="15205"/>
                </a:cubicBezTo>
                <a:cubicBezTo>
                  <a:pt x="9176" y="15225"/>
                  <a:pt x="9248" y="15313"/>
                  <a:pt x="9277" y="15379"/>
                </a:cubicBezTo>
                <a:cubicBezTo>
                  <a:pt x="9327" y="15494"/>
                  <a:pt x="9336" y="15581"/>
                  <a:pt x="9302" y="15701"/>
                </a:cubicBezTo>
                <a:cubicBezTo>
                  <a:pt x="9272" y="15804"/>
                  <a:pt x="9221" y="15874"/>
                  <a:pt x="9128" y="15925"/>
                </a:cubicBezTo>
                <a:cubicBezTo>
                  <a:pt x="9079" y="15949"/>
                  <a:pt x="9062" y="15957"/>
                  <a:pt x="9029" y="15974"/>
                </a:cubicBezTo>
              </a:path>
              <a:path w="1911" h="919">
                <a:moveTo>
                  <a:pt x="7417" y="15106"/>
                </a:moveTo>
                <a:cubicBezTo>
                  <a:pt x="7466" y="15073"/>
                  <a:pt x="7455" y="15068"/>
                  <a:pt x="7491" y="15056"/>
                </a:cubicBezTo>
                <a:cubicBezTo>
                  <a:pt x="7427" y="15137"/>
                  <a:pt x="7420" y="15201"/>
                  <a:pt x="7417" y="15304"/>
                </a:cubicBezTo>
                <a:cubicBezTo>
                  <a:pt x="7413" y="15448"/>
                  <a:pt x="7456" y="15607"/>
                  <a:pt x="7541" y="15726"/>
                </a:cubicBezTo>
                <a:cubicBezTo>
                  <a:pt x="7604" y="15814"/>
                  <a:pt x="7670" y="15878"/>
                  <a:pt x="7764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70200" y="5581800"/>
            <a:ext cx="7164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10344" y="15528"/>
                </a:moveTo>
                <a:cubicBezTo>
                  <a:pt x="10352" y="15520"/>
                  <a:pt x="10360" y="15511"/>
                  <a:pt x="10368" y="15503"/>
                </a:cubicBezTo>
                <a:cubicBezTo>
                  <a:pt x="10368" y="15555"/>
                  <a:pt x="10371" y="15553"/>
                  <a:pt x="10319" y="15553"/>
                </a:cubicBezTo>
                <a:cubicBezTo>
                  <a:pt x="10278" y="15553"/>
                  <a:pt x="10236" y="15553"/>
                  <a:pt x="10195" y="15553"/>
                </a:cubicBezTo>
              </a:path>
              <a:path w="199" h="150">
                <a:moveTo>
                  <a:pt x="10344" y="15577"/>
                </a:moveTo>
                <a:cubicBezTo>
                  <a:pt x="10400" y="15615"/>
                  <a:pt x="10393" y="15593"/>
                  <a:pt x="10393" y="15652"/>
                </a:cubicBezTo>
                <a:cubicBezTo>
                  <a:pt x="10368" y="15652"/>
                  <a:pt x="10344" y="15652"/>
                  <a:pt x="10319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0960" y="5348160"/>
            <a:ext cx="1474920" cy="322560"/>
          </a:xfrm>
          <a:custGeom>
            <a:avLst/>
            <a:gdLst/>
            <a:ahLst/>
            <a:rect l="l" t="t" r="r" b="b"/>
            <a:pathLst>
              <a:path w="4093" h="894">
                <a:moveTo>
                  <a:pt x="11088" y="15429"/>
                </a:moveTo>
                <a:cubicBezTo>
                  <a:pt x="11088" y="15384"/>
                  <a:pt x="11082" y="15364"/>
                  <a:pt x="11112" y="15329"/>
                </a:cubicBezTo>
                <a:cubicBezTo>
                  <a:pt x="11176" y="15256"/>
                  <a:pt x="11220" y="15324"/>
                  <a:pt x="11261" y="15354"/>
                </a:cubicBezTo>
                <a:cubicBezTo>
                  <a:pt x="11320" y="15398"/>
                  <a:pt x="11334" y="15469"/>
                  <a:pt x="11311" y="15553"/>
                </a:cubicBezTo>
                <a:cubicBezTo>
                  <a:pt x="11294" y="15616"/>
                  <a:pt x="11235" y="15649"/>
                  <a:pt x="11212" y="15701"/>
                </a:cubicBezTo>
                <a:cubicBezTo>
                  <a:pt x="11212" y="15726"/>
                  <a:pt x="11212" y="15734"/>
                  <a:pt x="11212" y="15751"/>
                </a:cubicBezTo>
                <a:cubicBezTo>
                  <a:pt x="11265" y="15751"/>
                  <a:pt x="11292" y="15750"/>
                  <a:pt x="11336" y="15726"/>
                </a:cubicBezTo>
                <a:cubicBezTo>
                  <a:pt x="11387" y="15698"/>
                  <a:pt x="11461" y="15662"/>
                  <a:pt x="11509" y="15652"/>
                </a:cubicBezTo>
                <a:cubicBezTo>
                  <a:pt x="11537" y="15646"/>
                  <a:pt x="11579" y="15652"/>
                  <a:pt x="11609" y="15652"/>
                </a:cubicBezTo>
              </a:path>
              <a:path w="4093" h="894">
                <a:moveTo>
                  <a:pt x="11881" y="15329"/>
                </a:moveTo>
                <a:cubicBezTo>
                  <a:pt x="11909" y="15292"/>
                  <a:pt x="11920" y="15287"/>
                  <a:pt x="11931" y="15255"/>
                </a:cubicBezTo>
                <a:cubicBezTo>
                  <a:pt x="11918" y="15217"/>
                  <a:pt x="11902" y="15230"/>
                  <a:pt x="11857" y="15230"/>
                </a:cubicBezTo>
                <a:cubicBezTo>
                  <a:pt x="11805" y="15230"/>
                  <a:pt x="11727" y="15272"/>
                  <a:pt x="11708" y="15329"/>
                </a:cubicBezTo>
                <a:cubicBezTo>
                  <a:pt x="11693" y="15376"/>
                  <a:pt x="11710" y="15398"/>
                  <a:pt x="11733" y="15429"/>
                </a:cubicBezTo>
                <a:cubicBezTo>
                  <a:pt x="11785" y="15399"/>
                  <a:pt x="11837" y="15369"/>
                  <a:pt x="11881" y="15329"/>
                </a:cubicBezTo>
                <a:cubicBezTo>
                  <a:pt x="11914" y="15299"/>
                  <a:pt x="11965" y="15297"/>
                  <a:pt x="11981" y="15354"/>
                </a:cubicBezTo>
                <a:cubicBezTo>
                  <a:pt x="12001" y="15423"/>
                  <a:pt x="12014" y="15507"/>
                  <a:pt x="12030" y="15577"/>
                </a:cubicBezTo>
                <a:cubicBezTo>
                  <a:pt x="12030" y="15610"/>
                  <a:pt x="12030" y="15627"/>
                  <a:pt x="12030" y="15652"/>
                </a:cubicBezTo>
              </a:path>
              <a:path w="4093" h="894">
                <a:moveTo>
                  <a:pt x="12303" y="15354"/>
                </a:moveTo>
                <a:cubicBezTo>
                  <a:pt x="12295" y="15354"/>
                  <a:pt x="12286" y="15354"/>
                  <a:pt x="12278" y="15354"/>
                </a:cubicBezTo>
                <a:cubicBezTo>
                  <a:pt x="12283" y="15339"/>
                  <a:pt x="12324" y="15288"/>
                  <a:pt x="12353" y="15280"/>
                </a:cubicBezTo>
                <a:cubicBezTo>
                  <a:pt x="12393" y="15269"/>
                  <a:pt x="12459" y="15280"/>
                  <a:pt x="12502" y="15280"/>
                </a:cubicBezTo>
                <a:cubicBezTo>
                  <a:pt x="12502" y="15333"/>
                  <a:pt x="12490" y="15341"/>
                  <a:pt x="12452" y="15379"/>
                </a:cubicBezTo>
                <a:cubicBezTo>
                  <a:pt x="12418" y="15413"/>
                  <a:pt x="12389" y="15434"/>
                  <a:pt x="12378" y="15478"/>
                </a:cubicBezTo>
                <a:cubicBezTo>
                  <a:pt x="12439" y="15487"/>
                  <a:pt x="12451" y="15511"/>
                  <a:pt x="12502" y="15528"/>
                </a:cubicBezTo>
                <a:cubicBezTo>
                  <a:pt x="12530" y="15537"/>
                  <a:pt x="12576" y="15557"/>
                  <a:pt x="12551" y="15602"/>
                </a:cubicBezTo>
                <a:cubicBezTo>
                  <a:pt x="12538" y="15626"/>
                  <a:pt x="12451" y="15667"/>
                  <a:pt x="12427" y="15677"/>
                </a:cubicBezTo>
                <a:cubicBezTo>
                  <a:pt x="12419" y="15677"/>
                  <a:pt x="12410" y="15677"/>
                  <a:pt x="12402" y="15677"/>
                </a:cubicBezTo>
              </a:path>
              <a:path w="4093" h="894">
                <a:moveTo>
                  <a:pt x="13643" y="15081"/>
                </a:moveTo>
                <a:cubicBezTo>
                  <a:pt x="13665" y="15058"/>
                  <a:pt x="13670" y="15050"/>
                  <a:pt x="13692" y="15056"/>
                </a:cubicBezTo>
                <a:cubicBezTo>
                  <a:pt x="13666" y="15123"/>
                  <a:pt x="13616" y="15176"/>
                  <a:pt x="13593" y="15255"/>
                </a:cubicBezTo>
                <a:cubicBezTo>
                  <a:pt x="13567" y="15345"/>
                  <a:pt x="13544" y="15484"/>
                  <a:pt x="13568" y="15577"/>
                </a:cubicBezTo>
                <a:cubicBezTo>
                  <a:pt x="13588" y="15618"/>
                  <a:pt x="13597" y="15624"/>
                  <a:pt x="13593" y="15652"/>
                </a:cubicBezTo>
              </a:path>
              <a:path w="4093" h="894">
                <a:moveTo>
                  <a:pt x="13940" y="15205"/>
                </a:moveTo>
                <a:cubicBezTo>
                  <a:pt x="13940" y="15174"/>
                  <a:pt x="13948" y="15139"/>
                  <a:pt x="13965" y="15131"/>
                </a:cubicBezTo>
                <a:cubicBezTo>
                  <a:pt x="14000" y="15114"/>
                  <a:pt x="14045" y="15084"/>
                  <a:pt x="14089" y="15081"/>
                </a:cubicBezTo>
                <a:cubicBezTo>
                  <a:pt x="14143" y="15077"/>
                  <a:pt x="14181" y="15072"/>
                  <a:pt x="14188" y="15131"/>
                </a:cubicBezTo>
                <a:cubicBezTo>
                  <a:pt x="14196" y="15199"/>
                  <a:pt x="14169" y="15223"/>
                  <a:pt x="14139" y="15280"/>
                </a:cubicBezTo>
                <a:cubicBezTo>
                  <a:pt x="14109" y="15336"/>
                  <a:pt x="14098" y="15378"/>
                  <a:pt x="14139" y="15429"/>
                </a:cubicBezTo>
                <a:cubicBezTo>
                  <a:pt x="14159" y="15454"/>
                  <a:pt x="14229" y="15490"/>
                  <a:pt x="14238" y="15503"/>
                </a:cubicBezTo>
                <a:cubicBezTo>
                  <a:pt x="14238" y="15511"/>
                  <a:pt x="14238" y="15520"/>
                  <a:pt x="14238" y="15528"/>
                </a:cubicBezTo>
                <a:cubicBezTo>
                  <a:pt x="14188" y="15541"/>
                  <a:pt x="14174" y="15553"/>
                  <a:pt x="14114" y="15553"/>
                </a:cubicBezTo>
                <a:cubicBezTo>
                  <a:pt x="14106" y="15553"/>
                  <a:pt x="14097" y="15553"/>
                  <a:pt x="14089" y="15553"/>
                </a:cubicBezTo>
              </a:path>
              <a:path w="4093" h="894">
                <a:moveTo>
                  <a:pt x="14511" y="15304"/>
                </a:moveTo>
                <a:cubicBezTo>
                  <a:pt x="14519" y="15296"/>
                  <a:pt x="14528" y="15288"/>
                  <a:pt x="14536" y="15280"/>
                </a:cubicBezTo>
                <a:cubicBezTo>
                  <a:pt x="14504" y="15311"/>
                  <a:pt x="14466" y="15335"/>
                  <a:pt x="14461" y="15379"/>
                </a:cubicBezTo>
                <a:cubicBezTo>
                  <a:pt x="14456" y="15426"/>
                  <a:pt x="14504" y="15438"/>
                  <a:pt x="14511" y="15453"/>
                </a:cubicBezTo>
                <a:cubicBezTo>
                  <a:pt x="14536" y="15502"/>
                  <a:pt x="14494" y="15503"/>
                  <a:pt x="14461" y="15503"/>
                </a:cubicBezTo>
              </a:path>
              <a:path w="4093" h="894">
                <a:moveTo>
                  <a:pt x="14759" y="15205"/>
                </a:moveTo>
                <a:cubicBezTo>
                  <a:pt x="14817" y="15160"/>
                  <a:pt x="14858" y="15130"/>
                  <a:pt x="14883" y="15056"/>
                </a:cubicBezTo>
                <a:cubicBezTo>
                  <a:pt x="14897" y="15015"/>
                  <a:pt x="14852" y="14957"/>
                  <a:pt x="14808" y="14982"/>
                </a:cubicBezTo>
                <a:cubicBezTo>
                  <a:pt x="14753" y="15013"/>
                  <a:pt x="14717" y="15150"/>
                  <a:pt x="14709" y="15205"/>
                </a:cubicBezTo>
                <a:cubicBezTo>
                  <a:pt x="14698" y="15278"/>
                  <a:pt x="14694" y="15389"/>
                  <a:pt x="14734" y="15453"/>
                </a:cubicBezTo>
                <a:cubicBezTo>
                  <a:pt x="14742" y="15461"/>
                  <a:pt x="14751" y="15470"/>
                  <a:pt x="14759" y="15478"/>
                </a:cubicBezTo>
              </a:path>
              <a:path w="4093" h="894">
                <a:moveTo>
                  <a:pt x="14858" y="15379"/>
                </a:moveTo>
                <a:cubicBezTo>
                  <a:pt x="14858" y="15362"/>
                  <a:pt x="14858" y="15346"/>
                  <a:pt x="14858" y="15329"/>
                </a:cubicBezTo>
                <a:cubicBezTo>
                  <a:pt x="14817" y="15329"/>
                  <a:pt x="14775" y="15329"/>
                  <a:pt x="14734" y="15329"/>
                </a:cubicBezTo>
              </a:path>
              <a:path w="4093" h="894">
                <a:moveTo>
                  <a:pt x="14908" y="14908"/>
                </a:moveTo>
                <a:cubicBezTo>
                  <a:pt x="15061" y="14856"/>
                  <a:pt x="15097" y="14862"/>
                  <a:pt x="15156" y="15032"/>
                </a:cubicBezTo>
                <a:cubicBezTo>
                  <a:pt x="15190" y="15130"/>
                  <a:pt x="15210" y="15309"/>
                  <a:pt x="15156" y="15404"/>
                </a:cubicBezTo>
                <a:cubicBezTo>
                  <a:pt x="15139" y="15420"/>
                  <a:pt x="15123" y="15437"/>
                  <a:pt x="15106" y="15453"/>
                </a:cubicBezTo>
              </a:path>
              <a:path w="4093" h="894">
                <a:moveTo>
                  <a:pt x="12824" y="15553"/>
                </a:moveTo>
                <a:cubicBezTo>
                  <a:pt x="12849" y="15553"/>
                  <a:pt x="12857" y="15553"/>
                  <a:pt x="12849" y="15528"/>
                </a:cubicBezTo>
                <a:cubicBezTo>
                  <a:pt x="12830" y="15490"/>
                  <a:pt x="12789" y="15558"/>
                  <a:pt x="12774" y="15602"/>
                </a:cubicBezTo>
                <a:cubicBezTo>
                  <a:pt x="12763" y="15634"/>
                  <a:pt x="12763" y="15708"/>
                  <a:pt x="12799" y="15726"/>
                </a:cubicBezTo>
                <a:cubicBezTo>
                  <a:pt x="12837" y="15745"/>
                  <a:pt x="12896" y="15722"/>
                  <a:pt x="12923" y="15701"/>
                </a:cubicBezTo>
                <a:cubicBezTo>
                  <a:pt x="12931" y="15693"/>
                  <a:pt x="12940" y="15685"/>
                  <a:pt x="12948" y="15677"/>
                </a:cubicBezTo>
              </a:path>
              <a:path w="4093" h="894">
                <a:moveTo>
                  <a:pt x="13022" y="15553"/>
                </a:moveTo>
                <a:cubicBezTo>
                  <a:pt x="13022" y="15586"/>
                  <a:pt x="13022" y="15619"/>
                  <a:pt x="13022" y="15652"/>
                </a:cubicBezTo>
                <a:cubicBezTo>
                  <a:pt x="13029" y="15622"/>
                  <a:pt x="13040" y="15607"/>
                  <a:pt x="13047" y="15577"/>
                </a:cubicBezTo>
                <a:cubicBezTo>
                  <a:pt x="13097" y="15577"/>
                  <a:pt x="13106" y="15588"/>
                  <a:pt x="13146" y="15602"/>
                </a:cubicBezTo>
                <a:cubicBezTo>
                  <a:pt x="13191" y="15617"/>
                  <a:pt x="13213" y="15588"/>
                  <a:pt x="13246" y="15577"/>
                </a:cubicBezTo>
                <a:cubicBezTo>
                  <a:pt x="13281" y="15565"/>
                  <a:pt x="13295" y="15583"/>
                  <a:pt x="13320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82920" y="2724120"/>
            <a:ext cx="223920" cy="677880"/>
          </a:xfrm>
          <a:custGeom>
            <a:avLst/>
            <a:gdLst/>
            <a:ahLst/>
            <a:rect l="l" t="t" r="r" b="b"/>
            <a:pathLst>
              <a:path w="621" h="1887">
                <a:moveTo>
                  <a:pt x="7144" y="7615"/>
                </a:moveTo>
                <a:cubicBezTo>
                  <a:pt x="7144" y="7590"/>
                  <a:pt x="7144" y="7582"/>
                  <a:pt x="7144" y="7565"/>
                </a:cubicBezTo>
                <a:cubicBezTo>
                  <a:pt x="7127" y="7607"/>
                  <a:pt x="7137" y="7578"/>
                  <a:pt x="7144" y="7640"/>
                </a:cubicBezTo>
                <a:cubicBezTo>
                  <a:pt x="7151" y="7702"/>
                  <a:pt x="7159" y="7754"/>
                  <a:pt x="7169" y="7813"/>
                </a:cubicBezTo>
                <a:cubicBezTo>
                  <a:pt x="7214" y="8082"/>
                  <a:pt x="7164" y="8397"/>
                  <a:pt x="7193" y="8657"/>
                </a:cubicBezTo>
                <a:cubicBezTo>
                  <a:pt x="7208" y="8790"/>
                  <a:pt x="7198" y="8934"/>
                  <a:pt x="7218" y="9054"/>
                </a:cubicBezTo>
                <a:cubicBezTo>
                  <a:pt x="7239" y="9177"/>
                  <a:pt x="7192" y="9341"/>
                  <a:pt x="7243" y="9426"/>
                </a:cubicBezTo>
                <a:cubicBezTo>
                  <a:pt x="7261" y="9456"/>
                  <a:pt x="7241" y="9428"/>
                  <a:pt x="7268" y="9401"/>
                </a:cubicBezTo>
                <a:cubicBezTo>
                  <a:pt x="7287" y="9382"/>
                  <a:pt x="7290" y="9359"/>
                  <a:pt x="7317" y="9327"/>
                </a:cubicBezTo>
                <a:cubicBezTo>
                  <a:pt x="7343" y="9295"/>
                  <a:pt x="7372" y="9253"/>
                  <a:pt x="7392" y="9227"/>
                </a:cubicBezTo>
                <a:cubicBezTo>
                  <a:pt x="7412" y="9201"/>
                  <a:pt x="7410" y="9187"/>
                  <a:pt x="7441" y="9178"/>
                </a:cubicBezTo>
                <a:cubicBezTo>
                  <a:pt x="7473" y="9169"/>
                  <a:pt x="7547" y="9141"/>
                  <a:pt x="7516" y="9153"/>
                </a:cubicBezTo>
                <a:cubicBezTo>
                  <a:pt x="7482" y="9167"/>
                  <a:pt x="7456" y="9194"/>
                  <a:pt x="7441" y="9203"/>
                </a:cubicBezTo>
                <a:cubicBezTo>
                  <a:pt x="7402" y="9226"/>
                  <a:pt x="7393" y="9247"/>
                  <a:pt x="7367" y="9277"/>
                </a:cubicBezTo>
                <a:cubicBezTo>
                  <a:pt x="7339" y="9309"/>
                  <a:pt x="7314" y="9349"/>
                  <a:pt x="7293" y="9376"/>
                </a:cubicBezTo>
                <a:cubicBezTo>
                  <a:pt x="7286" y="9386"/>
                  <a:pt x="7247" y="9428"/>
                  <a:pt x="7218" y="9426"/>
                </a:cubicBezTo>
                <a:cubicBezTo>
                  <a:pt x="7187" y="9423"/>
                  <a:pt x="7160" y="9394"/>
                  <a:pt x="7119" y="9376"/>
                </a:cubicBezTo>
                <a:cubicBezTo>
                  <a:pt x="7042" y="9341"/>
                  <a:pt x="6994" y="9266"/>
                  <a:pt x="6921" y="9227"/>
                </a:cubicBezTo>
                <a:cubicBezTo>
                  <a:pt x="6913" y="9227"/>
                  <a:pt x="6904" y="9227"/>
                  <a:pt x="6896" y="9227"/>
                </a:cubicBezTo>
              </a:path>
              <a:path w="621" h="1887">
                <a:moveTo>
                  <a:pt x="7169" y="7590"/>
                </a:moveTo>
                <a:cubicBezTo>
                  <a:pt x="7212" y="7590"/>
                  <a:pt x="7145" y="7592"/>
                  <a:pt x="7119" y="7615"/>
                </a:cubicBezTo>
                <a:cubicBezTo>
                  <a:pt x="7083" y="7647"/>
                  <a:pt x="7053" y="7660"/>
                  <a:pt x="7020" y="7689"/>
                </a:cubicBezTo>
                <a:cubicBezTo>
                  <a:pt x="6996" y="7710"/>
                  <a:pt x="6958" y="7780"/>
                  <a:pt x="6945" y="7789"/>
                </a:cubicBezTo>
                <a:cubicBezTo>
                  <a:pt x="6921" y="7805"/>
                  <a:pt x="6926" y="7804"/>
                  <a:pt x="6896" y="7813"/>
                </a:cubicBezTo>
                <a:cubicBezTo>
                  <a:pt x="6932" y="7778"/>
                  <a:pt x="6940" y="7748"/>
                  <a:pt x="6970" y="7714"/>
                </a:cubicBezTo>
                <a:cubicBezTo>
                  <a:pt x="7001" y="7679"/>
                  <a:pt x="7037" y="7661"/>
                  <a:pt x="7069" y="7640"/>
                </a:cubicBezTo>
                <a:cubicBezTo>
                  <a:pt x="7105" y="7616"/>
                  <a:pt x="7112" y="7594"/>
                  <a:pt x="7144" y="7590"/>
                </a:cubicBezTo>
                <a:cubicBezTo>
                  <a:pt x="7181" y="7585"/>
                  <a:pt x="7237" y="7623"/>
                  <a:pt x="7268" y="7640"/>
                </a:cubicBezTo>
                <a:cubicBezTo>
                  <a:pt x="7312" y="7664"/>
                  <a:pt x="7356" y="7680"/>
                  <a:pt x="7367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87720" y="2990880"/>
            <a:ext cx="179280" cy="17136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6077" y="8434"/>
                </a:moveTo>
                <a:cubicBezTo>
                  <a:pt x="6077" y="8497"/>
                  <a:pt x="6092" y="8525"/>
                  <a:pt x="6102" y="8582"/>
                </a:cubicBezTo>
                <a:cubicBezTo>
                  <a:pt x="6112" y="8636"/>
                  <a:pt x="6102" y="8701"/>
                  <a:pt x="6102" y="8756"/>
                </a:cubicBezTo>
              </a:path>
              <a:path w="497" h="472">
                <a:moveTo>
                  <a:pt x="6251" y="8434"/>
                </a:moveTo>
                <a:cubicBezTo>
                  <a:pt x="6261" y="8404"/>
                  <a:pt x="6293" y="8391"/>
                  <a:pt x="6325" y="8359"/>
                </a:cubicBezTo>
                <a:cubicBezTo>
                  <a:pt x="6370" y="8313"/>
                  <a:pt x="6384" y="8310"/>
                  <a:pt x="6449" y="8310"/>
                </a:cubicBezTo>
                <a:cubicBezTo>
                  <a:pt x="6490" y="8310"/>
                  <a:pt x="6514" y="8343"/>
                  <a:pt x="6499" y="8384"/>
                </a:cubicBezTo>
                <a:cubicBezTo>
                  <a:pt x="6478" y="8443"/>
                  <a:pt x="6453" y="8469"/>
                  <a:pt x="6424" y="8508"/>
                </a:cubicBezTo>
                <a:cubicBezTo>
                  <a:pt x="6404" y="8535"/>
                  <a:pt x="6375" y="8582"/>
                  <a:pt x="6424" y="8607"/>
                </a:cubicBezTo>
                <a:cubicBezTo>
                  <a:pt x="6454" y="8622"/>
                  <a:pt x="6517" y="8646"/>
                  <a:pt x="6548" y="8657"/>
                </a:cubicBezTo>
                <a:cubicBezTo>
                  <a:pt x="6590" y="8671"/>
                  <a:pt x="6578" y="8696"/>
                  <a:pt x="6548" y="8731"/>
                </a:cubicBezTo>
                <a:cubicBezTo>
                  <a:pt x="6512" y="8773"/>
                  <a:pt x="6476" y="8781"/>
                  <a:pt x="6424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16840" y="2303640"/>
            <a:ext cx="554040" cy="492120"/>
          </a:xfrm>
          <a:custGeom>
            <a:avLst/>
            <a:gdLst/>
            <a:ahLst/>
            <a:rect l="l" t="t" r="r" b="b"/>
            <a:pathLst>
              <a:path w="1539" h="1365">
                <a:moveTo>
                  <a:pt x="21258" y="7739"/>
                </a:moveTo>
                <a:cubicBezTo>
                  <a:pt x="21266" y="7739"/>
                  <a:pt x="21274" y="7739"/>
                  <a:pt x="21282" y="7739"/>
                </a:cubicBezTo>
                <a:cubicBezTo>
                  <a:pt x="21282" y="7648"/>
                  <a:pt x="21280" y="7546"/>
                  <a:pt x="21307" y="7491"/>
                </a:cubicBezTo>
                <a:cubicBezTo>
                  <a:pt x="21307" y="7483"/>
                  <a:pt x="21307" y="7474"/>
                  <a:pt x="21307" y="7466"/>
                </a:cubicBezTo>
                <a:cubicBezTo>
                  <a:pt x="21269" y="7495"/>
                  <a:pt x="21256" y="7491"/>
                  <a:pt x="21208" y="7491"/>
                </a:cubicBezTo>
                <a:cubicBezTo>
                  <a:pt x="21101" y="7491"/>
                  <a:pt x="20993" y="7491"/>
                  <a:pt x="20886" y="7491"/>
                </a:cubicBezTo>
              </a:path>
              <a:path w="1539" h="1365">
                <a:moveTo>
                  <a:pt x="20067" y="6672"/>
                </a:moveTo>
                <a:cubicBezTo>
                  <a:pt x="20067" y="6608"/>
                  <a:pt x="20067" y="6711"/>
                  <a:pt x="20067" y="6722"/>
                </a:cubicBezTo>
                <a:cubicBezTo>
                  <a:pt x="20067" y="6764"/>
                  <a:pt x="20042" y="6794"/>
                  <a:pt x="20042" y="6846"/>
                </a:cubicBezTo>
                <a:cubicBezTo>
                  <a:pt x="20042" y="6903"/>
                  <a:pt x="20021" y="6942"/>
                  <a:pt x="20017" y="6995"/>
                </a:cubicBezTo>
                <a:cubicBezTo>
                  <a:pt x="20011" y="7086"/>
                  <a:pt x="20014" y="7157"/>
                  <a:pt x="19993" y="7243"/>
                </a:cubicBezTo>
                <a:cubicBezTo>
                  <a:pt x="19979" y="7301"/>
                  <a:pt x="19983" y="7359"/>
                  <a:pt x="19968" y="7417"/>
                </a:cubicBezTo>
                <a:cubicBezTo>
                  <a:pt x="19951" y="7485"/>
                  <a:pt x="19964" y="7553"/>
                  <a:pt x="19943" y="7615"/>
                </a:cubicBezTo>
                <a:cubicBezTo>
                  <a:pt x="19932" y="7647"/>
                  <a:pt x="19928" y="7684"/>
                  <a:pt x="19918" y="7714"/>
                </a:cubicBezTo>
                <a:cubicBezTo>
                  <a:pt x="19918" y="7722"/>
                  <a:pt x="19918" y="7731"/>
                  <a:pt x="19918" y="7739"/>
                </a:cubicBezTo>
                <a:cubicBezTo>
                  <a:pt x="19931" y="7765"/>
                  <a:pt x="19959" y="7745"/>
                  <a:pt x="19993" y="7714"/>
                </a:cubicBezTo>
                <a:cubicBezTo>
                  <a:pt x="20030" y="7680"/>
                  <a:pt x="20074" y="7673"/>
                  <a:pt x="20117" y="7640"/>
                </a:cubicBezTo>
                <a:cubicBezTo>
                  <a:pt x="20161" y="7607"/>
                  <a:pt x="20281" y="7579"/>
                  <a:pt x="20241" y="7541"/>
                </a:cubicBezTo>
                <a:cubicBezTo>
                  <a:pt x="20225" y="7526"/>
                  <a:pt x="20153" y="7579"/>
                  <a:pt x="20141" y="7590"/>
                </a:cubicBezTo>
                <a:cubicBezTo>
                  <a:pt x="20102" y="7626"/>
                  <a:pt x="20081" y="7675"/>
                  <a:pt x="20042" y="7714"/>
                </a:cubicBezTo>
                <a:cubicBezTo>
                  <a:pt x="20016" y="7739"/>
                  <a:pt x="19978" y="7760"/>
                  <a:pt x="19943" y="7764"/>
                </a:cubicBezTo>
                <a:cubicBezTo>
                  <a:pt x="19914" y="7767"/>
                  <a:pt x="19887" y="7696"/>
                  <a:pt x="19869" y="7665"/>
                </a:cubicBezTo>
                <a:cubicBezTo>
                  <a:pt x="19838" y="7614"/>
                  <a:pt x="19812" y="7583"/>
                  <a:pt x="19769" y="7541"/>
                </a:cubicBezTo>
              </a:path>
              <a:path w="1539" h="1365">
                <a:moveTo>
                  <a:pt x="20067" y="6747"/>
                </a:moveTo>
                <a:cubicBezTo>
                  <a:pt x="20017" y="6722"/>
                  <a:pt x="20013" y="6752"/>
                  <a:pt x="19968" y="6796"/>
                </a:cubicBezTo>
                <a:cubicBezTo>
                  <a:pt x="19934" y="6830"/>
                  <a:pt x="19915" y="6863"/>
                  <a:pt x="19893" y="6896"/>
                </a:cubicBezTo>
                <a:cubicBezTo>
                  <a:pt x="19873" y="6927"/>
                  <a:pt x="19867" y="6940"/>
                  <a:pt x="19844" y="6970"/>
                </a:cubicBezTo>
                <a:cubicBezTo>
                  <a:pt x="19844" y="6920"/>
                  <a:pt x="19855" y="6912"/>
                  <a:pt x="19869" y="6871"/>
                </a:cubicBezTo>
                <a:cubicBezTo>
                  <a:pt x="19872" y="6862"/>
                  <a:pt x="19889" y="6775"/>
                  <a:pt x="19893" y="6772"/>
                </a:cubicBezTo>
                <a:cubicBezTo>
                  <a:pt x="19909" y="6760"/>
                  <a:pt x="19936" y="6711"/>
                  <a:pt x="19968" y="6697"/>
                </a:cubicBezTo>
                <a:cubicBezTo>
                  <a:pt x="19997" y="6684"/>
                  <a:pt x="20053" y="6751"/>
                  <a:pt x="20067" y="6772"/>
                </a:cubicBezTo>
                <a:cubicBezTo>
                  <a:pt x="20100" y="6823"/>
                  <a:pt x="20113" y="6898"/>
                  <a:pt x="20141" y="6945"/>
                </a:cubicBezTo>
                <a:cubicBezTo>
                  <a:pt x="20149" y="6953"/>
                  <a:pt x="20158" y="6962"/>
                  <a:pt x="20166" y="6970"/>
                </a:cubicBezTo>
              </a:path>
              <a:path w="1539" h="1365">
                <a:moveTo>
                  <a:pt x="20166" y="7094"/>
                </a:moveTo>
                <a:cubicBezTo>
                  <a:pt x="20166" y="7086"/>
                  <a:pt x="20166" y="7077"/>
                  <a:pt x="20166" y="7069"/>
                </a:cubicBezTo>
                <a:cubicBezTo>
                  <a:pt x="20166" y="7152"/>
                  <a:pt x="20166" y="7234"/>
                  <a:pt x="20166" y="7317"/>
                </a:cubicBezTo>
              </a:path>
              <a:path w="1539" h="1365">
                <a:moveTo>
                  <a:pt x="20439" y="7045"/>
                </a:moveTo>
                <a:cubicBezTo>
                  <a:pt x="20456" y="7023"/>
                  <a:pt x="20479" y="6975"/>
                  <a:pt x="20489" y="6970"/>
                </a:cubicBezTo>
                <a:cubicBezTo>
                  <a:pt x="20497" y="6970"/>
                  <a:pt x="20505" y="6970"/>
                  <a:pt x="20513" y="6970"/>
                </a:cubicBezTo>
                <a:cubicBezTo>
                  <a:pt x="20501" y="7020"/>
                  <a:pt x="20452" y="7040"/>
                  <a:pt x="20439" y="7094"/>
                </a:cubicBezTo>
                <a:cubicBezTo>
                  <a:pt x="20423" y="7161"/>
                  <a:pt x="20414" y="7222"/>
                  <a:pt x="20414" y="7293"/>
                </a:cubicBezTo>
                <a:cubicBezTo>
                  <a:pt x="20414" y="7352"/>
                  <a:pt x="20406" y="7389"/>
                  <a:pt x="20439" y="7417"/>
                </a:cubicBezTo>
                <a:cubicBezTo>
                  <a:pt x="20496" y="7466"/>
                  <a:pt x="20538" y="7430"/>
                  <a:pt x="20563" y="7367"/>
                </a:cubicBezTo>
                <a:cubicBezTo>
                  <a:pt x="20573" y="7342"/>
                  <a:pt x="20581" y="7320"/>
                  <a:pt x="20588" y="7293"/>
                </a:cubicBezTo>
                <a:cubicBezTo>
                  <a:pt x="20540" y="7293"/>
                  <a:pt x="20526" y="7297"/>
                  <a:pt x="20489" y="7268"/>
                </a:cubicBezTo>
              </a:path>
              <a:path w="1539" h="1365">
                <a:moveTo>
                  <a:pt x="21010" y="6449"/>
                </a:moveTo>
                <a:cubicBezTo>
                  <a:pt x="20980" y="6456"/>
                  <a:pt x="20965" y="6467"/>
                  <a:pt x="20935" y="6474"/>
                </a:cubicBezTo>
                <a:cubicBezTo>
                  <a:pt x="20916" y="6540"/>
                  <a:pt x="20888" y="6546"/>
                  <a:pt x="20836" y="6598"/>
                </a:cubicBezTo>
                <a:cubicBezTo>
                  <a:pt x="20801" y="6633"/>
                  <a:pt x="20792" y="6663"/>
                  <a:pt x="20762" y="6697"/>
                </a:cubicBezTo>
                <a:cubicBezTo>
                  <a:pt x="20730" y="6734"/>
                  <a:pt x="20749" y="6735"/>
                  <a:pt x="20712" y="6747"/>
                </a:cubicBezTo>
              </a:path>
              <a:path w="1539" h="1365">
                <a:moveTo>
                  <a:pt x="21034" y="6747"/>
                </a:moveTo>
                <a:cubicBezTo>
                  <a:pt x="21042" y="6747"/>
                  <a:pt x="21051" y="6747"/>
                  <a:pt x="21059" y="6747"/>
                </a:cubicBezTo>
                <a:cubicBezTo>
                  <a:pt x="21015" y="6692"/>
                  <a:pt x="20979" y="6649"/>
                  <a:pt x="20935" y="6598"/>
                </a:cubicBezTo>
                <a:cubicBezTo>
                  <a:pt x="20891" y="6548"/>
                  <a:pt x="20858" y="6496"/>
                  <a:pt x="20811" y="6449"/>
                </a:cubicBezTo>
                <a:cubicBezTo>
                  <a:pt x="20789" y="6427"/>
                  <a:pt x="20780" y="6422"/>
                  <a:pt x="20786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24000" y="1601640"/>
            <a:ext cx="77389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496800" y="1487520"/>
            <a:ext cx="51008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92120" y="1531800"/>
            <a:ext cx="4915080" cy="2124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581120" y="2652840"/>
            <a:ext cx="1187640" cy="776160"/>
          </a:xfrm>
          <a:custGeom>
            <a:avLst/>
            <a:gdLst/>
            <a:ahLst/>
            <a:rect l="l" t="t" r="r" b="b"/>
            <a:pathLst>
              <a:path w="3300" h="2159">
                <a:moveTo>
                  <a:pt x="7094" y="8880"/>
                </a:moveTo>
                <a:cubicBezTo>
                  <a:pt x="7094" y="8914"/>
                  <a:pt x="7107" y="8960"/>
                  <a:pt x="7069" y="8979"/>
                </a:cubicBezTo>
                <a:cubicBezTo>
                  <a:pt x="7061" y="8979"/>
                  <a:pt x="7053" y="8979"/>
                  <a:pt x="7045" y="8979"/>
                </a:cubicBezTo>
              </a:path>
              <a:path w="3300" h="2159">
                <a:moveTo>
                  <a:pt x="6896" y="9079"/>
                </a:moveTo>
                <a:cubicBezTo>
                  <a:pt x="6869" y="9114"/>
                  <a:pt x="6871" y="9109"/>
                  <a:pt x="6871" y="9153"/>
                </a:cubicBezTo>
                <a:cubicBezTo>
                  <a:pt x="6846" y="9153"/>
                  <a:pt x="6838" y="9153"/>
                  <a:pt x="6846" y="9178"/>
                </a:cubicBezTo>
              </a:path>
              <a:path w="3300" h="2159">
                <a:moveTo>
                  <a:pt x="6722" y="9252"/>
                </a:moveTo>
                <a:cubicBezTo>
                  <a:pt x="6674" y="9252"/>
                  <a:pt x="6716" y="9287"/>
                  <a:pt x="6672" y="9302"/>
                </a:cubicBezTo>
              </a:path>
              <a:path w="3300" h="2159">
                <a:moveTo>
                  <a:pt x="6598" y="9376"/>
                </a:moveTo>
                <a:cubicBezTo>
                  <a:pt x="6575" y="9399"/>
                  <a:pt x="6567" y="9403"/>
                  <a:pt x="6573" y="9426"/>
                </a:cubicBezTo>
              </a:path>
              <a:path w="3300" h="2159">
                <a:moveTo>
                  <a:pt x="6424" y="9475"/>
                </a:moveTo>
                <a:cubicBezTo>
                  <a:pt x="6400" y="9475"/>
                  <a:pt x="6392" y="9475"/>
                  <a:pt x="6400" y="9500"/>
                </a:cubicBezTo>
              </a:path>
              <a:path w="3300" h="2159">
                <a:moveTo>
                  <a:pt x="6201" y="9525"/>
                </a:moveTo>
                <a:cubicBezTo>
                  <a:pt x="6193" y="9525"/>
                  <a:pt x="6184" y="9525"/>
                  <a:pt x="6176" y="9525"/>
                </a:cubicBezTo>
              </a:path>
              <a:path w="3300" h="2159">
                <a:moveTo>
                  <a:pt x="5730" y="9451"/>
                </a:moveTo>
                <a:cubicBezTo>
                  <a:pt x="5707" y="9428"/>
                  <a:pt x="5703" y="9420"/>
                  <a:pt x="5680" y="9426"/>
                </a:cubicBezTo>
              </a:path>
              <a:path w="3300" h="2159">
                <a:moveTo>
                  <a:pt x="5184" y="9252"/>
                </a:moveTo>
                <a:cubicBezTo>
                  <a:pt x="5149" y="9225"/>
                  <a:pt x="5154" y="9227"/>
                  <a:pt x="5110" y="9227"/>
                </a:cubicBezTo>
              </a:path>
              <a:path w="3300" h="2159">
                <a:moveTo>
                  <a:pt x="4986" y="9128"/>
                </a:moveTo>
                <a:cubicBezTo>
                  <a:pt x="4978" y="9120"/>
                  <a:pt x="4969" y="9111"/>
                  <a:pt x="4961" y="9103"/>
                </a:cubicBezTo>
              </a:path>
              <a:path w="3300" h="2159">
                <a:moveTo>
                  <a:pt x="4390" y="8954"/>
                </a:moveTo>
                <a:cubicBezTo>
                  <a:pt x="4437" y="8954"/>
                  <a:pt x="4415" y="8938"/>
                  <a:pt x="4390" y="8930"/>
                </a:cubicBezTo>
              </a:path>
              <a:path w="3300" h="2159">
                <a:moveTo>
                  <a:pt x="4390" y="8954"/>
                </a:moveTo>
                <a:cubicBezTo>
                  <a:pt x="4390" y="8896"/>
                  <a:pt x="4390" y="8888"/>
                  <a:pt x="4390" y="8855"/>
                </a:cubicBezTo>
                <a:cubicBezTo>
                  <a:pt x="4414" y="8887"/>
                  <a:pt x="4420" y="8925"/>
                  <a:pt x="4440" y="8954"/>
                </a:cubicBezTo>
                <a:cubicBezTo>
                  <a:pt x="4465" y="8992"/>
                  <a:pt x="4489" y="9019"/>
                  <a:pt x="4514" y="9054"/>
                </a:cubicBezTo>
              </a:path>
              <a:path w="3300" h="2159">
                <a:moveTo>
                  <a:pt x="4564" y="9103"/>
                </a:moveTo>
                <a:cubicBezTo>
                  <a:pt x="4564" y="9111"/>
                  <a:pt x="4564" y="9120"/>
                  <a:pt x="4564" y="9128"/>
                </a:cubicBezTo>
                <a:cubicBezTo>
                  <a:pt x="4604" y="9141"/>
                  <a:pt x="4574" y="9140"/>
                  <a:pt x="4614" y="9153"/>
                </a:cubicBezTo>
                <a:cubicBezTo>
                  <a:pt x="4627" y="9193"/>
                  <a:pt x="4625" y="9163"/>
                  <a:pt x="4638" y="9203"/>
                </a:cubicBezTo>
              </a:path>
              <a:path w="3300" h="2159">
                <a:moveTo>
                  <a:pt x="4713" y="9277"/>
                </a:moveTo>
                <a:cubicBezTo>
                  <a:pt x="4742" y="9306"/>
                  <a:pt x="4750" y="9318"/>
                  <a:pt x="4787" y="9327"/>
                </a:cubicBezTo>
              </a:path>
              <a:path w="3300" h="2159">
                <a:moveTo>
                  <a:pt x="4862" y="9401"/>
                </a:moveTo>
                <a:cubicBezTo>
                  <a:pt x="4897" y="9428"/>
                  <a:pt x="4892" y="9426"/>
                  <a:pt x="4936" y="9426"/>
                </a:cubicBezTo>
              </a:path>
              <a:path w="3300" h="2159">
                <a:moveTo>
                  <a:pt x="4986" y="9451"/>
                </a:moveTo>
                <a:cubicBezTo>
                  <a:pt x="5024" y="9479"/>
                  <a:pt x="5048" y="9464"/>
                  <a:pt x="5060" y="9500"/>
                </a:cubicBezTo>
              </a:path>
              <a:path w="3300" h="2159">
                <a:moveTo>
                  <a:pt x="5110" y="9475"/>
                </a:moveTo>
                <a:cubicBezTo>
                  <a:pt x="5150" y="9475"/>
                  <a:pt x="5129" y="9500"/>
                  <a:pt x="5184" y="9500"/>
                </a:cubicBezTo>
              </a:path>
              <a:path w="3300" h="2159">
                <a:moveTo>
                  <a:pt x="5283" y="9475"/>
                </a:moveTo>
                <a:cubicBezTo>
                  <a:pt x="5283" y="9517"/>
                  <a:pt x="5323" y="9500"/>
                  <a:pt x="5358" y="9500"/>
                </a:cubicBezTo>
              </a:path>
              <a:path w="3300" h="2159">
                <a:moveTo>
                  <a:pt x="5432" y="9475"/>
                </a:moveTo>
                <a:cubicBezTo>
                  <a:pt x="5462" y="9482"/>
                  <a:pt x="5477" y="9493"/>
                  <a:pt x="5507" y="9500"/>
                </a:cubicBezTo>
              </a:path>
              <a:path w="3300" h="2159">
                <a:moveTo>
                  <a:pt x="5655" y="9475"/>
                </a:moveTo>
                <a:cubicBezTo>
                  <a:pt x="5680" y="9475"/>
                  <a:pt x="5688" y="9475"/>
                  <a:pt x="5705" y="9475"/>
                </a:cubicBezTo>
                <a:cubicBezTo>
                  <a:pt x="5729" y="9489"/>
                  <a:pt x="5727" y="9497"/>
                  <a:pt x="5779" y="9500"/>
                </a:cubicBezTo>
                <a:cubicBezTo>
                  <a:pt x="5907" y="9508"/>
                  <a:pt x="6040" y="9498"/>
                  <a:pt x="6152" y="9475"/>
                </a:cubicBezTo>
                <a:cubicBezTo>
                  <a:pt x="6190" y="9467"/>
                  <a:pt x="6237" y="9475"/>
                  <a:pt x="6276" y="9475"/>
                </a:cubicBezTo>
                <a:cubicBezTo>
                  <a:pt x="6297" y="9454"/>
                  <a:pt x="6307" y="9440"/>
                  <a:pt x="6350" y="9426"/>
                </a:cubicBezTo>
                <a:cubicBezTo>
                  <a:pt x="6358" y="9426"/>
                  <a:pt x="6367" y="9426"/>
                  <a:pt x="6375" y="9426"/>
                </a:cubicBezTo>
                <a:cubicBezTo>
                  <a:pt x="6386" y="9417"/>
                  <a:pt x="6417" y="9382"/>
                  <a:pt x="6449" y="9376"/>
                </a:cubicBezTo>
                <a:cubicBezTo>
                  <a:pt x="6474" y="9376"/>
                  <a:pt x="6482" y="9376"/>
                  <a:pt x="6499" y="9376"/>
                </a:cubicBezTo>
                <a:cubicBezTo>
                  <a:pt x="6516" y="9362"/>
                  <a:pt x="6542" y="9351"/>
                  <a:pt x="6573" y="9327"/>
                </a:cubicBezTo>
                <a:cubicBezTo>
                  <a:pt x="6612" y="9296"/>
                  <a:pt x="6628" y="9262"/>
                  <a:pt x="6648" y="9227"/>
                </a:cubicBezTo>
                <a:cubicBezTo>
                  <a:pt x="6672" y="9208"/>
                  <a:pt x="6690" y="9210"/>
                  <a:pt x="6722" y="9178"/>
                </a:cubicBezTo>
                <a:cubicBezTo>
                  <a:pt x="6764" y="9137"/>
                  <a:pt x="6796" y="9098"/>
                  <a:pt x="6821" y="9054"/>
                </a:cubicBezTo>
                <a:cubicBezTo>
                  <a:pt x="6861" y="9031"/>
                  <a:pt x="6898" y="9002"/>
                  <a:pt x="6921" y="8979"/>
                </a:cubicBezTo>
              </a:path>
              <a:path w="3300" h="2159">
                <a:moveTo>
                  <a:pt x="5680" y="7491"/>
                </a:moveTo>
                <a:cubicBezTo>
                  <a:pt x="5707" y="7482"/>
                  <a:pt x="5708" y="7414"/>
                  <a:pt x="5730" y="7466"/>
                </a:cubicBezTo>
                <a:cubicBezTo>
                  <a:pt x="5730" y="7491"/>
                  <a:pt x="5730" y="7499"/>
                  <a:pt x="5730" y="7516"/>
                </a:cubicBezTo>
                <a:cubicBezTo>
                  <a:pt x="5678" y="7516"/>
                  <a:pt x="5680" y="7518"/>
                  <a:pt x="5680" y="7466"/>
                </a:cubicBezTo>
                <a:cubicBezTo>
                  <a:pt x="5680" y="7438"/>
                  <a:pt x="5682" y="7427"/>
                  <a:pt x="5705" y="7417"/>
                </a:cubicBezTo>
                <a:cubicBezTo>
                  <a:pt x="5705" y="7464"/>
                  <a:pt x="5720" y="7503"/>
                  <a:pt x="5680" y="7516"/>
                </a:cubicBezTo>
              </a:path>
              <a:path w="3300" h="2159">
                <a:moveTo>
                  <a:pt x="4440" y="8880"/>
                </a:moveTo>
                <a:cubicBezTo>
                  <a:pt x="4453" y="8827"/>
                  <a:pt x="4461" y="8829"/>
                  <a:pt x="4490" y="8781"/>
                </a:cubicBezTo>
                <a:cubicBezTo>
                  <a:pt x="4507" y="8753"/>
                  <a:pt x="4546" y="8714"/>
                  <a:pt x="4564" y="8682"/>
                </a:cubicBezTo>
                <a:cubicBezTo>
                  <a:pt x="4564" y="8674"/>
                  <a:pt x="4564" y="8665"/>
                  <a:pt x="4564" y="8657"/>
                </a:cubicBezTo>
                <a:cubicBezTo>
                  <a:pt x="4584" y="8641"/>
                  <a:pt x="4608" y="8625"/>
                  <a:pt x="4638" y="8607"/>
                </a:cubicBezTo>
                <a:cubicBezTo>
                  <a:pt x="4659" y="8576"/>
                  <a:pt x="4656" y="8579"/>
                  <a:pt x="4688" y="8558"/>
                </a:cubicBezTo>
                <a:cubicBezTo>
                  <a:pt x="4704" y="8537"/>
                  <a:pt x="4698" y="8529"/>
                  <a:pt x="4713" y="8508"/>
                </a:cubicBezTo>
                <a:cubicBezTo>
                  <a:pt x="4740" y="8491"/>
                  <a:pt x="4780" y="8451"/>
                  <a:pt x="4812" y="8434"/>
                </a:cubicBezTo>
                <a:cubicBezTo>
                  <a:pt x="4820" y="8434"/>
                  <a:pt x="4829" y="8434"/>
                  <a:pt x="4837" y="8434"/>
                </a:cubicBezTo>
                <a:cubicBezTo>
                  <a:pt x="4847" y="8410"/>
                  <a:pt x="4852" y="8383"/>
                  <a:pt x="4862" y="8359"/>
                </a:cubicBezTo>
                <a:cubicBezTo>
                  <a:pt x="4892" y="8339"/>
                  <a:pt x="4891" y="8341"/>
                  <a:pt x="4911" y="8310"/>
                </a:cubicBezTo>
                <a:cubicBezTo>
                  <a:pt x="4932" y="8294"/>
                  <a:pt x="4940" y="8300"/>
                  <a:pt x="4961" y="8285"/>
                </a:cubicBezTo>
                <a:cubicBezTo>
                  <a:pt x="4977" y="8269"/>
                  <a:pt x="5006" y="8239"/>
                  <a:pt x="5035" y="8210"/>
                </a:cubicBezTo>
                <a:cubicBezTo>
                  <a:pt x="5062" y="8183"/>
                  <a:pt x="5085" y="8177"/>
                  <a:pt x="5110" y="8161"/>
                </a:cubicBezTo>
                <a:cubicBezTo>
                  <a:pt x="5128" y="8139"/>
                  <a:pt x="5125" y="8113"/>
                  <a:pt x="5159" y="8086"/>
                </a:cubicBezTo>
                <a:cubicBezTo>
                  <a:pt x="5167" y="8086"/>
                  <a:pt x="5176" y="8086"/>
                  <a:pt x="5184" y="8086"/>
                </a:cubicBezTo>
                <a:cubicBezTo>
                  <a:pt x="5200" y="8066"/>
                  <a:pt x="5216" y="8047"/>
                  <a:pt x="5234" y="8012"/>
                </a:cubicBezTo>
                <a:cubicBezTo>
                  <a:pt x="5257" y="7989"/>
                  <a:pt x="5265" y="7985"/>
                  <a:pt x="5259" y="7962"/>
                </a:cubicBezTo>
                <a:cubicBezTo>
                  <a:pt x="5296" y="7944"/>
                  <a:pt x="5355" y="7921"/>
                  <a:pt x="5383" y="7888"/>
                </a:cubicBezTo>
                <a:cubicBezTo>
                  <a:pt x="5401" y="7867"/>
                  <a:pt x="5407" y="7856"/>
                  <a:pt x="5432" y="7838"/>
                </a:cubicBezTo>
                <a:cubicBezTo>
                  <a:pt x="5449" y="7811"/>
                  <a:pt x="5490" y="7771"/>
                  <a:pt x="5507" y="7739"/>
                </a:cubicBezTo>
                <a:cubicBezTo>
                  <a:pt x="5507" y="7731"/>
                  <a:pt x="5507" y="7722"/>
                  <a:pt x="5507" y="7714"/>
                </a:cubicBezTo>
                <a:cubicBezTo>
                  <a:pt x="5520" y="7698"/>
                  <a:pt x="5539" y="7670"/>
                  <a:pt x="5556" y="7640"/>
                </a:cubicBezTo>
                <a:cubicBezTo>
                  <a:pt x="5568" y="7628"/>
                  <a:pt x="5602" y="7582"/>
                  <a:pt x="5631" y="7565"/>
                </a:cubicBezTo>
                <a:cubicBezTo>
                  <a:pt x="5639" y="7565"/>
                  <a:pt x="5647" y="7565"/>
                  <a:pt x="5655" y="7565"/>
                </a:cubicBezTo>
                <a:cubicBezTo>
                  <a:pt x="5671" y="7552"/>
                  <a:pt x="5700" y="7533"/>
                  <a:pt x="5730" y="7516"/>
                </a:cubicBezTo>
                <a:cubicBezTo>
                  <a:pt x="5730" y="7491"/>
                  <a:pt x="5730" y="7483"/>
                  <a:pt x="5755" y="7491"/>
                </a:cubicBezTo>
              </a:path>
              <a:path w="3300" h="2159">
                <a:moveTo>
                  <a:pt x="7119" y="8830"/>
                </a:moveTo>
                <a:cubicBezTo>
                  <a:pt x="7084" y="8809"/>
                  <a:pt x="7055" y="8789"/>
                  <a:pt x="7020" y="8756"/>
                </a:cubicBezTo>
                <a:cubicBezTo>
                  <a:pt x="6986" y="8723"/>
                  <a:pt x="6955" y="8703"/>
                  <a:pt x="6921" y="8682"/>
                </a:cubicBezTo>
                <a:cubicBezTo>
                  <a:pt x="6905" y="8661"/>
                  <a:pt x="6912" y="8653"/>
                  <a:pt x="6896" y="8632"/>
                </a:cubicBezTo>
                <a:cubicBezTo>
                  <a:pt x="6871" y="8612"/>
                  <a:pt x="6857" y="8611"/>
                  <a:pt x="6821" y="8582"/>
                </a:cubicBezTo>
                <a:cubicBezTo>
                  <a:pt x="6794" y="8560"/>
                  <a:pt x="6771" y="8548"/>
                  <a:pt x="6747" y="8533"/>
                </a:cubicBezTo>
                <a:cubicBezTo>
                  <a:pt x="6728" y="8509"/>
                  <a:pt x="6731" y="8487"/>
                  <a:pt x="6697" y="8458"/>
                </a:cubicBezTo>
                <a:cubicBezTo>
                  <a:pt x="6675" y="8436"/>
                  <a:pt x="6670" y="8428"/>
                  <a:pt x="6648" y="8434"/>
                </a:cubicBezTo>
                <a:cubicBezTo>
                  <a:pt x="6628" y="8402"/>
                  <a:pt x="6613" y="8361"/>
                  <a:pt x="6573" y="8334"/>
                </a:cubicBezTo>
                <a:cubicBezTo>
                  <a:pt x="6565" y="8334"/>
                  <a:pt x="6556" y="8334"/>
                  <a:pt x="6548" y="8334"/>
                </a:cubicBezTo>
                <a:cubicBezTo>
                  <a:pt x="6527" y="8300"/>
                  <a:pt x="6507" y="8269"/>
                  <a:pt x="6474" y="8235"/>
                </a:cubicBezTo>
                <a:cubicBezTo>
                  <a:pt x="6426" y="8185"/>
                  <a:pt x="6382" y="8138"/>
                  <a:pt x="6350" y="8086"/>
                </a:cubicBezTo>
                <a:cubicBezTo>
                  <a:pt x="6328" y="8070"/>
                  <a:pt x="6322" y="8078"/>
                  <a:pt x="6300" y="8062"/>
                </a:cubicBezTo>
                <a:cubicBezTo>
                  <a:pt x="6282" y="8039"/>
                  <a:pt x="6286" y="8014"/>
                  <a:pt x="6251" y="7987"/>
                </a:cubicBezTo>
                <a:cubicBezTo>
                  <a:pt x="6243" y="7987"/>
                  <a:pt x="6234" y="7987"/>
                  <a:pt x="6226" y="7987"/>
                </a:cubicBezTo>
                <a:cubicBezTo>
                  <a:pt x="6205" y="7956"/>
                  <a:pt x="6208" y="7959"/>
                  <a:pt x="6176" y="7938"/>
                </a:cubicBezTo>
                <a:cubicBezTo>
                  <a:pt x="6160" y="7916"/>
                  <a:pt x="6168" y="7910"/>
                  <a:pt x="6152" y="7888"/>
                </a:cubicBezTo>
                <a:cubicBezTo>
                  <a:pt x="6131" y="7872"/>
                  <a:pt x="6123" y="7878"/>
                  <a:pt x="6102" y="7863"/>
                </a:cubicBezTo>
                <a:cubicBezTo>
                  <a:pt x="6086" y="7842"/>
                  <a:pt x="6093" y="7834"/>
                  <a:pt x="6077" y="7813"/>
                </a:cubicBezTo>
                <a:cubicBezTo>
                  <a:pt x="6054" y="7795"/>
                  <a:pt x="6030" y="7799"/>
                  <a:pt x="6003" y="7764"/>
                </a:cubicBezTo>
                <a:cubicBezTo>
                  <a:pt x="6003" y="7756"/>
                  <a:pt x="6003" y="7747"/>
                  <a:pt x="6003" y="7739"/>
                </a:cubicBezTo>
                <a:cubicBezTo>
                  <a:pt x="5972" y="7718"/>
                  <a:pt x="5974" y="7720"/>
                  <a:pt x="5953" y="7689"/>
                </a:cubicBezTo>
                <a:cubicBezTo>
                  <a:pt x="5901" y="7674"/>
                  <a:pt x="5912" y="7693"/>
                  <a:pt x="5879" y="7640"/>
                </a:cubicBezTo>
                <a:cubicBezTo>
                  <a:pt x="5856" y="7617"/>
                  <a:pt x="5848" y="7613"/>
                  <a:pt x="5854" y="7590"/>
                </a:cubicBezTo>
                <a:cubicBezTo>
                  <a:pt x="5803" y="7582"/>
                  <a:pt x="5830" y="7585"/>
                  <a:pt x="5804" y="7565"/>
                </a:cubicBezTo>
                <a:cubicBezTo>
                  <a:pt x="5783" y="7550"/>
                  <a:pt x="5776" y="7556"/>
                  <a:pt x="5755" y="7541"/>
                </a:cubicBezTo>
                <a:cubicBezTo>
                  <a:pt x="5739" y="7520"/>
                  <a:pt x="5745" y="7512"/>
                  <a:pt x="5730" y="7491"/>
                </a:cubicBezTo>
              </a:path>
              <a:path w="3300" h="2159">
                <a:moveTo>
                  <a:pt x="6672" y="7417"/>
                </a:moveTo>
                <a:cubicBezTo>
                  <a:pt x="6707" y="7405"/>
                  <a:pt x="6697" y="7353"/>
                  <a:pt x="6697" y="7392"/>
                </a:cubicBezTo>
                <a:cubicBezTo>
                  <a:pt x="6697" y="7467"/>
                  <a:pt x="6684" y="7521"/>
                  <a:pt x="6672" y="7590"/>
                </a:cubicBezTo>
                <a:cubicBezTo>
                  <a:pt x="6663" y="7641"/>
                  <a:pt x="6672" y="7722"/>
                  <a:pt x="6697" y="7764"/>
                </a:cubicBezTo>
                <a:cubicBezTo>
                  <a:pt x="6722" y="7806"/>
                  <a:pt x="6780" y="7789"/>
                  <a:pt x="6821" y="7789"/>
                </a:cubicBezTo>
                <a:cubicBezTo>
                  <a:pt x="6890" y="7789"/>
                  <a:pt x="6930" y="7779"/>
                  <a:pt x="6995" y="7764"/>
                </a:cubicBezTo>
                <a:cubicBezTo>
                  <a:pt x="7037" y="7754"/>
                  <a:pt x="7114" y="7750"/>
                  <a:pt x="7119" y="7789"/>
                </a:cubicBezTo>
                <a:cubicBezTo>
                  <a:pt x="7127" y="7849"/>
                  <a:pt x="7110" y="7844"/>
                  <a:pt x="7069" y="7813"/>
                </a:cubicBezTo>
              </a:path>
              <a:path w="3300" h="2159">
                <a:moveTo>
                  <a:pt x="6921" y="7665"/>
                </a:moveTo>
                <a:cubicBezTo>
                  <a:pt x="6884" y="7689"/>
                  <a:pt x="6896" y="7732"/>
                  <a:pt x="6896" y="7789"/>
                </a:cubicBezTo>
                <a:cubicBezTo>
                  <a:pt x="6896" y="7855"/>
                  <a:pt x="6908" y="7900"/>
                  <a:pt x="6921" y="7962"/>
                </a:cubicBezTo>
              </a:path>
              <a:path w="3300" h="2159">
                <a:moveTo>
                  <a:pt x="7218" y="7689"/>
                </a:moveTo>
                <a:cubicBezTo>
                  <a:pt x="7256" y="7702"/>
                  <a:pt x="7243" y="7719"/>
                  <a:pt x="7243" y="7764"/>
                </a:cubicBezTo>
                <a:cubicBezTo>
                  <a:pt x="7243" y="7814"/>
                  <a:pt x="7243" y="7863"/>
                  <a:pt x="7243" y="7913"/>
                </a:cubicBezTo>
                <a:cubicBezTo>
                  <a:pt x="7271" y="7876"/>
                  <a:pt x="7285" y="7811"/>
                  <a:pt x="7293" y="7764"/>
                </a:cubicBezTo>
                <a:cubicBezTo>
                  <a:pt x="7303" y="7705"/>
                  <a:pt x="7304" y="7688"/>
                  <a:pt x="7342" y="7640"/>
                </a:cubicBezTo>
                <a:cubicBezTo>
                  <a:pt x="7382" y="7650"/>
                  <a:pt x="7430" y="7695"/>
                  <a:pt x="7441" y="7739"/>
                </a:cubicBezTo>
                <a:cubicBezTo>
                  <a:pt x="7441" y="7784"/>
                  <a:pt x="7437" y="7797"/>
                  <a:pt x="7466" y="7813"/>
                </a:cubicBezTo>
                <a:cubicBezTo>
                  <a:pt x="7496" y="7774"/>
                  <a:pt x="7505" y="7730"/>
                  <a:pt x="7541" y="7689"/>
                </a:cubicBezTo>
                <a:cubicBezTo>
                  <a:pt x="7591" y="7633"/>
                  <a:pt x="7641" y="7685"/>
                  <a:pt x="7665" y="7739"/>
                </a:cubicBezTo>
                <a:cubicBezTo>
                  <a:pt x="7673" y="7764"/>
                  <a:pt x="7681" y="7788"/>
                  <a:pt x="7689" y="7813"/>
                </a:cubicBezTo>
              </a:path>
              <a:path w="3300" h="2159">
                <a:moveTo>
                  <a:pt x="6152" y="7913"/>
                </a:moveTo>
                <a:cubicBezTo>
                  <a:pt x="6144" y="7913"/>
                  <a:pt x="6135" y="7913"/>
                  <a:pt x="6127" y="7913"/>
                </a:cubicBezTo>
                <a:cubicBezTo>
                  <a:pt x="6115" y="7960"/>
                  <a:pt x="6071" y="7969"/>
                  <a:pt x="6052" y="8012"/>
                </a:cubicBezTo>
                <a:cubicBezTo>
                  <a:pt x="6052" y="8020"/>
                  <a:pt x="6052" y="8029"/>
                  <a:pt x="6052" y="8037"/>
                </a:cubicBezTo>
                <a:cubicBezTo>
                  <a:pt x="6010" y="8037"/>
                  <a:pt x="6015" y="8027"/>
                  <a:pt x="6003" y="8062"/>
                </a:cubicBezTo>
                <a:cubicBezTo>
                  <a:pt x="5973" y="8069"/>
                  <a:pt x="5958" y="8079"/>
                  <a:pt x="5928" y="8086"/>
                </a:cubicBezTo>
                <a:cubicBezTo>
                  <a:pt x="5916" y="8136"/>
                  <a:pt x="5905" y="8136"/>
                  <a:pt x="5854" y="8136"/>
                </a:cubicBezTo>
                <a:cubicBezTo>
                  <a:pt x="5842" y="8171"/>
                  <a:pt x="5847" y="8161"/>
                  <a:pt x="5804" y="8161"/>
                </a:cubicBezTo>
                <a:cubicBezTo>
                  <a:pt x="5791" y="8199"/>
                  <a:pt x="5775" y="8186"/>
                  <a:pt x="5730" y="8186"/>
                </a:cubicBezTo>
                <a:cubicBezTo>
                  <a:pt x="5646" y="8186"/>
                  <a:pt x="5578" y="8185"/>
                  <a:pt x="5507" y="8161"/>
                </a:cubicBezTo>
                <a:cubicBezTo>
                  <a:pt x="5473" y="8150"/>
                  <a:pt x="5436" y="8156"/>
                  <a:pt x="5407" y="8136"/>
                </a:cubicBezTo>
                <a:cubicBezTo>
                  <a:pt x="5387" y="8122"/>
                  <a:pt x="5317" y="8080"/>
                  <a:pt x="5308" y="8062"/>
                </a:cubicBezTo>
                <a:cubicBezTo>
                  <a:pt x="5308" y="8054"/>
                  <a:pt x="5308" y="8045"/>
                  <a:pt x="5308" y="8037"/>
                </a:cubicBezTo>
                <a:cubicBezTo>
                  <a:pt x="5269" y="8024"/>
                  <a:pt x="5298" y="8025"/>
                  <a:pt x="5259" y="8012"/>
                </a:cubicBezTo>
                <a:cubicBezTo>
                  <a:pt x="5246" y="7972"/>
                  <a:pt x="5247" y="8002"/>
                  <a:pt x="5234" y="7962"/>
                </a:cubicBezTo>
                <a:cubicBezTo>
                  <a:pt x="5200" y="7951"/>
                  <a:pt x="5211" y="7949"/>
                  <a:pt x="5184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67160" y="1509840"/>
            <a:ext cx="2035080" cy="1419120"/>
          </a:xfrm>
          <a:custGeom>
            <a:avLst/>
            <a:gdLst/>
            <a:ahLst/>
            <a:rect l="l" t="t" r="r" b="b"/>
            <a:pathLst>
              <a:path w="5657" h="3945">
                <a:moveTo>
                  <a:pt x="16743" y="6896"/>
                </a:moveTo>
                <a:cubicBezTo>
                  <a:pt x="16574" y="6725"/>
                  <a:pt x="16400" y="6556"/>
                  <a:pt x="16247" y="6375"/>
                </a:cubicBezTo>
                <a:cubicBezTo>
                  <a:pt x="16193" y="6312"/>
                  <a:pt x="16142" y="6266"/>
                  <a:pt x="16098" y="6201"/>
                </a:cubicBezTo>
                <a:cubicBezTo>
                  <a:pt x="16068" y="6156"/>
                  <a:pt x="16037" y="6117"/>
                  <a:pt x="15999" y="6077"/>
                </a:cubicBezTo>
                <a:cubicBezTo>
                  <a:pt x="15947" y="6022"/>
                  <a:pt x="15915" y="5967"/>
                  <a:pt x="15875" y="5904"/>
                </a:cubicBezTo>
                <a:cubicBezTo>
                  <a:pt x="15849" y="5862"/>
                  <a:pt x="15821" y="5819"/>
                  <a:pt x="15801" y="5779"/>
                </a:cubicBezTo>
                <a:cubicBezTo>
                  <a:pt x="15774" y="5725"/>
                  <a:pt x="15733" y="5703"/>
                  <a:pt x="15701" y="5655"/>
                </a:cubicBezTo>
                <a:cubicBezTo>
                  <a:pt x="15673" y="5615"/>
                  <a:pt x="15660" y="5549"/>
                  <a:pt x="15627" y="5507"/>
                </a:cubicBezTo>
                <a:cubicBezTo>
                  <a:pt x="15599" y="5471"/>
                  <a:pt x="15560" y="5440"/>
                  <a:pt x="15528" y="5407"/>
                </a:cubicBezTo>
              </a:path>
              <a:path w="5657" h="3945">
                <a:moveTo>
                  <a:pt x="15627" y="5556"/>
                </a:moveTo>
                <a:cubicBezTo>
                  <a:pt x="15605" y="5534"/>
                  <a:pt x="15596" y="5529"/>
                  <a:pt x="15602" y="5507"/>
                </a:cubicBezTo>
                <a:cubicBezTo>
                  <a:pt x="15572" y="5497"/>
                  <a:pt x="15561" y="5465"/>
                  <a:pt x="15528" y="5432"/>
                </a:cubicBezTo>
                <a:cubicBezTo>
                  <a:pt x="15499" y="5403"/>
                  <a:pt x="15487" y="5395"/>
                  <a:pt x="15478" y="5358"/>
                </a:cubicBezTo>
                <a:cubicBezTo>
                  <a:pt x="15438" y="5345"/>
                  <a:pt x="15453" y="5318"/>
                  <a:pt x="15429" y="5283"/>
                </a:cubicBezTo>
                <a:cubicBezTo>
                  <a:pt x="15403" y="5244"/>
                  <a:pt x="15401" y="5221"/>
                  <a:pt x="15354" y="5209"/>
                </a:cubicBezTo>
                <a:cubicBezTo>
                  <a:pt x="15343" y="5165"/>
                  <a:pt x="15314" y="5144"/>
                  <a:pt x="15280" y="5110"/>
                </a:cubicBezTo>
                <a:cubicBezTo>
                  <a:pt x="15254" y="5084"/>
                  <a:pt x="15232" y="5024"/>
                  <a:pt x="15205" y="5011"/>
                </a:cubicBezTo>
                <a:cubicBezTo>
                  <a:pt x="15169" y="4994"/>
                  <a:pt x="15167" y="5006"/>
                  <a:pt x="15156" y="4961"/>
                </a:cubicBezTo>
                <a:cubicBezTo>
                  <a:pt x="15147" y="4958"/>
                  <a:pt x="15087" y="4920"/>
                  <a:pt x="15081" y="4911"/>
                </a:cubicBezTo>
                <a:cubicBezTo>
                  <a:pt x="15081" y="4903"/>
                  <a:pt x="15081" y="4895"/>
                  <a:pt x="15081" y="4887"/>
                </a:cubicBezTo>
              </a:path>
              <a:path w="5657" h="3945">
                <a:moveTo>
                  <a:pt x="14982" y="4961"/>
                </a:moveTo>
                <a:cubicBezTo>
                  <a:pt x="14990" y="4961"/>
                  <a:pt x="14999" y="4961"/>
                  <a:pt x="15007" y="4961"/>
                </a:cubicBezTo>
                <a:cubicBezTo>
                  <a:pt x="14990" y="4969"/>
                  <a:pt x="14959" y="4985"/>
                  <a:pt x="14957" y="4986"/>
                </a:cubicBezTo>
                <a:cubicBezTo>
                  <a:pt x="14924" y="5007"/>
                  <a:pt x="14892" y="5028"/>
                  <a:pt x="14858" y="5060"/>
                </a:cubicBezTo>
                <a:cubicBezTo>
                  <a:pt x="14767" y="5145"/>
                  <a:pt x="14677" y="5229"/>
                  <a:pt x="14585" y="5308"/>
                </a:cubicBezTo>
                <a:cubicBezTo>
                  <a:pt x="14543" y="5344"/>
                  <a:pt x="14521" y="5391"/>
                  <a:pt x="14486" y="5432"/>
                </a:cubicBezTo>
                <a:cubicBezTo>
                  <a:pt x="14443" y="5482"/>
                  <a:pt x="14397" y="5525"/>
                  <a:pt x="14362" y="5581"/>
                </a:cubicBezTo>
                <a:cubicBezTo>
                  <a:pt x="14341" y="5615"/>
                  <a:pt x="14310" y="5666"/>
                  <a:pt x="14288" y="5705"/>
                </a:cubicBezTo>
                <a:cubicBezTo>
                  <a:pt x="14266" y="5744"/>
                  <a:pt x="14241" y="5766"/>
                  <a:pt x="14213" y="5804"/>
                </a:cubicBezTo>
                <a:cubicBezTo>
                  <a:pt x="14175" y="5855"/>
                  <a:pt x="14169" y="5899"/>
                  <a:pt x="14139" y="5953"/>
                </a:cubicBezTo>
                <a:cubicBezTo>
                  <a:pt x="14120" y="5988"/>
                  <a:pt x="14085" y="6050"/>
                  <a:pt x="14064" y="6077"/>
                </a:cubicBezTo>
                <a:cubicBezTo>
                  <a:pt x="14035" y="6114"/>
                  <a:pt x="14011" y="6138"/>
                  <a:pt x="13990" y="6176"/>
                </a:cubicBezTo>
                <a:cubicBezTo>
                  <a:pt x="13968" y="6215"/>
                  <a:pt x="13958" y="6258"/>
                  <a:pt x="13940" y="6300"/>
                </a:cubicBezTo>
                <a:cubicBezTo>
                  <a:pt x="13925" y="6335"/>
                  <a:pt x="13909" y="6365"/>
                  <a:pt x="13891" y="6400"/>
                </a:cubicBezTo>
                <a:cubicBezTo>
                  <a:pt x="13869" y="6444"/>
                  <a:pt x="13850" y="6450"/>
                  <a:pt x="13816" y="6474"/>
                </a:cubicBezTo>
                <a:cubicBezTo>
                  <a:pt x="13795" y="6516"/>
                  <a:pt x="13765" y="6556"/>
                  <a:pt x="13742" y="6598"/>
                </a:cubicBezTo>
                <a:cubicBezTo>
                  <a:pt x="13721" y="6637"/>
                  <a:pt x="13693" y="6658"/>
                  <a:pt x="13667" y="6697"/>
                </a:cubicBezTo>
                <a:cubicBezTo>
                  <a:pt x="13648" y="6726"/>
                  <a:pt x="13634" y="6784"/>
                  <a:pt x="13618" y="6821"/>
                </a:cubicBezTo>
                <a:cubicBezTo>
                  <a:pt x="13601" y="6860"/>
                  <a:pt x="13563" y="6882"/>
                  <a:pt x="13543" y="6921"/>
                </a:cubicBezTo>
                <a:cubicBezTo>
                  <a:pt x="13519" y="6967"/>
                  <a:pt x="13492" y="7025"/>
                  <a:pt x="13469" y="7069"/>
                </a:cubicBezTo>
                <a:cubicBezTo>
                  <a:pt x="13454" y="7098"/>
                  <a:pt x="13436" y="7145"/>
                  <a:pt x="13419" y="7169"/>
                </a:cubicBezTo>
                <a:cubicBezTo>
                  <a:pt x="13411" y="7177"/>
                  <a:pt x="13403" y="7185"/>
                  <a:pt x="13395" y="7193"/>
                </a:cubicBezTo>
              </a:path>
              <a:path w="5657" h="3945">
                <a:moveTo>
                  <a:pt x="16669" y="6921"/>
                </a:moveTo>
                <a:cubicBezTo>
                  <a:pt x="16635" y="6910"/>
                  <a:pt x="16605" y="6907"/>
                  <a:pt x="16570" y="6896"/>
                </a:cubicBezTo>
                <a:cubicBezTo>
                  <a:pt x="16534" y="6885"/>
                  <a:pt x="16504" y="6885"/>
                  <a:pt x="16470" y="6871"/>
                </a:cubicBezTo>
                <a:cubicBezTo>
                  <a:pt x="16416" y="6848"/>
                  <a:pt x="16401" y="6848"/>
                  <a:pt x="16346" y="6846"/>
                </a:cubicBezTo>
                <a:cubicBezTo>
                  <a:pt x="16293" y="6844"/>
                  <a:pt x="16237" y="6825"/>
                  <a:pt x="16197" y="6821"/>
                </a:cubicBezTo>
                <a:cubicBezTo>
                  <a:pt x="16125" y="6813"/>
                  <a:pt x="16087" y="6838"/>
                  <a:pt x="16024" y="6846"/>
                </a:cubicBezTo>
                <a:cubicBezTo>
                  <a:pt x="15803" y="6873"/>
                  <a:pt x="15570" y="6844"/>
                  <a:pt x="15354" y="6871"/>
                </a:cubicBezTo>
                <a:cubicBezTo>
                  <a:pt x="15231" y="6886"/>
                  <a:pt x="15100" y="6881"/>
                  <a:pt x="14982" y="6896"/>
                </a:cubicBezTo>
                <a:cubicBezTo>
                  <a:pt x="14929" y="6903"/>
                  <a:pt x="14849" y="6917"/>
                  <a:pt x="14808" y="6921"/>
                </a:cubicBezTo>
                <a:cubicBezTo>
                  <a:pt x="14734" y="6928"/>
                  <a:pt x="14681" y="6926"/>
                  <a:pt x="14610" y="6945"/>
                </a:cubicBezTo>
                <a:cubicBezTo>
                  <a:pt x="14536" y="6965"/>
                  <a:pt x="14463" y="6958"/>
                  <a:pt x="14387" y="6970"/>
                </a:cubicBezTo>
                <a:cubicBezTo>
                  <a:pt x="14317" y="6981"/>
                  <a:pt x="14261" y="6993"/>
                  <a:pt x="14188" y="6995"/>
                </a:cubicBezTo>
                <a:cubicBezTo>
                  <a:pt x="14123" y="6997"/>
                  <a:pt x="14075" y="7014"/>
                  <a:pt x="14015" y="7020"/>
                </a:cubicBezTo>
                <a:cubicBezTo>
                  <a:pt x="13926" y="7030"/>
                  <a:pt x="13819" y="7036"/>
                  <a:pt x="13742" y="7045"/>
                </a:cubicBezTo>
                <a:cubicBezTo>
                  <a:pt x="13689" y="7051"/>
                  <a:pt x="13644" y="7063"/>
                  <a:pt x="13593" y="7069"/>
                </a:cubicBezTo>
                <a:cubicBezTo>
                  <a:pt x="13537" y="7075"/>
                  <a:pt x="13476" y="7069"/>
                  <a:pt x="13419" y="7069"/>
                </a:cubicBezTo>
              </a:path>
              <a:path w="5657" h="3945">
                <a:moveTo>
                  <a:pt x="16173" y="5283"/>
                </a:moveTo>
                <a:cubicBezTo>
                  <a:pt x="16185" y="5332"/>
                  <a:pt x="16210" y="5372"/>
                  <a:pt x="16197" y="5432"/>
                </a:cubicBezTo>
                <a:cubicBezTo>
                  <a:pt x="16182" y="5506"/>
                  <a:pt x="16173" y="5556"/>
                  <a:pt x="16173" y="5631"/>
                </a:cubicBezTo>
                <a:cubicBezTo>
                  <a:pt x="16173" y="5664"/>
                  <a:pt x="16173" y="5697"/>
                  <a:pt x="16173" y="5730"/>
                </a:cubicBezTo>
                <a:cubicBezTo>
                  <a:pt x="16224" y="5730"/>
                  <a:pt x="16257" y="5738"/>
                  <a:pt x="16297" y="5705"/>
                </a:cubicBezTo>
                <a:cubicBezTo>
                  <a:pt x="16334" y="5675"/>
                  <a:pt x="16348" y="5680"/>
                  <a:pt x="16396" y="5680"/>
                </a:cubicBezTo>
                <a:cubicBezTo>
                  <a:pt x="16442" y="5680"/>
                  <a:pt x="16454" y="5660"/>
                  <a:pt x="16495" y="5655"/>
                </a:cubicBezTo>
                <a:cubicBezTo>
                  <a:pt x="16510" y="5653"/>
                  <a:pt x="16604" y="5680"/>
                  <a:pt x="16545" y="5680"/>
                </a:cubicBezTo>
              </a:path>
              <a:path w="5657" h="3945">
                <a:moveTo>
                  <a:pt x="16421" y="5556"/>
                </a:moveTo>
                <a:cubicBezTo>
                  <a:pt x="16421" y="5500"/>
                  <a:pt x="16397" y="5587"/>
                  <a:pt x="16396" y="5606"/>
                </a:cubicBezTo>
                <a:cubicBezTo>
                  <a:pt x="16391" y="5678"/>
                  <a:pt x="16382" y="5737"/>
                  <a:pt x="16371" y="5804"/>
                </a:cubicBezTo>
                <a:cubicBezTo>
                  <a:pt x="16363" y="5851"/>
                  <a:pt x="16371" y="5905"/>
                  <a:pt x="16371" y="5953"/>
                </a:cubicBezTo>
              </a:path>
              <a:path w="5657" h="3945">
                <a:moveTo>
                  <a:pt x="14957" y="7218"/>
                </a:moveTo>
                <a:cubicBezTo>
                  <a:pt x="14957" y="7202"/>
                  <a:pt x="14957" y="7185"/>
                  <a:pt x="14957" y="7169"/>
                </a:cubicBezTo>
                <a:cubicBezTo>
                  <a:pt x="14985" y="7183"/>
                  <a:pt x="14957" y="7191"/>
                  <a:pt x="14957" y="7243"/>
                </a:cubicBezTo>
                <a:cubicBezTo>
                  <a:pt x="14957" y="7277"/>
                  <a:pt x="14911" y="7304"/>
                  <a:pt x="14932" y="7342"/>
                </a:cubicBezTo>
                <a:cubicBezTo>
                  <a:pt x="14955" y="7382"/>
                  <a:pt x="15018" y="7367"/>
                  <a:pt x="15056" y="7367"/>
                </a:cubicBezTo>
                <a:cubicBezTo>
                  <a:pt x="15109" y="7367"/>
                  <a:pt x="15194" y="7399"/>
                  <a:pt x="15230" y="7441"/>
                </a:cubicBezTo>
                <a:cubicBezTo>
                  <a:pt x="15255" y="7470"/>
                  <a:pt x="15277" y="7542"/>
                  <a:pt x="15230" y="7565"/>
                </a:cubicBezTo>
                <a:cubicBezTo>
                  <a:pt x="15198" y="7580"/>
                  <a:pt x="15116" y="7588"/>
                  <a:pt x="15081" y="7590"/>
                </a:cubicBezTo>
                <a:cubicBezTo>
                  <a:pt x="15025" y="7593"/>
                  <a:pt x="14998" y="7596"/>
                  <a:pt x="14957" y="7565"/>
                </a:cubicBezTo>
              </a:path>
              <a:path w="5657" h="3945">
                <a:moveTo>
                  <a:pt x="15304" y="7144"/>
                </a:moveTo>
                <a:cubicBezTo>
                  <a:pt x="15337" y="7144"/>
                  <a:pt x="15409" y="7134"/>
                  <a:pt x="15379" y="7119"/>
                </a:cubicBezTo>
                <a:cubicBezTo>
                  <a:pt x="15309" y="7084"/>
                  <a:pt x="15137" y="7119"/>
                  <a:pt x="15056" y="7119"/>
                </a:cubicBezTo>
              </a:path>
              <a:path w="5657" h="3945">
                <a:moveTo>
                  <a:pt x="13345" y="5482"/>
                </a:moveTo>
                <a:cubicBezTo>
                  <a:pt x="13370" y="5482"/>
                  <a:pt x="13378" y="5482"/>
                  <a:pt x="13370" y="5457"/>
                </a:cubicBezTo>
                <a:cubicBezTo>
                  <a:pt x="13370" y="5575"/>
                  <a:pt x="13360" y="5701"/>
                  <a:pt x="13395" y="5804"/>
                </a:cubicBezTo>
                <a:cubicBezTo>
                  <a:pt x="13406" y="5837"/>
                  <a:pt x="13448" y="5844"/>
                  <a:pt x="13494" y="5829"/>
                </a:cubicBezTo>
                <a:cubicBezTo>
                  <a:pt x="13541" y="5813"/>
                  <a:pt x="13602" y="5787"/>
                  <a:pt x="13643" y="5779"/>
                </a:cubicBezTo>
                <a:cubicBezTo>
                  <a:pt x="13700" y="5767"/>
                  <a:pt x="13729" y="5755"/>
                  <a:pt x="13791" y="5755"/>
                </a:cubicBezTo>
                <a:cubicBezTo>
                  <a:pt x="13799" y="5755"/>
                  <a:pt x="13808" y="5755"/>
                  <a:pt x="13816" y="5755"/>
                </a:cubicBezTo>
              </a:path>
              <a:path w="5657" h="3945">
                <a:moveTo>
                  <a:pt x="13568" y="5680"/>
                </a:moveTo>
                <a:cubicBezTo>
                  <a:pt x="13568" y="5769"/>
                  <a:pt x="13580" y="5846"/>
                  <a:pt x="13593" y="5928"/>
                </a:cubicBezTo>
                <a:cubicBezTo>
                  <a:pt x="13600" y="5975"/>
                  <a:pt x="13593" y="6029"/>
                  <a:pt x="13593" y="6077"/>
                </a:cubicBezTo>
              </a:path>
              <a:path w="5657" h="3945">
                <a:moveTo>
                  <a:pt x="15453" y="5358"/>
                </a:moveTo>
                <a:cubicBezTo>
                  <a:pt x="15453" y="5366"/>
                  <a:pt x="15453" y="5375"/>
                  <a:pt x="15453" y="5383"/>
                </a:cubicBezTo>
                <a:cubicBezTo>
                  <a:pt x="15414" y="5396"/>
                  <a:pt x="15444" y="5394"/>
                  <a:pt x="15404" y="5407"/>
                </a:cubicBezTo>
                <a:cubicBezTo>
                  <a:pt x="15393" y="5439"/>
                  <a:pt x="15370" y="5447"/>
                  <a:pt x="15329" y="5457"/>
                </a:cubicBezTo>
                <a:cubicBezTo>
                  <a:pt x="15311" y="5511"/>
                  <a:pt x="15298" y="5458"/>
                  <a:pt x="15255" y="5482"/>
                </a:cubicBezTo>
                <a:cubicBezTo>
                  <a:pt x="15220" y="5501"/>
                  <a:pt x="15198" y="5526"/>
                  <a:pt x="15156" y="5531"/>
                </a:cubicBezTo>
                <a:cubicBezTo>
                  <a:pt x="15018" y="5546"/>
                  <a:pt x="14831" y="5546"/>
                  <a:pt x="14709" y="5507"/>
                </a:cubicBezTo>
                <a:cubicBezTo>
                  <a:pt x="14670" y="5494"/>
                  <a:pt x="14670" y="5499"/>
                  <a:pt x="14660" y="5457"/>
                </a:cubicBezTo>
                <a:cubicBezTo>
                  <a:pt x="14630" y="5450"/>
                  <a:pt x="14615" y="5439"/>
                  <a:pt x="14585" y="5432"/>
                </a:cubicBezTo>
                <a:cubicBezTo>
                  <a:pt x="14585" y="5407"/>
                  <a:pt x="14585" y="5399"/>
                  <a:pt x="14560" y="5407"/>
                </a:cubicBezTo>
              </a:path>
              <a:path w="5657" h="3945">
                <a:moveTo>
                  <a:pt x="14932" y="5705"/>
                </a:moveTo>
                <a:cubicBezTo>
                  <a:pt x="14972" y="5705"/>
                  <a:pt x="15059" y="5686"/>
                  <a:pt x="15081" y="5730"/>
                </a:cubicBezTo>
                <a:cubicBezTo>
                  <a:pt x="15094" y="5756"/>
                  <a:pt x="15104" y="5785"/>
                  <a:pt x="15106" y="5804"/>
                </a:cubicBezTo>
                <a:cubicBezTo>
                  <a:pt x="15110" y="5836"/>
                  <a:pt x="15106" y="5872"/>
                  <a:pt x="15106" y="5904"/>
                </a:cubicBezTo>
                <a:cubicBezTo>
                  <a:pt x="15039" y="5904"/>
                  <a:pt x="14991" y="5896"/>
                  <a:pt x="14957" y="5879"/>
                </a:cubicBezTo>
                <a:cubicBezTo>
                  <a:pt x="14930" y="5865"/>
                  <a:pt x="14913" y="5848"/>
                  <a:pt x="14908" y="5804"/>
                </a:cubicBezTo>
                <a:cubicBezTo>
                  <a:pt x="14905" y="5774"/>
                  <a:pt x="14918" y="5737"/>
                  <a:pt x="14932" y="5730"/>
                </a:cubicBezTo>
                <a:cubicBezTo>
                  <a:pt x="14957" y="5718"/>
                  <a:pt x="14967" y="5688"/>
                  <a:pt x="14982" y="5680"/>
                </a:cubicBezTo>
                <a:cubicBezTo>
                  <a:pt x="15030" y="5656"/>
                  <a:pt x="15096" y="5693"/>
                  <a:pt x="15131" y="5705"/>
                </a:cubicBezTo>
                <a:cubicBezTo>
                  <a:pt x="15157" y="5714"/>
                  <a:pt x="15215" y="5725"/>
                  <a:pt x="15230" y="5755"/>
                </a:cubicBezTo>
                <a:cubicBezTo>
                  <a:pt x="15243" y="5781"/>
                  <a:pt x="15271" y="5826"/>
                  <a:pt x="15280" y="5854"/>
                </a:cubicBezTo>
                <a:cubicBezTo>
                  <a:pt x="15292" y="5890"/>
                  <a:pt x="15304" y="5911"/>
                  <a:pt x="15304" y="5953"/>
                </a:cubicBezTo>
                <a:cubicBezTo>
                  <a:pt x="15304" y="6022"/>
                  <a:pt x="15299" y="6069"/>
                  <a:pt x="15280" y="6127"/>
                </a:cubicBezTo>
                <a:cubicBezTo>
                  <a:pt x="15271" y="6154"/>
                  <a:pt x="15261" y="6172"/>
                  <a:pt x="15230" y="6176"/>
                </a:cubicBezTo>
                <a:cubicBezTo>
                  <a:pt x="15179" y="6182"/>
                  <a:pt x="15193" y="6196"/>
                  <a:pt x="15156" y="6201"/>
                </a:cubicBezTo>
                <a:cubicBezTo>
                  <a:pt x="15100" y="6208"/>
                  <a:pt x="15076" y="6191"/>
                  <a:pt x="15032" y="6176"/>
                </a:cubicBezTo>
                <a:cubicBezTo>
                  <a:pt x="14990" y="6162"/>
                  <a:pt x="14942" y="6132"/>
                  <a:pt x="14908" y="6102"/>
                </a:cubicBezTo>
                <a:cubicBezTo>
                  <a:pt x="14863" y="6062"/>
                  <a:pt x="14880" y="6043"/>
                  <a:pt x="14858" y="6003"/>
                </a:cubicBezTo>
                <a:cubicBezTo>
                  <a:pt x="14838" y="5968"/>
                  <a:pt x="14813" y="5945"/>
                  <a:pt x="14808" y="5904"/>
                </a:cubicBezTo>
                <a:cubicBezTo>
                  <a:pt x="14802" y="5852"/>
                  <a:pt x="14823" y="5839"/>
                  <a:pt x="14858" y="5804"/>
                </a:cubicBezTo>
                <a:cubicBezTo>
                  <a:pt x="14866" y="5796"/>
                  <a:pt x="14875" y="5787"/>
                  <a:pt x="14883" y="5779"/>
                </a:cubicBezTo>
              </a:path>
              <a:path w="5657" h="3945">
                <a:moveTo>
                  <a:pt x="15081" y="4266"/>
                </a:moveTo>
                <a:cubicBezTo>
                  <a:pt x="15081" y="4224"/>
                  <a:pt x="15075" y="4207"/>
                  <a:pt x="15032" y="4192"/>
                </a:cubicBezTo>
                <a:cubicBezTo>
                  <a:pt x="14994" y="4179"/>
                  <a:pt x="14957" y="4194"/>
                  <a:pt x="14932" y="4217"/>
                </a:cubicBezTo>
                <a:cubicBezTo>
                  <a:pt x="14899" y="4247"/>
                  <a:pt x="14833" y="4287"/>
                  <a:pt x="14808" y="4316"/>
                </a:cubicBezTo>
                <a:cubicBezTo>
                  <a:pt x="14770" y="4361"/>
                  <a:pt x="14739" y="4410"/>
                  <a:pt x="14734" y="4465"/>
                </a:cubicBezTo>
                <a:cubicBezTo>
                  <a:pt x="14729" y="4527"/>
                  <a:pt x="14742" y="4565"/>
                  <a:pt x="14759" y="4614"/>
                </a:cubicBezTo>
                <a:cubicBezTo>
                  <a:pt x="14770" y="4647"/>
                  <a:pt x="14811" y="4658"/>
                  <a:pt x="14858" y="4663"/>
                </a:cubicBezTo>
                <a:cubicBezTo>
                  <a:pt x="14913" y="4669"/>
                  <a:pt x="14906" y="4709"/>
                  <a:pt x="14957" y="4663"/>
                </a:cubicBezTo>
                <a:cubicBezTo>
                  <a:pt x="14987" y="4636"/>
                  <a:pt x="15044" y="4581"/>
                  <a:pt x="15081" y="4564"/>
                </a:cubicBezTo>
                <a:cubicBezTo>
                  <a:pt x="15116" y="4564"/>
                  <a:pt x="15134" y="4559"/>
                  <a:pt x="15156" y="4539"/>
                </a:cubicBezTo>
              </a:path>
              <a:path w="5657" h="3945">
                <a:moveTo>
                  <a:pt x="15553" y="7938"/>
                </a:moveTo>
                <a:cubicBezTo>
                  <a:pt x="15561" y="7930"/>
                  <a:pt x="15569" y="7921"/>
                  <a:pt x="15577" y="7913"/>
                </a:cubicBezTo>
                <a:cubicBezTo>
                  <a:pt x="15529" y="7913"/>
                  <a:pt x="15484" y="7919"/>
                  <a:pt x="15453" y="7962"/>
                </a:cubicBezTo>
                <a:cubicBezTo>
                  <a:pt x="15402" y="8034"/>
                  <a:pt x="15439" y="8073"/>
                  <a:pt x="15503" y="8111"/>
                </a:cubicBezTo>
                <a:cubicBezTo>
                  <a:pt x="15565" y="8148"/>
                  <a:pt x="15631" y="8136"/>
                  <a:pt x="15701" y="8136"/>
                </a:cubicBezTo>
              </a:path>
              <a:path w="5657" h="3945">
                <a:moveTo>
                  <a:pt x="17611" y="5432"/>
                </a:moveTo>
                <a:cubicBezTo>
                  <a:pt x="17598" y="5391"/>
                  <a:pt x="17571" y="5400"/>
                  <a:pt x="17537" y="5432"/>
                </a:cubicBezTo>
                <a:cubicBezTo>
                  <a:pt x="17500" y="5466"/>
                  <a:pt x="17415" y="5571"/>
                  <a:pt x="17462" y="5631"/>
                </a:cubicBezTo>
                <a:cubicBezTo>
                  <a:pt x="17513" y="5697"/>
                  <a:pt x="17575" y="5690"/>
                  <a:pt x="17611" y="5631"/>
                </a:cubicBezTo>
                <a:cubicBezTo>
                  <a:pt x="17637" y="5589"/>
                  <a:pt x="17652" y="5529"/>
                  <a:pt x="17661" y="5482"/>
                </a:cubicBezTo>
                <a:cubicBezTo>
                  <a:pt x="17685" y="5490"/>
                  <a:pt x="17737" y="5548"/>
                  <a:pt x="17760" y="5581"/>
                </a:cubicBezTo>
                <a:cubicBezTo>
                  <a:pt x="17768" y="5598"/>
                  <a:pt x="17777" y="5614"/>
                  <a:pt x="17785" y="5631"/>
                </a:cubicBezTo>
              </a:path>
              <a:path w="5657" h="3945">
                <a:moveTo>
                  <a:pt x="12154" y="5308"/>
                </a:moveTo>
                <a:cubicBezTo>
                  <a:pt x="12154" y="5283"/>
                  <a:pt x="12154" y="5275"/>
                  <a:pt x="12154" y="5259"/>
                </a:cubicBezTo>
                <a:cubicBezTo>
                  <a:pt x="12140" y="5327"/>
                  <a:pt x="12129" y="5358"/>
                  <a:pt x="12129" y="5432"/>
                </a:cubicBezTo>
                <a:cubicBezTo>
                  <a:pt x="12129" y="5536"/>
                  <a:pt x="12165" y="5629"/>
                  <a:pt x="12179" y="5730"/>
                </a:cubicBezTo>
                <a:cubicBezTo>
                  <a:pt x="12188" y="5794"/>
                  <a:pt x="12168" y="5781"/>
                  <a:pt x="12204" y="5829"/>
                </a:cubicBezTo>
                <a:cubicBezTo>
                  <a:pt x="12216" y="5767"/>
                  <a:pt x="12238" y="5727"/>
                  <a:pt x="12303" y="5705"/>
                </a:cubicBezTo>
                <a:cubicBezTo>
                  <a:pt x="12355" y="5687"/>
                  <a:pt x="12439" y="5759"/>
                  <a:pt x="12452" y="5804"/>
                </a:cubicBezTo>
                <a:cubicBezTo>
                  <a:pt x="12452" y="5846"/>
                  <a:pt x="12452" y="5854"/>
                  <a:pt x="12452" y="5879"/>
                </a:cubicBezTo>
                <a:cubicBezTo>
                  <a:pt x="12378" y="5879"/>
                  <a:pt x="12323" y="5880"/>
                  <a:pt x="12254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1120" y="2955960"/>
            <a:ext cx="1260720" cy="276120"/>
          </a:xfrm>
          <a:custGeom>
            <a:avLst/>
            <a:gdLst/>
            <a:ahLst/>
            <a:rect l="l" t="t" r="r" b="b"/>
            <a:pathLst>
              <a:path w="3499" h="770">
                <a:moveTo>
                  <a:pt x="20067" y="8607"/>
                </a:moveTo>
                <a:cubicBezTo>
                  <a:pt x="20079" y="8642"/>
                  <a:pt x="20074" y="8632"/>
                  <a:pt x="20117" y="8632"/>
                </a:cubicBezTo>
                <a:cubicBezTo>
                  <a:pt x="20164" y="8608"/>
                  <a:pt x="20096" y="8597"/>
                  <a:pt x="20067" y="8607"/>
                </a:cubicBezTo>
                <a:cubicBezTo>
                  <a:pt x="19970" y="8642"/>
                  <a:pt x="19910" y="8734"/>
                  <a:pt x="19893" y="8830"/>
                </a:cubicBezTo>
                <a:cubicBezTo>
                  <a:pt x="19877" y="8921"/>
                  <a:pt x="19906" y="8935"/>
                  <a:pt x="19968" y="8979"/>
                </a:cubicBezTo>
                <a:cubicBezTo>
                  <a:pt x="20022" y="8940"/>
                  <a:pt x="20097" y="8877"/>
                  <a:pt x="20117" y="8806"/>
                </a:cubicBezTo>
                <a:cubicBezTo>
                  <a:pt x="20117" y="8765"/>
                  <a:pt x="20108" y="8748"/>
                  <a:pt x="20141" y="8756"/>
                </a:cubicBezTo>
                <a:cubicBezTo>
                  <a:pt x="20174" y="8810"/>
                  <a:pt x="20171" y="8869"/>
                  <a:pt x="20191" y="8930"/>
                </a:cubicBezTo>
                <a:cubicBezTo>
                  <a:pt x="20199" y="8946"/>
                  <a:pt x="20208" y="8963"/>
                  <a:pt x="20216" y="8979"/>
                </a:cubicBezTo>
              </a:path>
              <a:path w="3499" h="770">
                <a:moveTo>
                  <a:pt x="20389" y="8409"/>
                </a:moveTo>
                <a:cubicBezTo>
                  <a:pt x="20381" y="8401"/>
                  <a:pt x="20373" y="8392"/>
                  <a:pt x="20365" y="8384"/>
                </a:cubicBezTo>
                <a:cubicBezTo>
                  <a:pt x="20400" y="8372"/>
                  <a:pt x="20405" y="8359"/>
                  <a:pt x="20464" y="8359"/>
                </a:cubicBezTo>
                <a:cubicBezTo>
                  <a:pt x="20517" y="8359"/>
                  <a:pt x="20513" y="8392"/>
                  <a:pt x="20513" y="8434"/>
                </a:cubicBezTo>
                <a:cubicBezTo>
                  <a:pt x="20513" y="8498"/>
                  <a:pt x="20483" y="8515"/>
                  <a:pt x="20439" y="8558"/>
                </a:cubicBezTo>
                <a:cubicBezTo>
                  <a:pt x="20431" y="8566"/>
                  <a:pt x="20422" y="8574"/>
                  <a:pt x="20414" y="8582"/>
                </a:cubicBezTo>
                <a:cubicBezTo>
                  <a:pt x="20450" y="8609"/>
                  <a:pt x="20515" y="8626"/>
                  <a:pt x="20563" y="8607"/>
                </a:cubicBezTo>
                <a:cubicBezTo>
                  <a:pt x="20593" y="8577"/>
                  <a:pt x="20607" y="8566"/>
                  <a:pt x="20638" y="8558"/>
                </a:cubicBezTo>
              </a:path>
              <a:path w="3499" h="770">
                <a:moveTo>
                  <a:pt x="21034" y="8706"/>
                </a:moveTo>
                <a:cubicBezTo>
                  <a:pt x="21059" y="8706"/>
                  <a:pt x="21067" y="8706"/>
                  <a:pt x="21084" y="8706"/>
                </a:cubicBezTo>
                <a:cubicBezTo>
                  <a:pt x="21020" y="8706"/>
                  <a:pt x="20973" y="8685"/>
                  <a:pt x="20910" y="8682"/>
                </a:cubicBezTo>
                <a:cubicBezTo>
                  <a:pt x="20861" y="8679"/>
                  <a:pt x="20811" y="8682"/>
                  <a:pt x="20762" y="8682"/>
                </a:cubicBezTo>
              </a:path>
              <a:path w="3499" h="770">
                <a:moveTo>
                  <a:pt x="20836" y="8632"/>
                </a:moveTo>
                <a:cubicBezTo>
                  <a:pt x="20853" y="8615"/>
                  <a:pt x="20869" y="8599"/>
                  <a:pt x="20886" y="8582"/>
                </a:cubicBezTo>
                <a:cubicBezTo>
                  <a:pt x="20886" y="8690"/>
                  <a:pt x="20886" y="8797"/>
                  <a:pt x="20886" y="8905"/>
                </a:cubicBezTo>
              </a:path>
              <a:path w="3499" h="770">
                <a:moveTo>
                  <a:pt x="21258" y="8434"/>
                </a:moveTo>
                <a:cubicBezTo>
                  <a:pt x="21258" y="8365"/>
                  <a:pt x="21261" y="8520"/>
                  <a:pt x="21258" y="8533"/>
                </a:cubicBezTo>
                <a:cubicBezTo>
                  <a:pt x="21233" y="8645"/>
                  <a:pt x="21178" y="8714"/>
                  <a:pt x="21233" y="8830"/>
                </a:cubicBezTo>
                <a:cubicBezTo>
                  <a:pt x="21268" y="8905"/>
                  <a:pt x="21311" y="8864"/>
                  <a:pt x="21357" y="8855"/>
                </a:cubicBezTo>
                <a:cubicBezTo>
                  <a:pt x="21417" y="8843"/>
                  <a:pt x="21460" y="8847"/>
                  <a:pt x="21481" y="8905"/>
                </a:cubicBezTo>
                <a:cubicBezTo>
                  <a:pt x="21504" y="8967"/>
                  <a:pt x="21451" y="8976"/>
                  <a:pt x="21406" y="8979"/>
                </a:cubicBezTo>
                <a:cubicBezTo>
                  <a:pt x="21348" y="8982"/>
                  <a:pt x="21345" y="8967"/>
                  <a:pt x="21307" y="8930"/>
                </a:cubicBezTo>
              </a:path>
              <a:path w="3499" h="770">
                <a:moveTo>
                  <a:pt x="21704" y="8434"/>
                </a:moveTo>
                <a:cubicBezTo>
                  <a:pt x="21719" y="8375"/>
                  <a:pt x="21742" y="8364"/>
                  <a:pt x="21803" y="8359"/>
                </a:cubicBezTo>
                <a:cubicBezTo>
                  <a:pt x="21857" y="8354"/>
                  <a:pt x="21875" y="8444"/>
                  <a:pt x="21878" y="8483"/>
                </a:cubicBezTo>
                <a:cubicBezTo>
                  <a:pt x="21883" y="8539"/>
                  <a:pt x="21838" y="8571"/>
                  <a:pt x="21803" y="8607"/>
                </a:cubicBezTo>
                <a:cubicBezTo>
                  <a:pt x="21781" y="8630"/>
                  <a:pt x="21773" y="8635"/>
                  <a:pt x="21779" y="8657"/>
                </a:cubicBezTo>
                <a:cubicBezTo>
                  <a:pt x="21837" y="8657"/>
                  <a:pt x="21856" y="8626"/>
                  <a:pt x="21903" y="8607"/>
                </a:cubicBezTo>
                <a:cubicBezTo>
                  <a:pt x="21931" y="8607"/>
                  <a:pt x="21941" y="8604"/>
                  <a:pt x="21952" y="8582"/>
                </a:cubicBezTo>
              </a:path>
              <a:path w="3499" h="770">
                <a:moveTo>
                  <a:pt x="22175" y="8806"/>
                </a:moveTo>
                <a:cubicBezTo>
                  <a:pt x="22167" y="8806"/>
                  <a:pt x="22159" y="8806"/>
                  <a:pt x="22151" y="8806"/>
                </a:cubicBezTo>
                <a:cubicBezTo>
                  <a:pt x="22162" y="8771"/>
                  <a:pt x="22205" y="8755"/>
                  <a:pt x="22250" y="8731"/>
                </a:cubicBezTo>
                <a:cubicBezTo>
                  <a:pt x="22300" y="8704"/>
                  <a:pt x="22346" y="8701"/>
                  <a:pt x="22399" y="8682"/>
                </a:cubicBezTo>
              </a:path>
              <a:path w="3499" h="770">
                <a:moveTo>
                  <a:pt x="22671" y="8582"/>
                </a:moveTo>
                <a:cubicBezTo>
                  <a:pt x="22712" y="8541"/>
                  <a:pt x="22734" y="8531"/>
                  <a:pt x="22746" y="8483"/>
                </a:cubicBezTo>
                <a:cubicBezTo>
                  <a:pt x="22681" y="8483"/>
                  <a:pt x="22651" y="8494"/>
                  <a:pt x="22622" y="8558"/>
                </a:cubicBezTo>
                <a:cubicBezTo>
                  <a:pt x="22580" y="8650"/>
                  <a:pt x="22589" y="8739"/>
                  <a:pt x="22671" y="8806"/>
                </a:cubicBezTo>
                <a:cubicBezTo>
                  <a:pt x="22735" y="8858"/>
                  <a:pt x="22829" y="8827"/>
                  <a:pt x="22895" y="8806"/>
                </a:cubicBezTo>
              </a:path>
              <a:path w="3499" h="770">
                <a:moveTo>
                  <a:pt x="23118" y="8359"/>
                </a:moveTo>
                <a:cubicBezTo>
                  <a:pt x="23118" y="8323"/>
                  <a:pt x="23125" y="8287"/>
                  <a:pt x="23143" y="8260"/>
                </a:cubicBezTo>
                <a:cubicBezTo>
                  <a:pt x="23161" y="8234"/>
                  <a:pt x="23213" y="8213"/>
                  <a:pt x="23242" y="8210"/>
                </a:cubicBezTo>
                <a:cubicBezTo>
                  <a:pt x="23320" y="8201"/>
                  <a:pt x="23285" y="8276"/>
                  <a:pt x="23267" y="8310"/>
                </a:cubicBezTo>
                <a:cubicBezTo>
                  <a:pt x="23225" y="8388"/>
                  <a:pt x="23192" y="8365"/>
                  <a:pt x="23192" y="8458"/>
                </a:cubicBezTo>
                <a:cubicBezTo>
                  <a:pt x="23192" y="8521"/>
                  <a:pt x="23272" y="8508"/>
                  <a:pt x="23316" y="8508"/>
                </a:cubicBezTo>
                <a:cubicBezTo>
                  <a:pt x="23341" y="8508"/>
                  <a:pt x="23366" y="8508"/>
                  <a:pt x="23391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59280" y="3232080"/>
            <a:ext cx="2733840" cy="339840"/>
          </a:xfrm>
          <a:custGeom>
            <a:avLst/>
            <a:gdLst/>
            <a:ahLst/>
            <a:rect l="l" t="t" r="r" b="b"/>
            <a:pathLst>
              <a:path w="7591" h="944">
                <a:moveTo>
                  <a:pt x="16173" y="9475"/>
                </a:moveTo>
                <a:cubicBezTo>
                  <a:pt x="16181" y="9475"/>
                  <a:pt x="16189" y="9475"/>
                  <a:pt x="16197" y="9475"/>
                </a:cubicBezTo>
                <a:cubicBezTo>
                  <a:pt x="16197" y="9438"/>
                  <a:pt x="16198" y="9408"/>
                  <a:pt x="16148" y="9426"/>
                </a:cubicBezTo>
                <a:cubicBezTo>
                  <a:pt x="16079" y="9451"/>
                  <a:pt x="16014" y="9528"/>
                  <a:pt x="15999" y="9599"/>
                </a:cubicBezTo>
                <a:cubicBezTo>
                  <a:pt x="15978" y="9701"/>
                  <a:pt x="16008" y="9762"/>
                  <a:pt x="16073" y="9823"/>
                </a:cubicBezTo>
                <a:cubicBezTo>
                  <a:pt x="16142" y="9887"/>
                  <a:pt x="16167" y="9882"/>
                  <a:pt x="16247" y="9847"/>
                </a:cubicBezTo>
              </a:path>
              <a:path w="7591" h="944">
                <a:moveTo>
                  <a:pt x="16421" y="9699"/>
                </a:moveTo>
                <a:cubicBezTo>
                  <a:pt x="16392" y="9689"/>
                  <a:pt x="16376" y="9665"/>
                  <a:pt x="16371" y="9624"/>
                </a:cubicBezTo>
                <a:cubicBezTo>
                  <a:pt x="16364" y="9561"/>
                  <a:pt x="16428" y="9575"/>
                  <a:pt x="16470" y="9575"/>
                </a:cubicBezTo>
                <a:cubicBezTo>
                  <a:pt x="16568" y="9575"/>
                  <a:pt x="16601" y="9627"/>
                  <a:pt x="16619" y="9723"/>
                </a:cubicBezTo>
                <a:cubicBezTo>
                  <a:pt x="16632" y="9789"/>
                  <a:pt x="16615" y="9853"/>
                  <a:pt x="16545" y="9872"/>
                </a:cubicBezTo>
                <a:cubicBezTo>
                  <a:pt x="16464" y="9894"/>
                  <a:pt x="16436" y="9823"/>
                  <a:pt x="16396" y="9773"/>
                </a:cubicBezTo>
              </a:path>
              <a:path w="7591" h="944">
                <a:moveTo>
                  <a:pt x="16892" y="9525"/>
                </a:moveTo>
                <a:cubicBezTo>
                  <a:pt x="16930" y="9503"/>
                  <a:pt x="16954" y="9484"/>
                  <a:pt x="16991" y="9475"/>
                </a:cubicBezTo>
                <a:cubicBezTo>
                  <a:pt x="16935" y="9486"/>
                  <a:pt x="16885" y="9510"/>
                  <a:pt x="16842" y="9550"/>
                </a:cubicBezTo>
                <a:cubicBezTo>
                  <a:pt x="16783" y="9604"/>
                  <a:pt x="16840" y="9663"/>
                  <a:pt x="16892" y="9699"/>
                </a:cubicBezTo>
                <a:cubicBezTo>
                  <a:pt x="16961" y="9747"/>
                  <a:pt x="17046" y="9776"/>
                  <a:pt x="17115" y="9823"/>
                </a:cubicBezTo>
                <a:cubicBezTo>
                  <a:pt x="17165" y="9857"/>
                  <a:pt x="17144" y="9908"/>
                  <a:pt x="17090" y="9922"/>
                </a:cubicBezTo>
                <a:cubicBezTo>
                  <a:pt x="17016" y="9941"/>
                  <a:pt x="16955" y="9904"/>
                  <a:pt x="16892" y="9872"/>
                </a:cubicBezTo>
              </a:path>
              <a:path w="7591" h="944">
                <a:moveTo>
                  <a:pt x="17785" y="9327"/>
                </a:moveTo>
                <a:cubicBezTo>
                  <a:pt x="17830" y="9301"/>
                  <a:pt x="17872" y="9287"/>
                  <a:pt x="17884" y="9252"/>
                </a:cubicBezTo>
                <a:cubicBezTo>
                  <a:pt x="17822" y="9252"/>
                  <a:pt x="17753" y="9305"/>
                  <a:pt x="17711" y="9351"/>
                </a:cubicBezTo>
                <a:cubicBezTo>
                  <a:pt x="17608" y="9464"/>
                  <a:pt x="17602" y="9562"/>
                  <a:pt x="17636" y="9699"/>
                </a:cubicBezTo>
                <a:cubicBezTo>
                  <a:pt x="17659" y="9793"/>
                  <a:pt x="17710" y="9929"/>
                  <a:pt x="17835" y="9922"/>
                </a:cubicBezTo>
                <a:cubicBezTo>
                  <a:pt x="17903" y="9918"/>
                  <a:pt x="17989" y="9792"/>
                  <a:pt x="18033" y="9748"/>
                </a:cubicBezTo>
              </a:path>
              <a:path w="7591" h="944">
                <a:moveTo>
                  <a:pt x="18951" y="9550"/>
                </a:moveTo>
                <a:cubicBezTo>
                  <a:pt x="18959" y="9550"/>
                  <a:pt x="18968" y="9550"/>
                  <a:pt x="18976" y="9550"/>
                </a:cubicBezTo>
                <a:cubicBezTo>
                  <a:pt x="18910" y="9550"/>
                  <a:pt x="18843" y="9550"/>
                  <a:pt x="18777" y="9550"/>
                </a:cubicBezTo>
              </a:path>
              <a:path w="7591" h="944">
                <a:moveTo>
                  <a:pt x="18901" y="9674"/>
                </a:moveTo>
                <a:cubicBezTo>
                  <a:pt x="18943" y="9674"/>
                  <a:pt x="18959" y="9666"/>
                  <a:pt x="18951" y="9699"/>
                </a:cubicBezTo>
                <a:cubicBezTo>
                  <a:pt x="18910" y="9699"/>
                  <a:pt x="18868" y="9699"/>
                  <a:pt x="18827" y="9699"/>
                </a:cubicBezTo>
              </a:path>
              <a:path w="7591" h="944">
                <a:moveTo>
                  <a:pt x="23540" y="9054"/>
                </a:moveTo>
                <a:cubicBezTo>
                  <a:pt x="23548" y="9054"/>
                  <a:pt x="23556" y="9054"/>
                  <a:pt x="23564" y="9054"/>
                </a:cubicBezTo>
                <a:cubicBezTo>
                  <a:pt x="23580" y="9085"/>
                  <a:pt x="23573" y="9073"/>
                  <a:pt x="23589" y="9103"/>
                </a:cubicBezTo>
                <a:cubicBezTo>
                  <a:pt x="23554" y="9092"/>
                  <a:pt x="23529" y="9088"/>
                  <a:pt x="23490" y="9079"/>
                </a:cubicBezTo>
                <a:cubicBezTo>
                  <a:pt x="23429" y="9064"/>
                  <a:pt x="23379" y="9065"/>
                  <a:pt x="23316" y="9054"/>
                </a:cubicBezTo>
                <a:cubicBezTo>
                  <a:pt x="23248" y="9042"/>
                  <a:pt x="23192" y="9031"/>
                  <a:pt x="23118" y="9029"/>
                </a:cubicBezTo>
                <a:cubicBezTo>
                  <a:pt x="23041" y="9027"/>
                  <a:pt x="22969" y="9019"/>
                  <a:pt x="22895" y="9004"/>
                </a:cubicBezTo>
                <a:cubicBezTo>
                  <a:pt x="22827" y="8990"/>
                  <a:pt x="22768" y="8981"/>
                  <a:pt x="22696" y="8979"/>
                </a:cubicBezTo>
                <a:cubicBezTo>
                  <a:pt x="22505" y="8973"/>
                  <a:pt x="22301" y="8982"/>
                  <a:pt x="22126" y="9004"/>
                </a:cubicBezTo>
                <a:cubicBezTo>
                  <a:pt x="22101" y="9007"/>
                  <a:pt x="22076" y="9002"/>
                  <a:pt x="22051" y="9004"/>
                </a:cubicBezTo>
                <a:cubicBezTo>
                  <a:pt x="22033" y="9012"/>
                  <a:pt x="22023" y="9024"/>
                  <a:pt x="21977" y="9029"/>
                </a:cubicBezTo>
                <a:cubicBezTo>
                  <a:pt x="21975" y="9030"/>
                  <a:pt x="21944" y="9046"/>
                  <a:pt x="21927" y="9054"/>
                </a:cubicBezTo>
                <a:cubicBezTo>
                  <a:pt x="21914" y="9058"/>
                  <a:pt x="21897" y="9077"/>
                  <a:pt x="21853" y="9079"/>
                </a:cubicBezTo>
                <a:cubicBezTo>
                  <a:pt x="21783" y="9082"/>
                  <a:pt x="21712" y="9096"/>
                  <a:pt x="21654" y="9103"/>
                </a:cubicBezTo>
                <a:cubicBezTo>
                  <a:pt x="21347" y="9140"/>
                  <a:pt x="21007" y="9101"/>
                  <a:pt x="20712" y="9128"/>
                </a:cubicBezTo>
                <a:cubicBezTo>
                  <a:pt x="20668" y="9132"/>
                  <a:pt x="20621" y="9148"/>
                  <a:pt x="20588" y="9153"/>
                </a:cubicBezTo>
                <a:cubicBezTo>
                  <a:pt x="20517" y="9164"/>
                  <a:pt x="20424" y="9171"/>
                  <a:pt x="20365" y="9178"/>
                </a:cubicBezTo>
                <a:cubicBezTo>
                  <a:pt x="20237" y="9194"/>
                  <a:pt x="20108" y="9165"/>
                  <a:pt x="19993" y="9203"/>
                </a:cubicBezTo>
                <a:cubicBezTo>
                  <a:pt x="19958" y="9214"/>
                  <a:pt x="19926" y="9213"/>
                  <a:pt x="19893" y="9227"/>
                </a:cubicBezTo>
              </a:path>
              <a:path w="7591" h="944">
                <a:moveTo>
                  <a:pt x="21084" y="9550"/>
                </a:moveTo>
                <a:cubicBezTo>
                  <a:pt x="21041" y="9518"/>
                  <a:pt x="21034" y="9531"/>
                  <a:pt x="21034" y="9475"/>
                </a:cubicBezTo>
                <a:cubicBezTo>
                  <a:pt x="21034" y="9404"/>
                  <a:pt x="21066" y="9405"/>
                  <a:pt x="21134" y="9401"/>
                </a:cubicBezTo>
                <a:cubicBezTo>
                  <a:pt x="21186" y="9398"/>
                  <a:pt x="21273" y="9382"/>
                  <a:pt x="21307" y="9426"/>
                </a:cubicBezTo>
                <a:cubicBezTo>
                  <a:pt x="21364" y="9499"/>
                  <a:pt x="21318" y="9538"/>
                  <a:pt x="21282" y="9599"/>
                </a:cubicBezTo>
                <a:cubicBezTo>
                  <a:pt x="21241" y="9669"/>
                  <a:pt x="21176" y="9689"/>
                  <a:pt x="21134" y="9748"/>
                </a:cubicBezTo>
                <a:cubicBezTo>
                  <a:pt x="21114" y="9789"/>
                  <a:pt x="21105" y="9795"/>
                  <a:pt x="21109" y="9823"/>
                </a:cubicBezTo>
                <a:cubicBezTo>
                  <a:pt x="21156" y="9857"/>
                  <a:pt x="21197" y="9847"/>
                  <a:pt x="21258" y="9847"/>
                </a:cubicBezTo>
                <a:cubicBezTo>
                  <a:pt x="21338" y="9847"/>
                  <a:pt x="21390" y="9852"/>
                  <a:pt x="21456" y="9872"/>
                </a:cubicBezTo>
                <a:cubicBezTo>
                  <a:pt x="21481" y="9872"/>
                  <a:pt x="21489" y="9872"/>
                  <a:pt x="21506" y="9872"/>
                </a:cubicBezTo>
              </a:path>
              <a:path w="7591" h="944">
                <a:moveTo>
                  <a:pt x="21779" y="9674"/>
                </a:moveTo>
                <a:cubicBezTo>
                  <a:pt x="21765" y="9631"/>
                  <a:pt x="21723" y="9645"/>
                  <a:pt x="21679" y="9674"/>
                </a:cubicBezTo>
                <a:cubicBezTo>
                  <a:pt x="21625" y="9710"/>
                  <a:pt x="21575" y="9746"/>
                  <a:pt x="21605" y="9823"/>
                </a:cubicBezTo>
                <a:cubicBezTo>
                  <a:pt x="21613" y="9831"/>
                  <a:pt x="21622" y="9839"/>
                  <a:pt x="21630" y="9847"/>
                </a:cubicBezTo>
                <a:cubicBezTo>
                  <a:pt x="21674" y="9836"/>
                  <a:pt x="21695" y="9807"/>
                  <a:pt x="21729" y="9773"/>
                </a:cubicBezTo>
                <a:cubicBezTo>
                  <a:pt x="21782" y="9720"/>
                  <a:pt x="21781" y="9768"/>
                  <a:pt x="21828" y="9798"/>
                </a:cubicBezTo>
                <a:cubicBezTo>
                  <a:pt x="21876" y="9829"/>
                  <a:pt x="21922" y="9861"/>
                  <a:pt x="21977" y="9872"/>
                </a:cubicBezTo>
              </a:path>
              <a:path w="7591" h="944">
                <a:moveTo>
                  <a:pt x="22076" y="9426"/>
                </a:moveTo>
                <a:cubicBezTo>
                  <a:pt x="22084" y="9418"/>
                  <a:pt x="22093" y="9409"/>
                  <a:pt x="22101" y="9401"/>
                </a:cubicBezTo>
                <a:cubicBezTo>
                  <a:pt x="22083" y="9490"/>
                  <a:pt x="22054" y="9552"/>
                  <a:pt x="22051" y="9649"/>
                </a:cubicBezTo>
                <a:cubicBezTo>
                  <a:pt x="22049" y="9718"/>
                  <a:pt x="22045" y="9746"/>
                  <a:pt x="22076" y="9798"/>
                </a:cubicBezTo>
                <a:cubicBezTo>
                  <a:pt x="22127" y="9785"/>
                  <a:pt x="22162" y="9734"/>
                  <a:pt x="22225" y="9748"/>
                </a:cubicBezTo>
                <a:cubicBezTo>
                  <a:pt x="22291" y="9763"/>
                  <a:pt x="22313" y="9815"/>
                  <a:pt x="22324" y="9872"/>
                </a:cubicBezTo>
                <a:cubicBezTo>
                  <a:pt x="22275" y="9872"/>
                  <a:pt x="22258" y="9872"/>
                  <a:pt x="22225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59280" y="4062240"/>
            <a:ext cx="349560" cy="1350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16197" y="11361"/>
                </a:moveTo>
                <a:cubicBezTo>
                  <a:pt x="16217" y="11320"/>
                  <a:pt x="16226" y="11314"/>
                  <a:pt x="16222" y="11286"/>
                </a:cubicBezTo>
                <a:cubicBezTo>
                  <a:pt x="16174" y="11286"/>
                  <a:pt x="16107" y="11299"/>
                  <a:pt x="16073" y="11336"/>
                </a:cubicBezTo>
                <a:cubicBezTo>
                  <a:pt x="16029" y="11384"/>
                  <a:pt x="15987" y="11496"/>
                  <a:pt x="15999" y="11559"/>
                </a:cubicBezTo>
                <a:cubicBezTo>
                  <a:pt x="16009" y="11613"/>
                  <a:pt x="16095" y="11671"/>
                  <a:pt x="16148" y="11658"/>
                </a:cubicBezTo>
                <a:cubicBezTo>
                  <a:pt x="16164" y="11650"/>
                  <a:pt x="16181" y="11641"/>
                  <a:pt x="16197" y="11633"/>
                </a:cubicBezTo>
              </a:path>
              <a:path w="968" h="373">
                <a:moveTo>
                  <a:pt x="16346" y="11435"/>
                </a:moveTo>
                <a:cubicBezTo>
                  <a:pt x="16370" y="11403"/>
                  <a:pt x="16376" y="11366"/>
                  <a:pt x="16396" y="11336"/>
                </a:cubicBezTo>
                <a:cubicBezTo>
                  <a:pt x="16428" y="11288"/>
                  <a:pt x="16487" y="11306"/>
                  <a:pt x="16520" y="11336"/>
                </a:cubicBezTo>
                <a:cubicBezTo>
                  <a:pt x="16568" y="11380"/>
                  <a:pt x="16597" y="11465"/>
                  <a:pt x="16570" y="11534"/>
                </a:cubicBezTo>
                <a:cubicBezTo>
                  <a:pt x="16555" y="11573"/>
                  <a:pt x="16450" y="11570"/>
                  <a:pt x="16421" y="11559"/>
                </a:cubicBezTo>
                <a:cubicBezTo>
                  <a:pt x="16413" y="11551"/>
                  <a:pt x="16404" y="11542"/>
                  <a:pt x="16396" y="11534"/>
                </a:cubicBezTo>
              </a:path>
              <a:path w="968" h="373">
                <a:moveTo>
                  <a:pt x="16818" y="11336"/>
                </a:moveTo>
                <a:cubicBezTo>
                  <a:pt x="16869" y="11314"/>
                  <a:pt x="16880" y="11322"/>
                  <a:pt x="16892" y="11286"/>
                </a:cubicBezTo>
                <a:cubicBezTo>
                  <a:pt x="16848" y="11319"/>
                  <a:pt x="16814" y="11321"/>
                  <a:pt x="16793" y="11385"/>
                </a:cubicBezTo>
                <a:cubicBezTo>
                  <a:pt x="16773" y="11444"/>
                  <a:pt x="16854" y="11486"/>
                  <a:pt x="16892" y="11509"/>
                </a:cubicBezTo>
                <a:cubicBezTo>
                  <a:pt x="16923" y="11527"/>
                  <a:pt x="16995" y="11529"/>
                  <a:pt x="16966" y="11584"/>
                </a:cubicBezTo>
                <a:cubicBezTo>
                  <a:pt x="16942" y="11629"/>
                  <a:pt x="16869" y="11674"/>
                  <a:pt x="16818" y="11658"/>
                </a:cubicBezTo>
                <a:cubicBezTo>
                  <a:pt x="16810" y="11650"/>
                  <a:pt x="16801" y="11641"/>
                  <a:pt x="16793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96040" y="3983040"/>
            <a:ext cx="169920" cy="17784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7735" y="11088"/>
                </a:moveTo>
                <a:cubicBezTo>
                  <a:pt x="17743" y="11080"/>
                  <a:pt x="17752" y="11071"/>
                  <a:pt x="17760" y="11063"/>
                </a:cubicBezTo>
                <a:cubicBezTo>
                  <a:pt x="17697" y="11076"/>
                  <a:pt x="17608" y="11114"/>
                  <a:pt x="17562" y="11162"/>
                </a:cubicBezTo>
                <a:cubicBezTo>
                  <a:pt x="17467" y="11262"/>
                  <a:pt x="17472" y="11360"/>
                  <a:pt x="17537" y="11460"/>
                </a:cubicBezTo>
                <a:cubicBezTo>
                  <a:pt x="17585" y="11534"/>
                  <a:pt x="17660" y="11601"/>
                  <a:pt x="17760" y="11559"/>
                </a:cubicBezTo>
                <a:cubicBezTo>
                  <a:pt x="17826" y="11531"/>
                  <a:pt x="17892" y="11490"/>
                  <a:pt x="17959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742080" y="3990960"/>
            <a:ext cx="98280" cy="73080"/>
          </a:xfrm>
          <a:custGeom>
            <a:avLst/>
            <a:gdLst/>
            <a:ahLst/>
            <a:rect l="l" t="t" r="r" b="b"/>
            <a:pathLst>
              <a:path w="273" h="199">
                <a:moveTo>
                  <a:pt x="18976" y="11088"/>
                </a:moveTo>
                <a:cubicBezTo>
                  <a:pt x="18984" y="11088"/>
                  <a:pt x="18992" y="11088"/>
                  <a:pt x="19000" y="11088"/>
                </a:cubicBezTo>
                <a:cubicBezTo>
                  <a:pt x="18988" y="11124"/>
                  <a:pt x="18970" y="11112"/>
                  <a:pt x="18926" y="11112"/>
                </a:cubicBezTo>
                <a:cubicBezTo>
                  <a:pt x="18872" y="11112"/>
                  <a:pt x="18847" y="11132"/>
                  <a:pt x="18802" y="11137"/>
                </a:cubicBezTo>
                <a:cubicBezTo>
                  <a:pt x="18770" y="11141"/>
                  <a:pt x="18758" y="11154"/>
                  <a:pt x="18728" y="11162"/>
                </a:cubicBezTo>
              </a:path>
              <a:path w="273" h="199">
                <a:moveTo>
                  <a:pt x="19000" y="11286"/>
                </a:moveTo>
                <a:cubicBezTo>
                  <a:pt x="18963" y="11257"/>
                  <a:pt x="18949" y="11261"/>
                  <a:pt x="18901" y="11261"/>
                </a:cubicBezTo>
                <a:cubicBezTo>
                  <a:pt x="18893" y="11261"/>
                  <a:pt x="18884" y="11261"/>
                  <a:pt x="18876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13760" y="3848040"/>
            <a:ext cx="1241280" cy="223920"/>
          </a:xfrm>
          <a:custGeom>
            <a:avLst/>
            <a:gdLst/>
            <a:ahLst/>
            <a:rect l="l" t="t" r="r" b="b"/>
            <a:pathLst>
              <a:path w="3449" h="621">
                <a:moveTo>
                  <a:pt x="20439" y="11088"/>
                </a:moveTo>
                <a:cubicBezTo>
                  <a:pt x="20416" y="11110"/>
                  <a:pt x="20411" y="11118"/>
                  <a:pt x="20389" y="11112"/>
                </a:cubicBezTo>
                <a:cubicBezTo>
                  <a:pt x="20378" y="11079"/>
                  <a:pt x="20354" y="11081"/>
                  <a:pt x="20340" y="11038"/>
                </a:cubicBezTo>
                <a:cubicBezTo>
                  <a:pt x="20327" y="11000"/>
                  <a:pt x="20342" y="10965"/>
                  <a:pt x="20365" y="10939"/>
                </a:cubicBezTo>
                <a:cubicBezTo>
                  <a:pt x="20390" y="10910"/>
                  <a:pt x="20501" y="10893"/>
                  <a:pt x="20538" y="10914"/>
                </a:cubicBezTo>
                <a:cubicBezTo>
                  <a:pt x="20636" y="10969"/>
                  <a:pt x="20658" y="11061"/>
                  <a:pt x="20662" y="11162"/>
                </a:cubicBezTo>
                <a:cubicBezTo>
                  <a:pt x="20666" y="11256"/>
                  <a:pt x="20625" y="11282"/>
                  <a:pt x="20538" y="11286"/>
                </a:cubicBezTo>
                <a:cubicBezTo>
                  <a:pt x="20449" y="11290"/>
                  <a:pt x="20392" y="11251"/>
                  <a:pt x="20315" y="11212"/>
                </a:cubicBezTo>
              </a:path>
              <a:path w="3449" h="621">
                <a:moveTo>
                  <a:pt x="20935" y="11286"/>
                </a:moveTo>
                <a:cubicBezTo>
                  <a:pt x="20963" y="11286"/>
                  <a:pt x="20974" y="11288"/>
                  <a:pt x="20985" y="11311"/>
                </a:cubicBezTo>
              </a:path>
              <a:path w="3449" h="621">
                <a:moveTo>
                  <a:pt x="21233" y="11137"/>
                </a:moveTo>
                <a:cubicBezTo>
                  <a:pt x="21203" y="11117"/>
                  <a:pt x="21154" y="11089"/>
                  <a:pt x="21183" y="11038"/>
                </a:cubicBezTo>
                <a:cubicBezTo>
                  <a:pt x="21211" y="10988"/>
                  <a:pt x="21256" y="10967"/>
                  <a:pt x="21307" y="10964"/>
                </a:cubicBezTo>
                <a:cubicBezTo>
                  <a:pt x="21391" y="10959"/>
                  <a:pt x="21424" y="10950"/>
                  <a:pt x="21431" y="11038"/>
                </a:cubicBezTo>
                <a:cubicBezTo>
                  <a:pt x="21437" y="11108"/>
                  <a:pt x="21415" y="11132"/>
                  <a:pt x="21382" y="11187"/>
                </a:cubicBezTo>
                <a:cubicBezTo>
                  <a:pt x="21357" y="11230"/>
                  <a:pt x="21318" y="11267"/>
                  <a:pt x="21307" y="11311"/>
                </a:cubicBezTo>
                <a:cubicBezTo>
                  <a:pt x="21369" y="11311"/>
                  <a:pt x="21427" y="11322"/>
                  <a:pt x="21481" y="11286"/>
                </a:cubicBezTo>
                <a:cubicBezTo>
                  <a:pt x="21516" y="11263"/>
                  <a:pt x="21566" y="11249"/>
                  <a:pt x="21605" y="11237"/>
                </a:cubicBezTo>
                <a:cubicBezTo>
                  <a:pt x="21613" y="11237"/>
                  <a:pt x="21622" y="11237"/>
                  <a:pt x="21630" y="11237"/>
                </a:cubicBezTo>
              </a:path>
              <a:path w="3449" h="621">
                <a:moveTo>
                  <a:pt x="21779" y="11013"/>
                </a:moveTo>
                <a:cubicBezTo>
                  <a:pt x="21818" y="10974"/>
                  <a:pt x="21819" y="10958"/>
                  <a:pt x="21853" y="10964"/>
                </a:cubicBezTo>
                <a:cubicBezTo>
                  <a:pt x="21843" y="11043"/>
                  <a:pt x="21828" y="11103"/>
                  <a:pt x="21828" y="11187"/>
                </a:cubicBezTo>
                <a:cubicBezTo>
                  <a:pt x="21828" y="11228"/>
                  <a:pt x="21828" y="11270"/>
                  <a:pt x="21828" y="11311"/>
                </a:cubicBezTo>
              </a:path>
              <a:path w="3449" h="621">
                <a:moveTo>
                  <a:pt x="22299" y="10964"/>
                </a:moveTo>
                <a:cubicBezTo>
                  <a:pt x="22337" y="10936"/>
                  <a:pt x="22361" y="10942"/>
                  <a:pt x="22399" y="10914"/>
                </a:cubicBezTo>
                <a:cubicBezTo>
                  <a:pt x="22388" y="10881"/>
                  <a:pt x="22345" y="10874"/>
                  <a:pt x="22299" y="10889"/>
                </a:cubicBezTo>
                <a:cubicBezTo>
                  <a:pt x="22221" y="10916"/>
                  <a:pt x="22174" y="10955"/>
                  <a:pt x="22126" y="11013"/>
                </a:cubicBezTo>
                <a:cubicBezTo>
                  <a:pt x="22098" y="11046"/>
                  <a:pt x="22101" y="11046"/>
                  <a:pt x="22101" y="11088"/>
                </a:cubicBezTo>
                <a:cubicBezTo>
                  <a:pt x="22160" y="11113"/>
                  <a:pt x="22221" y="11091"/>
                  <a:pt x="22275" y="11112"/>
                </a:cubicBezTo>
                <a:cubicBezTo>
                  <a:pt x="22308" y="11125"/>
                  <a:pt x="22371" y="11162"/>
                  <a:pt x="22374" y="11187"/>
                </a:cubicBezTo>
                <a:cubicBezTo>
                  <a:pt x="22374" y="11195"/>
                  <a:pt x="22374" y="11204"/>
                  <a:pt x="22374" y="11212"/>
                </a:cubicBezTo>
                <a:cubicBezTo>
                  <a:pt x="22359" y="11271"/>
                  <a:pt x="22335" y="11261"/>
                  <a:pt x="22275" y="11261"/>
                </a:cubicBezTo>
                <a:cubicBezTo>
                  <a:pt x="22215" y="11261"/>
                  <a:pt x="22215" y="11252"/>
                  <a:pt x="22175" y="11212"/>
                </a:cubicBezTo>
                <a:cubicBezTo>
                  <a:pt x="22187" y="11164"/>
                  <a:pt x="22230" y="11118"/>
                  <a:pt x="22275" y="11088"/>
                </a:cubicBezTo>
                <a:cubicBezTo>
                  <a:pt x="22323" y="11056"/>
                  <a:pt x="22357" y="11030"/>
                  <a:pt x="22399" y="10988"/>
                </a:cubicBezTo>
              </a:path>
              <a:path w="3449" h="621">
                <a:moveTo>
                  <a:pt x="22647" y="10939"/>
                </a:moveTo>
                <a:cubicBezTo>
                  <a:pt x="22691" y="10905"/>
                  <a:pt x="22724" y="10912"/>
                  <a:pt x="22771" y="10889"/>
                </a:cubicBezTo>
                <a:cubicBezTo>
                  <a:pt x="22806" y="10872"/>
                  <a:pt x="22874" y="10840"/>
                  <a:pt x="22920" y="10864"/>
                </a:cubicBezTo>
                <a:cubicBezTo>
                  <a:pt x="22964" y="10887"/>
                  <a:pt x="22982" y="10968"/>
                  <a:pt x="22969" y="11013"/>
                </a:cubicBezTo>
                <a:cubicBezTo>
                  <a:pt x="22952" y="11072"/>
                  <a:pt x="22910" y="11142"/>
                  <a:pt x="22870" y="11187"/>
                </a:cubicBezTo>
                <a:cubicBezTo>
                  <a:pt x="22845" y="11212"/>
                  <a:pt x="22837" y="11220"/>
                  <a:pt x="22820" y="11237"/>
                </a:cubicBezTo>
              </a:path>
              <a:path w="3449" h="621">
                <a:moveTo>
                  <a:pt x="23267" y="10914"/>
                </a:moveTo>
                <a:cubicBezTo>
                  <a:pt x="23288" y="10876"/>
                  <a:pt x="23307" y="10852"/>
                  <a:pt x="23316" y="10815"/>
                </a:cubicBezTo>
                <a:cubicBezTo>
                  <a:pt x="23290" y="10842"/>
                  <a:pt x="23232" y="10880"/>
                  <a:pt x="23217" y="10914"/>
                </a:cubicBezTo>
                <a:cubicBezTo>
                  <a:pt x="23202" y="10947"/>
                  <a:pt x="23235" y="11004"/>
                  <a:pt x="23267" y="11013"/>
                </a:cubicBezTo>
                <a:cubicBezTo>
                  <a:pt x="23342" y="11034"/>
                  <a:pt x="23371" y="11011"/>
                  <a:pt x="23440" y="11063"/>
                </a:cubicBezTo>
                <a:cubicBezTo>
                  <a:pt x="23462" y="11080"/>
                  <a:pt x="23481" y="11133"/>
                  <a:pt x="23465" y="11162"/>
                </a:cubicBezTo>
                <a:cubicBezTo>
                  <a:pt x="23435" y="11217"/>
                  <a:pt x="23395" y="11212"/>
                  <a:pt x="23341" y="11212"/>
                </a:cubicBezTo>
                <a:cubicBezTo>
                  <a:pt x="23308" y="11212"/>
                  <a:pt x="23275" y="11212"/>
                  <a:pt x="23242" y="11212"/>
                </a:cubicBezTo>
              </a:path>
              <a:path w="3449" h="621">
                <a:moveTo>
                  <a:pt x="23738" y="10765"/>
                </a:moveTo>
                <a:cubicBezTo>
                  <a:pt x="23738" y="10721"/>
                  <a:pt x="23735" y="10707"/>
                  <a:pt x="23763" y="10691"/>
                </a:cubicBezTo>
                <a:cubicBezTo>
                  <a:pt x="23689" y="10706"/>
                  <a:pt x="23615" y="10744"/>
                  <a:pt x="23540" y="10765"/>
                </a:cubicBezTo>
                <a:cubicBezTo>
                  <a:pt x="23507" y="10773"/>
                  <a:pt x="23473" y="10782"/>
                  <a:pt x="23440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69040" y="452772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7611" y="12626"/>
                </a:moveTo>
                <a:cubicBezTo>
                  <a:pt x="17636" y="12626"/>
                  <a:pt x="17661" y="12626"/>
                  <a:pt x="17686" y="12626"/>
                </a:cubicBezTo>
                <a:cubicBezTo>
                  <a:pt x="17674" y="12578"/>
                  <a:pt x="17644" y="12559"/>
                  <a:pt x="17587" y="12576"/>
                </a:cubicBezTo>
                <a:cubicBezTo>
                  <a:pt x="17507" y="12600"/>
                  <a:pt x="17431" y="12666"/>
                  <a:pt x="17413" y="12750"/>
                </a:cubicBezTo>
                <a:cubicBezTo>
                  <a:pt x="17388" y="12871"/>
                  <a:pt x="17432" y="12919"/>
                  <a:pt x="17512" y="12998"/>
                </a:cubicBezTo>
                <a:cubicBezTo>
                  <a:pt x="17595" y="13080"/>
                  <a:pt x="17656" y="13082"/>
                  <a:pt x="17760" y="13047"/>
                </a:cubicBezTo>
                <a:cubicBezTo>
                  <a:pt x="17827" y="13025"/>
                  <a:pt x="17845" y="13020"/>
                  <a:pt x="1788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24800" y="4537080"/>
            <a:ext cx="8892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8926" y="12626"/>
                </a:moveTo>
                <a:cubicBezTo>
                  <a:pt x="18926" y="12618"/>
                  <a:pt x="18926" y="12609"/>
                  <a:pt x="18926" y="12601"/>
                </a:cubicBezTo>
                <a:cubicBezTo>
                  <a:pt x="18873" y="12601"/>
                  <a:pt x="18856" y="12621"/>
                  <a:pt x="18802" y="12626"/>
                </a:cubicBezTo>
                <a:cubicBezTo>
                  <a:pt x="18766" y="12629"/>
                  <a:pt x="18731" y="12632"/>
                  <a:pt x="18703" y="12650"/>
                </a:cubicBezTo>
                <a:cubicBezTo>
                  <a:pt x="18695" y="12658"/>
                  <a:pt x="18686" y="12667"/>
                  <a:pt x="18678" y="12675"/>
                </a:cubicBezTo>
              </a:path>
              <a:path w="249" h="249">
                <a:moveTo>
                  <a:pt x="18926" y="12824"/>
                </a:moveTo>
                <a:cubicBezTo>
                  <a:pt x="18903" y="12847"/>
                  <a:pt x="18899" y="12855"/>
                  <a:pt x="18876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1920" y="447372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9695" y="12452"/>
                </a:moveTo>
                <a:cubicBezTo>
                  <a:pt x="19718" y="12429"/>
                  <a:pt x="19722" y="12421"/>
                  <a:pt x="19745" y="12427"/>
                </a:cubicBezTo>
                <a:cubicBezTo>
                  <a:pt x="19733" y="12487"/>
                  <a:pt x="19716" y="12542"/>
                  <a:pt x="19695" y="12601"/>
                </a:cubicBezTo>
                <a:cubicBezTo>
                  <a:pt x="19658" y="12706"/>
                  <a:pt x="19670" y="12812"/>
                  <a:pt x="19670" y="12923"/>
                </a:cubicBezTo>
                <a:cubicBezTo>
                  <a:pt x="19670" y="12940"/>
                  <a:pt x="19670" y="12956"/>
                  <a:pt x="19670" y="12973"/>
                </a:cubicBezTo>
              </a:path>
              <a:path w="348" h="572">
                <a:moveTo>
                  <a:pt x="19943" y="12998"/>
                </a:moveTo>
                <a:cubicBezTo>
                  <a:pt x="19982" y="12959"/>
                  <a:pt x="19983" y="12942"/>
                  <a:pt x="20017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48680" y="4402080"/>
            <a:ext cx="911160" cy="233280"/>
          </a:xfrm>
          <a:custGeom>
            <a:avLst/>
            <a:gdLst/>
            <a:ahLst/>
            <a:rect l="l" t="t" r="r" b="b"/>
            <a:pathLst>
              <a:path w="2531" h="646">
                <a:moveTo>
                  <a:pt x="20439" y="12502"/>
                </a:moveTo>
                <a:cubicBezTo>
                  <a:pt x="20416" y="12479"/>
                  <a:pt x="20408" y="12475"/>
                  <a:pt x="20414" y="12452"/>
                </a:cubicBezTo>
                <a:cubicBezTo>
                  <a:pt x="20459" y="12418"/>
                  <a:pt x="20503" y="12405"/>
                  <a:pt x="20563" y="12402"/>
                </a:cubicBezTo>
                <a:cubicBezTo>
                  <a:pt x="20609" y="12399"/>
                  <a:pt x="20694" y="12390"/>
                  <a:pt x="20712" y="12452"/>
                </a:cubicBezTo>
                <a:cubicBezTo>
                  <a:pt x="20730" y="12514"/>
                  <a:pt x="20700" y="12537"/>
                  <a:pt x="20662" y="12576"/>
                </a:cubicBezTo>
                <a:cubicBezTo>
                  <a:pt x="20634" y="12604"/>
                  <a:pt x="20599" y="12617"/>
                  <a:pt x="20563" y="12626"/>
                </a:cubicBezTo>
                <a:cubicBezTo>
                  <a:pt x="20614" y="12689"/>
                  <a:pt x="20645" y="12704"/>
                  <a:pt x="20712" y="12750"/>
                </a:cubicBezTo>
                <a:cubicBezTo>
                  <a:pt x="20746" y="12773"/>
                  <a:pt x="20782" y="12810"/>
                  <a:pt x="20786" y="12849"/>
                </a:cubicBezTo>
                <a:cubicBezTo>
                  <a:pt x="20786" y="12857"/>
                  <a:pt x="20786" y="12866"/>
                  <a:pt x="20786" y="12874"/>
                </a:cubicBezTo>
                <a:cubicBezTo>
                  <a:pt x="20729" y="12874"/>
                  <a:pt x="20690" y="12858"/>
                  <a:pt x="20638" y="12849"/>
                </a:cubicBezTo>
                <a:cubicBezTo>
                  <a:pt x="20593" y="12849"/>
                  <a:pt x="20580" y="12852"/>
                  <a:pt x="20563" y="12824"/>
                </a:cubicBezTo>
              </a:path>
              <a:path w="2531" h="646">
                <a:moveTo>
                  <a:pt x="21034" y="12477"/>
                </a:moveTo>
                <a:cubicBezTo>
                  <a:pt x="21068" y="12455"/>
                  <a:pt x="21127" y="12427"/>
                  <a:pt x="21084" y="12427"/>
                </a:cubicBezTo>
                <a:cubicBezTo>
                  <a:pt x="21052" y="12427"/>
                  <a:pt x="20999" y="12471"/>
                  <a:pt x="20985" y="12502"/>
                </a:cubicBezTo>
                <a:cubicBezTo>
                  <a:pt x="20949" y="12582"/>
                  <a:pt x="21056" y="12587"/>
                  <a:pt x="21084" y="12601"/>
                </a:cubicBezTo>
                <a:cubicBezTo>
                  <a:pt x="21118" y="12618"/>
                  <a:pt x="21216" y="12647"/>
                  <a:pt x="21233" y="12675"/>
                </a:cubicBezTo>
                <a:cubicBezTo>
                  <a:pt x="21258" y="12714"/>
                  <a:pt x="21216" y="12748"/>
                  <a:pt x="21183" y="12750"/>
                </a:cubicBezTo>
                <a:cubicBezTo>
                  <a:pt x="21096" y="12756"/>
                  <a:pt x="21063" y="12724"/>
                  <a:pt x="20985" y="12700"/>
                </a:cubicBezTo>
                <a:cubicBezTo>
                  <a:pt x="20977" y="12700"/>
                  <a:pt x="20968" y="12700"/>
                  <a:pt x="20960" y="12700"/>
                </a:cubicBezTo>
              </a:path>
              <a:path w="2531" h="646">
                <a:moveTo>
                  <a:pt x="21258" y="12452"/>
                </a:moveTo>
                <a:cubicBezTo>
                  <a:pt x="21301" y="12414"/>
                  <a:pt x="21321" y="12411"/>
                  <a:pt x="21332" y="12378"/>
                </a:cubicBezTo>
                <a:cubicBezTo>
                  <a:pt x="21274" y="12378"/>
                  <a:pt x="21216" y="12378"/>
                  <a:pt x="21158" y="12378"/>
                </a:cubicBezTo>
              </a:path>
              <a:path w="2531" h="646">
                <a:moveTo>
                  <a:pt x="21555" y="12576"/>
                </a:moveTo>
                <a:cubicBezTo>
                  <a:pt x="21547" y="12584"/>
                  <a:pt x="21538" y="12593"/>
                  <a:pt x="21530" y="12601"/>
                </a:cubicBezTo>
                <a:cubicBezTo>
                  <a:pt x="21530" y="12567"/>
                  <a:pt x="21517" y="12521"/>
                  <a:pt x="21555" y="12502"/>
                </a:cubicBezTo>
                <a:cubicBezTo>
                  <a:pt x="21615" y="12473"/>
                  <a:pt x="21644" y="12475"/>
                  <a:pt x="21704" y="12502"/>
                </a:cubicBezTo>
                <a:cubicBezTo>
                  <a:pt x="21797" y="12545"/>
                  <a:pt x="21779" y="12609"/>
                  <a:pt x="21779" y="12700"/>
                </a:cubicBezTo>
                <a:cubicBezTo>
                  <a:pt x="21779" y="12750"/>
                  <a:pt x="21748" y="12818"/>
                  <a:pt x="21679" y="12799"/>
                </a:cubicBezTo>
                <a:cubicBezTo>
                  <a:pt x="21631" y="12786"/>
                  <a:pt x="21567" y="12720"/>
                  <a:pt x="21555" y="12675"/>
                </a:cubicBezTo>
                <a:cubicBezTo>
                  <a:pt x="21555" y="12659"/>
                  <a:pt x="21555" y="12642"/>
                  <a:pt x="21555" y="12626"/>
                </a:cubicBezTo>
              </a:path>
              <a:path w="2531" h="646">
                <a:moveTo>
                  <a:pt x="22076" y="12427"/>
                </a:moveTo>
                <a:cubicBezTo>
                  <a:pt x="22076" y="12381"/>
                  <a:pt x="22070" y="12363"/>
                  <a:pt x="22101" y="12328"/>
                </a:cubicBezTo>
                <a:cubicBezTo>
                  <a:pt x="22147" y="12276"/>
                  <a:pt x="22197" y="12260"/>
                  <a:pt x="22250" y="12303"/>
                </a:cubicBezTo>
                <a:cubicBezTo>
                  <a:pt x="22298" y="12341"/>
                  <a:pt x="22316" y="12390"/>
                  <a:pt x="22299" y="12452"/>
                </a:cubicBezTo>
                <a:cubicBezTo>
                  <a:pt x="22287" y="12495"/>
                  <a:pt x="22245" y="12581"/>
                  <a:pt x="22200" y="12601"/>
                </a:cubicBezTo>
                <a:cubicBezTo>
                  <a:pt x="22176" y="12612"/>
                  <a:pt x="22149" y="12650"/>
                  <a:pt x="22200" y="12675"/>
                </a:cubicBezTo>
                <a:cubicBezTo>
                  <a:pt x="22254" y="12702"/>
                  <a:pt x="22387" y="12675"/>
                  <a:pt x="22448" y="12675"/>
                </a:cubicBezTo>
              </a:path>
              <a:path w="2531" h="646">
                <a:moveTo>
                  <a:pt x="22796" y="12328"/>
                </a:moveTo>
                <a:cubicBezTo>
                  <a:pt x="22823" y="12290"/>
                  <a:pt x="22820" y="12276"/>
                  <a:pt x="22820" y="12229"/>
                </a:cubicBezTo>
                <a:cubicBezTo>
                  <a:pt x="22754" y="12297"/>
                  <a:pt x="22705" y="12338"/>
                  <a:pt x="22671" y="12427"/>
                </a:cubicBezTo>
                <a:cubicBezTo>
                  <a:pt x="22631" y="12532"/>
                  <a:pt x="22629" y="12634"/>
                  <a:pt x="22696" y="12725"/>
                </a:cubicBezTo>
                <a:cubicBezTo>
                  <a:pt x="22726" y="12766"/>
                  <a:pt x="22838" y="12842"/>
                  <a:pt x="22895" y="12799"/>
                </a:cubicBezTo>
                <a:cubicBezTo>
                  <a:pt x="22970" y="12742"/>
                  <a:pt x="22941" y="12681"/>
                  <a:pt x="22895" y="12626"/>
                </a:cubicBezTo>
                <a:cubicBezTo>
                  <a:pt x="22858" y="12582"/>
                  <a:pt x="22778" y="12554"/>
                  <a:pt x="22721" y="12576"/>
                </a:cubicBezTo>
                <a:cubicBezTo>
                  <a:pt x="22713" y="12584"/>
                  <a:pt x="22704" y="12593"/>
                  <a:pt x="22696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9960" y="3983040"/>
            <a:ext cx="1332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860" y="11559"/>
                </a:moveTo>
                <a:cubicBezTo>
                  <a:pt x="1868" y="11567"/>
                  <a:pt x="1877" y="11576"/>
                  <a:pt x="1885" y="11584"/>
                </a:cubicBezTo>
                <a:cubicBezTo>
                  <a:pt x="1885" y="11523"/>
                  <a:pt x="1902" y="11490"/>
                  <a:pt x="1910" y="11435"/>
                </a:cubicBezTo>
                <a:cubicBezTo>
                  <a:pt x="1923" y="11342"/>
                  <a:pt x="1951" y="11277"/>
                  <a:pt x="1984" y="11187"/>
                </a:cubicBezTo>
                <a:cubicBezTo>
                  <a:pt x="2003" y="11137"/>
                  <a:pt x="2023" y="11106"/>
                  <a:pt x="2034" y="11063"/>
                </a:cubicBezTo>
                <a:cubicBezTo>
                  <a:pt x="2106" y="11063"/>
                  <a:pt x="2089" y="11114"/>
                  <a:pt x="2108" y="11187"/>
                </a:cubicBezTo>
                <a:cubicBezTo>
                  <a:pt x="2139" y="11309"/>
                  <a:pt x="2192" y="11434"/>
                  <a:pt x="2208" y="11559"/>
                </a:cubicBezTo>
                <a:cubicBezTo>
                  <a:pt x="2215" y="11615"/>
                  <a:pt x="2222" y="11655"/>
                  <a:pt x="2232" y="11708"/>
                </a:cubicBezTo>
              </a:path>
              <a:path w="373" h="646">
                <a:moveTo>
                  <a:pt x="2232" y="11485"/>
                </a:moveTo>
                <a:cubicBezTo>
                  <a:pt x="2186" y="11414"/>
                  <a:pt x="2176" y="11435"/>
                  <a:pt x="2084" y="11435"/>
                </a:cubicBezTo>
                <a:cubicBezTo>
                  <a:pt x="2025" y="11435"/>
                  <a:pt x="1999" y="11432"/>
                  <a:pt x="1960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25360" y="4037040"/>
            <a:ext cx="106560" cy="792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3324" y="11237"/>
                </a:moveTo>
                <a:cubicBezTo>
                  <a:pt x="3332" y="11229"/>
                  <a:pt x="3341" y="11220"/>
                  <a:pt x="3349" y="11212"/>
                </a:cubicBezTo>
                <a:cubicBezTo>
                  <a:pt x="3274" y="11212"/>
                  <a:pt x="3183" y="11193"/>
                  <a:pt x="3125" y="11237"/>
                </a:cubicBezTo>
              </a:path>
              <a:path w="299" h="224">
                <a:moveTo>
                  <a:pt x="3324" y="11311"/>
                </a:moveTo>
                <a:cubicBezTo>
                  <a:pt x="3386" y="11336"/>
                  <a:pt x="3457" y="11344"/>
                  <a:pt x="3398" y="11410"/>
                </a:cubicBezTo>
                <a:cubicBezTo>
                  <a:pt x="3367" y="11445"/>
                  <a:pt x="3342" y="11435"/>
                  <a:pt x="3299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66920" y="3857760"/>
            <a:ext cx="847800" cy="295200"/>
          </a:xfrm>
          <a:custGeom>
            <a:avLst/>
            <a:gdLst/>
            <a:ahLst/>
            <a:rect l="l" t="t" r="r" b="b"/>
            <a:pathLst>
              <a:path w="2358" h="819">
                <a:moveTo>
                  <a:pt x="3969" y="10765"/>
                </a:moveTo>
                <a:cubicBezTo>
                  <a:pt x="4002" y="10721"/>
                  <a:pt x="4018" y="10708"/>
                  <a:pt x="3994" y="10790"/>
                </a:cubicBezTo>
                <a:cubicBezTo>
                  <a:pt x="3973" y="10861"/>
                  <a:pt x="3969" y="10911"/>
                  <a:pt x="3969" y="10988"/>
                </a:cubicBezTo>
              </a:path>
              <a:path w="2358" h="819">
                <a:moveTo>
                  <a:pt x="4242" y="11063"/>
                </a:moveTo>
                <a:cubicBezTo>
                  <a:pt x="4250" y="11063"/>
                  <a:pt x="4258" y="11063"/>
                  <a:pt x="4266" y="11063"/>
                </a:cubicBezTo>
                <a:cubicBezTo>
                  <a:pt x="4239" y="11104"/>
                  <a:pt x="4157" y="11088"/>
                  <a:pt x="4093" y="11088"/>
                </a:cubicBezTo>
                <a:cubicBezTo>
                  <a:pt x="4019" y="11088"/>
                  <a:pt x="3910" y="11107"/>
                  <a:pt x="3845" y="11137"/>
                </a:cubicBezTo>
                <a:cubicBezTo>
                  <a:pt x="3822" y="11160"/>
                  <a:pt x="3818" y="11168"/>
                  <a:pt x="3795" y="11162"/>
                </a:cubicBezTo>
              </a:path>
              <a:path w="2358" h="819">
                <a:moveTo>
                  <a:pt x="3969" y="11311"/>
                </a:moveTo>
                <a:cubicBezTo>
                  <a:pt x="3952" y="11319"/>
                  <a:pt x="3936" y="11328"/>
                  <a:pt x="3919" y="11336"/>
                </a:cubicBezTo>
                <a:cubicBezTo>
                  <a:pt x="3968" y="11324"/>
                  <a:pt x="4018" y="11286"/>
                  <a:pt x="4068" y="11261"/>
                </a:cubicBezTo>
                <a:cubicBezTo>
                  <a:pt x="4104" y="11243"/>
                  <a:pt x="4190" y="11207"/>
                  <a:pt x="4217" y="11261"/>
                </a:cubicBezTo>
                <a:cubicBezTo>
                  <a:pt x="4242" y="11310"/>
                  <a:pt x="4194" y="11397"/>
                  <a:pt x="4167" y="11435"/>
                </a:cubicBezTo>
                <a:cubicBezTo>
                  <a:pt x="4138" y="11477"/>
                  <a:pt x="4116" y="11515"/>
                  <a:pt x="4192" y="11534"/>
                </a:cubicBezTo>
                <a:cubicBezTo>
                  <a:pt x="4256" y="11550"/>
                  <a:pt x="4335" y="11487"/>
                  <a:pt x="4390" y="11460"/>
                </a:cubicBezTo>
              </a:path>
              <a:path w="2358" h="819">
                <a:moveTo>
                  <a:pt x="4837" y="10914"/>
                </a:moveTo>
                <a:cubicBezTo>
                  <a:pt x="4849" y="10868"/>
                  <a:pt x="4861" y="10860"/>
                  <a:pt x="4887" y="10840"/>
                </a:cubicBezTo>
                <a:cubicBezTo>
                  <a:pt x="4909" y="10817"/>
                  <a:pt x="4914" y="10809"/>
                  <a:pt x="4936" y="10815"/>
                </a:cubicBezTo>
                <a:cubicBezTo>
                  <a:pt x="4985" y="10864"/>
                  <a:pt x="4986" y="10869"/>
                  <a:pt x="4986" y="10939"/>
                </a:cubicBezTo>
                <a:cubicBezTo>
                  <a:pt x="4986" y="10978"/>
                  <a:pt x="4959" y="11049"/>
                  <a:pt x="4911" y="11063"/>
                </a:cubicBezTo>
                <a:cubicBezTo>
                  <a:pt x="4864" y="11077"/>
                  <a:pt x="4745" y="11022"/>
                  <a:pt x="4713" y="10988"/>
                </a:cubicBezTo>
                <a:cubicBezTo>
                  <a:pt x="4672" y="10944"/>
                  <a:pt x="4690" y="10848"/>
                  <a:pt x="4738" y="10815"/>
                </a:cubicBezTo>
                <a:cubicBezTo>
                  <a:pt x="4809" y="10766"/>
                  <a:pt x="4923" y="10790"/>
                  <a:pt x="4986" y="10840"/>
                </a:cubicBezTo>
                <a:cubicBezTo>
                  <a:pt x="5071" y="10907"/>
                  <a:pt x="5126" y="11051"/>
                  <a:pt x="5110" y="11162"/>
                </a:cubicBezTo>
                <a:cubicBezTo>
                  <a:pt x="5093" y="11275"/>
                  <a:pt x="4995" y="11327"/>
                  <a:pt x="4887" y="11311"/>
                </a:cubicBezTo>
                <a:cubicBezTo>
                  <a:pt x="4785" y="11296"/>
                  <a:pt x="4735" y="11250"/>
                  <a:pt x="4713" y="11162"/>
                </a:cubicBezTo>
              </a:path>
              <a:path w="2358" h="819">
                <a:moveTo>
                  <a:pt x="5407" y="11261"/>
                </a:moveTo>
                <a:cubicBezTo>
                  <a:pt x="5427" y="11302"/>
                  <a:pt x="5436" y="11308"/>
                  <a:pt x="5432" y="11336"/>
                </a:cubicBezTo>
                <a:cubicBezTo>
                  <a:pt x="5423" y="11276"/>
                  <a:pt x="5383" y="11203"/>
                  <a:pt x="5407" y="11137"/>
                </a:cubicBezTo>
                <a:cubicBezTo>
                  <a:pt x="5431" y="11069"/>
                  <a:pt x="5527" y="11066"/>
                  <a:pt x="5581" y="11063"/>
                </a:cubicBezTo>
                <a:cubicBezTo>
                  <a:pt x="5622" y="11061"/>
                  <a:pt x="5664" y="11063"/>
                  <a:pt x="5705" y="11063"/>
                </a:cubicBezTo>
              </a:path>
              <a:path w="2358" h="819">
                <a:moveTo>
                  <a:pt x="5854" y="10889"/>
                </a:moveTo>
                <a:cubicBezTo>
                  <a:pt x="5812" y="10889"/>
                  <a:pt x="5796" y="10897"/>
                  <a:pt x="5804" y="10864"/>
                </a:cubicBezTo>
                <a:cubicBezTo>
                  <a:pt x="5812" y="10833"/>
                  <a:pt x="5843" y="10753"/>
                  <a:pt x="5879" y="10740"/>
                </a:cubicBezTo>
                <a:cubicBezTo>
                  <a:pt x="5939" y="10718"/>
                  <a:pt x="5989" y="10757"/>
                  <a:pt x="6003" y="10815"/>
                </a:cubicBezTo>
                <a:cubicBezTo>
                  <a:pt x="6019" y="10881"/>
                  <a:pt x="5958" y="10926"/>
                  <a:pt x="5953" y="10988"/>
                </a:cubicBezTo>
                <a:cubicBezTo>
                  <a:pt x="5953" y="10996"/>
                  <a:pt x="5953" y="11005"/>
                  <a:pt x="5953" y="11013"/>
                </a:cubicBezTo>
                <a:cubicBezTo>
                  <a:pt x="6027" y="11013"/>
                  <a:pt x="6083" y="11014"/>
                  <a:pt x="6152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33640" y="4500720"/>
            <a:ext cx="80640" cy="6336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3299" y="12502"/>
                </a:moveTo>
                <a:cubicBezTo>
                  <a:pt x="3307" y="12502"/>
                  <a:pt x="3316" y="12502"/>
                  <a:pt x="3324" y="12502"/>
                </a:cubicBezTo>
                <a:cubicBezTo>
                  <a:pt x="3265" y="12502"/>
                  <a:pt x="3225" y="12512"/>
                  <a:pt x="3175" y="12526"/>
                </a:cubicBezTo>
                <a:cubicBezTo>
                  <a:pt x="3167" y="12526"/>
                  <a:pt x="3158" y="12526"/>
                  <a:pt x="3150" y="12526"/>
                </a:cubicBezTo>
              </a:path>
              <a:path w="224" h="174">
                <a:moveTo>
                  <a:pt x="3349" y="12601"/>
                </a:moveTo>
                <a:cubicBezTo>
                  <a:pt x="3371" y="12623"/>
                  <a:pt x="3379" y="12628"/>
                  <a:pt x="3373" y="12650"/>
                </a:cubicBezTo>
                <a:cubicBezTo>
                  <a:pt x="3316" y="12650"/>
                  <a:pt x="3278" y="12670"/>
                  <a:pt x="3225" y="12675"/>
                </a:cubicBezTo>
                <a:cubicBezTo>
                  <a:pt x="3217" y="12675"/>
                  <a:pt x="3208" y="12675"/>
                  <a:pt x="3200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6120" y="4411800"/>
            <a:ext cx="304920" cy="169560"/>
          </a:xfrm>
          <a:custGeom>
            <a:avLst/>
            <a:gdLst/>
            <a:ahLst/>
            <a:rect l="l" t="t" r="r" b="b"/>
            <a:pathLst>
              <a:path w="845" h="472">
                <a:moveTo>
                  <a:pt x="4018" y="12303"/>
                </a:moveTo>
                <a:cubicBezTo>
                  <a:pt x="4018" y="12278"/>
                  <a:pt x="4018" y="12270"/>
                  <a:pt x="4018" y="12254"/>
                </a:cubicBezTo>
                <a:cubicBezTo>
                  <a:pt x="4018" y="12403"/>
                  <a:pt x="4018" y="12551"/>
                  <a:pt x="4018" y="12700"/>
                </a:cubicBezTo>
              </a:path>
              <a:path w="845" h="472">
                <a:moveTo>
                  <a:pt x="4341" y="12477"/>
                </a:moveTo>
                <a:cubicBezTo>
                  <a:pt x="4326" y="12431"/>
                  <a:pt x="4297" y="12452"/>
                  <a:pt x="4291" y="12378"/>
                </a:cubicBezTo>
                <a:cubicBezTo>
                  <a:pt x="4287" y="12328"/>
                  <a:pt x="4344" y="12292"/>
                  <a:pt x="4390" y="12303"/>
                </a:cubicBezTo>
                <a:cubicBezTo>
                  <a:pt x="4486" y="12326"/>
                  <a:pt x="4547" y="12408"/>
                  <a:pt x="4564" y="12502"/>
                </a:cubicBezTo>
                <a:cubicBezTo>
                  <a:pt x="4579" y="12583"/>
                  <a:pt x="4587" y="12669"/>
                  <a:pt x="4490" y="12675"/>
                </a:cubicBezTo>
                <a:cubicBezTo>
                  <a:pt x="4417" y="12680"/>
                  <a:pt x="4336" y="12597"/>
                  <a:pt x="4316" y="12526"/>
                </a:cubicBezTo>
                <a:cubicBezTo>
                  <a:pt x="4316" y="12485"/>
                  <a:pt x="4316" y="12477"/>
                  <a:pt x="4316" y="12452"/>
                </a:cubicBezTo>
              </a:path>
              <a:path w="845" h="472">
                <a:moveTo>
                  <a:pt x="4837" y="12675"/>
                </a:moveTo>
                <a:cubicBezTo>
                  <a:pt x="4860" y="12698"/>
                  <a:pt x="4868" y="12702"/>
                  <a:pt x="4862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1880" y="4384800"/>
            <a:ext cx="268200" cy="179280"/>
          </a:xfrm>
          <a:custGeom>
            <a:avLst/>
            <a:gdLst/>
            <a:ahLst/>
            <a:rect l="l" t="t" r="r" b="b"/>
            <a:pathLst>
              <a:path w="746" h="497">
                <a:moveTo>
                  <a:pt x="5407" y="12229"/>
                </a:moveTo>
                <a:cubicBezTo>
                  <a:pt x="5443" y="12202"/>
                  <a:pt x="5446" y="12212"/>
                  <a:pt x="5457" y="12179"/>
                </a:cubicBezTo>
                <a:cubicBezTo>
                  <a:pt x="5400" y="12179"/>
                  <a:pt x="5351" y="12166"/>
                  <a:pt x="5308" y="12204"/>
                </a:cubicBezTo>
                <a:cubicBezTo>
                  <a:pt x="5287" y="12222"/>
                  <a:pt x="5266" y="12273"/>
                  <a:pt x="5283" y="12303"/>
                </a:cubicBezTo>
                <a:cubicBezTo>
                  <a:pt x="5312" y="12355"/>
                  <a:pt x="5383" y="12378"/>
                  <a:pt x="5432" y="12402"/>
                </a:cubicBezTo>
                <a:cubicBezTo>
                  <a:pt x="5484" y="12428"/>
                  <a:pt x="5547" y="12451"/>
                  <a:pt x="5581" y="12502"/>
                </a:cubicBezTo>
                <a:cubicBezTo>
                  <a:pt x="5615" y="12554"/>
                  <a:pt x="5621" y="12606"/>
                  <a:pt x="5581" y="12650"/>
                </a:cubicBezTo>
                <a:cubicBezTo>
                  <a:pt x="5533" y="12704"/>
                  <a:pt x="5457" y="12661"/>
                  <a:pt x="5407" y="12626"/>
                </a:cubicBezTo>
                <a:cubicBezTo>
                  <a:pt x="5354" y="12589"/>
                  <a:pt x="5391" y="12522"/>
                  <a:pt x="5407" y="12477"/>
                </a:cubicBezTo>
                <a:cubicBezTo>
                  <a:pt x="5440" y="12380"/>
                  <a:pt x="5490" y="12305"/>
                  <a:pt x="5556" y="12229"/>
                </a:cubicBezTo>
              </a:path>
              <a:path w="746" h="497">
                <a:moveTo>
                  <a:pt x="5705" y="12452"/>
                </a:moveTo>
                <a:cubicBezTo>
                  <a:pt x="5705" y="12406"/>
                  <a:pt x="5699" y="12388"/>
                  <a:pt x="5730" y="12353"/>
                </a:cubicBezTo>
                <a:cubicBezTo>
                  <a:pt x="5773" y="12305"/>
                  <a:pt x="5790" y="12282"/>
                  <a:pt x="5854" y="12278"/>
                </a:cubicBezTo>
                <a:cubicBezTo>
                  <a:pt x="5943" y="12273"/>
                  <a:pt x="5968" y="12332"/>
                  <a:pt x="6003" y="12402"/>
                </a:cubicBezTo>
                <a:cubicBezTo>
                  <a:pt x="6036" y="12468"/>
                  <a:pt x="6048" y="12538"/>
                  <a:pt x="5953" y="12551"/>
                </a:cubicBezTo>
                <a:cubicBezTo>
                  <a:pt x="5867" y="12562"/>
                  <a:pt x="5824" y="12507"/>
                  <a:pt x="5779" y="12452"/>
                </a:cubicBezTo>
                <a:cubicBezTo>
                  <a:pt x="5771" y="12444"/>
                  <a:pt x="5763" y="12435"/>
                  <a:pt x="5755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76640" y="4340160"/>
            <a:ext cx="241200" cy="17784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6375" y="12254"/>
                </a:moveTo>
                <a:cubicBezTo>
                  <a:pt x="6325" y="12242"/>
                  <a:pt x="6325" y="12230"/>
                  <a:pt x="6325" y="12179"/>
                </a:cubicBezTo>
                <a:cubicBezTo>
                  <a:pt x="6325" y="12127"/>
                  <a:pt x="6320" y="12127"/>
                  <a:pt x="6350" y="12105"/>
                </a:cubicBezTo>
                <a:cubicBezTo>
                  <a:pt x="6379" y="12083"/>
                  <a:pt x="6430" y="12031"/>
                  <a:pt x="6474" y="12055"/>
                </a:cubicBezTo>
                <a:cubicBezTo>
                  <a:pt x="6526" y="12084"/>
                  <a:pt x="6539" y="12150"/>
                  <a:pt x="6524" y="12204"/>
                </a:cubicBezTo>
                <a:cubicBezTo>
                  <a:pt x="6503" y="12280"/>
                  <a:pt x="6459" y="12356"/>
                  <a:pt x="6424" y="12427"/>
                </a:cubicBezTo>
                <a:cubicBezTo>
                  <a:pt x="6400" y="12475"/>
                  <a:pt x="6400" y="12499"/>
                  <a:pt x="6400" y="12551"/>
                </a:cubicBezTo>
                <a:cubicBezTo>
                  <a:pt x="6453" y="12551"/>
                  <a:pt x="6480" y="12549"/>
                  <a:pt x="6524" y="12526"/>
                </a:cubicBezTo>
                <a:cubicBezTo>
                  <a:pt x="6557" y="12509"/>
                  <a:pt x="6611" y="12458"/>
                  <a:pt x="6623" y="12452"/>
                </a:cubicBezTo>
                <a:cubicBezTo>
                  <a:pt x="6660" y="12434"/>
                  <a:pt x="6689" y="12454"/>
                  <a:pt x="6697" y="12477"/>
                </a:cubicBezTo>
              </a:path>
              <a:path w="671" h="497">
                <a:moveTo>
                  <a:pt x="6970" y="12105"/>
                </a:moveTo>
                <a:cubicBezTo>
                  <a:pt x="6970" y="12080"/>
                  <a:pt x="6970" y="12072"/>
                  <a:pt x="6995" y="12080"/>
                </a:cubicBezTo>
                <a:cubicBezTo>
                  <a:pt x="6981" y="12135"/>
                  <a:pt x="6983" y="12192"/>
                  <a:pt x="6970" y="12254"/>
                </a:cubicBezTo>
                <a:cubicBezTo>
                  <a:pt x="6960" y="12302"/>
                  <a:pt x="6919" y="12399"/>
                  <a:pt x="6945" y="12452"/>
                </a:cubicBezTo>
                <a:cubicBezTo>
                  <a:pt x="6953" y="12460"/>
                  <a:pt x="6962" y="12469"/>
                  <a:pt x="6970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660760" y="4268880"/>
            <a:ext cx="723960" cy="268200"/>
          </a:xfrm>
          <a:custGeom>
            <a:avLst/>
            <a:gdLst/>
            <a:ahLst/>
            <a:rect l="l" t="t" r="r" b="b"/>
            <a:pathLst>
              <a:path w="2010" h="745">
                <a:moveTo>
                  <a:pt x="7466" y="12303"/>
                </a:moveTo>
                <a:cubicBezTo>
                  <a:pt x="7441" y="12303"/>
                  <a:pt x="7417" y="12303"/>
                  <a:pt x="7392" y="12303"/>
                </a:cubicBezTo>
                <a:cubicBezTo>
                  <a:pt x="7392" y="12240"/>
                  <a:pt x="7400" y="12206"/>
                  <a:pt x="7417" y="12154"/>
                </a:cubicBezTo>
                <a:cubicBezTo>
                  <a:pt x="7429" y="12118"/>
                  <a:pt x="7493" y="12116"/>
                  <a:pt x="7541" y="12129"/>
                </a:cubicBezTo>
                <a:cubicBezTo>
                  <a:pt x="7624" y="12152"/>
                  <a:pt x="7659" y="12257"/>
                  <a:pt x="7665" y="12328"/>
                </a:cubicBezTo>
                <a:cubicBezTo>
                  <a:pt x="7671" y="12405"/>
                  <a:pt x="7682" y="12499"/>
                  <a:pt x="7590" y="12526"/>
                </a:cubicBezTo>
                <a:cubicBezTo>
                  <a:pt x="7534" y="12542"/>
                  <a:pt x="7438" y="12479"/>
                  <a:pt x="7417" y="12427"/>
                </a:cubicBezTo>
                <a:cubicBezTo>
                  <a:pt x="7391" y="12363"/>
                  <a:pt x="7437" y="12304"/>
                  <a:pt x="7466" y="12254"/>
                </a:cubicBezTo>
              </a:path>
              <a:path w="2010" h="745">
                <a:moveTo>
                  <a:pt x="7888" y="12129"/>
                </a:moveTo>
                <a:cubicBezTo>
                  <a:pt x="7929" y="12110"/>
                  <a:pt x="7935" y="12102"/>
                  <a:pt x="7962" y="12105"/>
                </a:cubicBezTo>
                <a:cubicBezTo>
                  <a:pt x="7962" y="12189"/>
                  <a:pt x="7931" y="12339"/>
                  <a:pt x="7987" y="12402"/>
                </a:cubicBezTo>
                <a:cubicBezTo>
                  <a:pt x="8024" y="12443"/>
                  <a:pt x="8066" y="12431"/>
                  <a:pt x="8111" y="12402"/>
                </a:cubicBezTo>
                <a:cubicBezTo>
                  <a:pt x="8150" y="12376"/>
                  <a:pt x="8210" y="12356"/>
                  <a:pt x="8260" y="12353"/>
                </a:cubicBezTo>
                <a:cubicBezTo>
                  <a:pt x="8267" y="12353"/>
                  <a:pt x="8392" y="12355"/>
                  <a:pt x="8334" y="12402"/>
                </a:cubicBezTo>
                <a:cubicBezTo>
                  <a:pt x="8326" y="12402"/>
                  <a:pt x="8318" y="12402"/>
                  <a:pt x="8310" y="12402"/>
                </a:cubicBezTo>
              </a:path>
              <a:path w="2010" h="745">
                <a:moveTo>
                  <a:pt x="8161" y="12254"/>
                </a:moveTo>
                <a:cubicBezTo>
                  <a:pt x="8130" y="12264"/>
                  <a:pt x="8122" y="12308"/>
                  <a:pt x="8136" y="12353"/>
                </a:cubicBezTo>
                <a:cubicBezTo>
                  <a:pt x="8154" y="12412"/>
                  <a:pt x="8140" y="12497"/>
                  <a:pt x="8161" y="12551"/>
                </a:cubicBezTo>
                <a:cubicBezTo>
                  <a:pt x="8184" y="12574"/>
                  <a:pt x="8192" y="12578"/>
                  <a:pt x="8186" y="12601"/>
                </a:cubicBezTo>
              </a:path>
              <a:path w="2010" h="745">
                <a:moveTo>
                  <a:pt x="8582" y="12179"/>
                </a:moveTo>
                <a:cubicBezTo>
                  <a:pt x="8605" y="12156"/>
                  <a:pt x="8613" y="12152"/>
                  <a:pt x="8607" y="12129"/>
                </a:cubicBezTo>
                <a:cubicBezTo>
                  <a:pt x="8568" y="12168"/>
                  <a:pt x="8539" y="12197"/>
                  <a:pt x="8533" y="12254"/>
                </a:cubicBezTo>
                <a:cubicBezTo>
                  <a:pt x="8526" y="12325"/>
                  <a:pt x="8593" y="12290"/>
                  <a:pt x="8632" y="12303"/>
                </a:cubicBezTo>
                <a:cubicBezTo>
                  <a:pt x="8664" y="12314"/>
                  <a:pt x="8788" y="12332"/>
                  <a:pt x="8806" y="12353"/>
                </a:cubicBezTo>
                <a:cubicBezTo>
                  <a:pt x="8829" y="12381"/>
                  <a:pt x="8780" y="12445"/>
                  <a:pt x="8756" y="12452"/>
                </a:cubicBezTo>
                <a:cubicBezTo>
                  <a:pt x="8722" y="12462"/>
                  <a:pt x="8663" y="12474"/>
                  <a:pt x="8632" y="12477"/>
                </a:cubicBezTo>
                <a:cubicBezTo>
                  <a:pt x="8624" y="12477"/>
                  <a:pt x="8615" y="12477"/>
                  <a:pt x="8607" y="12477"/>
                </a:cubicBezTo>
              </a:path>
              <a:path w="2010" h="745">
                <a:moveTo>
                  <a:pt x="8830" y="12154"/>
                </a:moveTo>
                <a:cubicBezTo>
                  <a:pt x="8830" y="12138"/>
                  <a:pt x="8830" y="12121"/>
                  <a:pt x="8830" y="12105"/>
                </a:cubicBezTo>
                <a:cubicBezTo>
                  <a:pt x="8781" y="12105"/>
                  <a:pt x="8744" y="12122"/>
                  <a:pt x="8706" y="12129"/>
                </a:cubicBezTo>
                <a:cubicBezTo>
                  <a:pt x="8657" y="12129"/>
                  <a:pt x="8640" y="12129"/>
                  <a:pt x="8607" y="12129"/>
                </a:cubicBezTo>
              </a:path>
              <a:path w="2010" h="745">
                <a:moveTo>
                  <a:pt x="9079" y="12105"/>
                </a:moveTo>
                <a:cubicBezTo>
                  <a:pt x="9030" y="12089"/>
                  <a:pt x="9058" y="12068"/>
                  <a:pt x="9079" y="12030"/>
                </a:cubicBezTo>
                <a:cubicBezTo>
                  <a:pt x="9115" y="11966"/>
                  <a:pt x="9139" y="11918"/>
                  <a:pt x="9203" y="11881"/>
                </a:cubicBezTo>
                <a:cubicBezTo>
                  <a:pt x="9248" y="11855"/>
                  <a:pt x="9351" y="11835"/>
                  <a:pt x="9376" y="11906"/>
                </a:cubicBezTo>
                <a:cubicBezTo>
                  <a:pt x="9397" y="11964"/>
                  <a:pt x="9348" y="12057"/>
                  <a:pt x="9327" y="12105"/>
                </a:cubicBezTo>
                <a:cubicBezTo>
                  <a:pt x="9299" y="12171"/>
                  <a:pt x="9258" y="12210"/>
                  <a:pt x="9252" y="12278"/>
                </a:cubicBezTo>
                <a:cubicBezTo>
                  <a:pt x="9248" y="12325"/>
                  <a:pt x="9313" y="12343"/>
                  <a:pt x="9351" y="12353"/>
                </a:cubicBezTo>
                <a:cubicBezTo>
                  <a:pt x="9381" y="12360"/>
                  <a:pt x="9426" y="12383"/>
                  <a:pt x="9401" y="12427"/>
                </a:cubicBezTo>
                <a:cubicBezTo>
                  <a:pt x="9366" y="12490"/>
                  <a:pt x="9285" y="12477"/>
                  <a:pt x="9227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38120" y="1592280"/>
            <a:ext cx="53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93840" y="1550880"/>
            <a:ext cx="73911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908000" y="1628640"/>
            <a:ext cx="790920" cy="172908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7632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9280" y="162864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139920"/>
            <a:ext cx="251964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2637000"/>
            <a:ext cx="252360" cy="57600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908000" y="1628640"/>
            <a:ext cx="790920" cy="172908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7632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79280" y="162864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3139920"/>
            <a:ext cx="251964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637000"/>
            <a:ext cx="252360" cy="57600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936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908000" y="1628640"/>
            <a:ext cx="790920" cy="288000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4000" y="1628640"/>
            <a:ext cx="158400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23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429000"/>
            <a:ext cx="252360" cy="57636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1916280"/>
            <a:ext cx="433080" cy="288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2133720"/>
            <a:ext cx="718920" cy="43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349360"/>
            <a:ext cx="1008360" cy="64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492280"/>
            <a:ext cx="1152720" cy="792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2637000"/>
            <a:ext cx="1368360" cy="936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2852640"/>
            <a:ext cx="1440000" cy="936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997360"/>
            <a:ext cx="151128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213000"/>
            <a:ext cx="165564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3429000"/>
            <a:ext cx="1440000" cy="863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908000" y="1628640"/>
            <a:ext cx="790920" cy="288000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4000" y="1628640"/>
            <a:ext cx="158400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933720"/>
            <a:ext cx="23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429000"/>
            <a:ext cx="252360" cy="57636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1916280"/>
            <a:ext cx="433080" cy="288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2133720"/>
            <a:ext cx="718920" cy="43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2349360"/>
            <a:ext cx="1008360" cy="64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2492280"/>
            <a:ext cx="1152720" cy="792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637000"/>
            <a:ext cx="1368360" cy="936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2852640"/>
            <a:ext cx="1440000" cy="936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997360"/>
            <a:ext cx="151128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213000"/>
            <a:ext cx="165564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429000"/>
            <a:ext cx="1440000" cy="863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7192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24000" y="1916280"/>
            <a:ext cx="2447640" cy="24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5640" y="3141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314172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3141720"/>
            <a:ext cx="1800000" cy="1582560"/>
          </a:xfrm>
          <a:custGeom>
            <a:avLst/>
            <a:gdLst/>
            <a:ahLst/>
            <a:rect l="l" t="t" r="r" b="b"/>
            <a:pathLst>
              <a:path w="1134" h="997">
                <a:moveTo>
                  <a:pt x="0" y="771"/>
                </a:moveTo>
                <a:lnTo>
                  <a:pt x="91" y="589"/>
                </a:lnTo>
                <a:lnTo>
                  <a:pt x="545" y="0"/>
                </a:lnTo>
                <a:lnTo>
                  <a:pt x="1134" y="861"/>
                </a:lnTo>
                <a:lnTo>
                  <a:pt x="545" y="997"/>
                </a:lnTo>
                <a:lnTo>
                  <a:pt x="0" y="7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06560" y="2768760"/>
            <a:ext cx="912600" cy="660240"/>
          </a:xfrm>
          <a:custGeom>
            <a:avLst/>
            <a:gdLst/>
            <a:ahLst/>
            <a:rect l="l" t="t" r="r" b="b"/>
            <a:pathLst>
              <a:path w="575" h="416">
                <a:moveTo>
                  <a:pt x="114" y="416"/>
                </a:moveTo>
                <a:cubicBezTo>
                  <a:pt x="57" y="314"/>
                  <a:pt x="0" y="212"/>
                  <a:pt x="23" y="144"/>
                </a:cubicBezTo>
                <a:cubicBezTo>
                  <a:pt x="46" y="76"/>
                  <a:pt x="167" y="16"/>
                  <a:pt x="250" y="8"/>
                </a:cubicBezTo>
                <a:cubicBezTo>
                  <a:pt x="333" y="0"/>
                  <a:pt x="469" y="45"/>
                  <a:pt x="522" y="98"/>
                </a:cubicBezTo>
                <a:cubicBezTo>
                  <a:pt x="575" y="151"/>
                  <a:pt x="575" y="272"/>
                  <a:pt x="568" y="325"/>
                </a:cubicBezTo>
                <a:cubicBezTo>
                  <a:pt x="561" y="378"/>
                  <a:pt x="519" y="397"/>
                  <a:pt x="477" y="4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24000" y="1916280"/>
            <a:ext cx="2447640" cy="24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5640" y="3141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14172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3141720"/>
            <a:ext cx="1800000" cy="1582560"/>
          </a:xfrm>
          <a:custGeom>
            <a:avLst/>
            <a:gdLst/>
            <a:ahLst/>
            <a:rect l="l" t="t" r="r" b="b"/>
            <a:pathLst>
              <a:path w="1134" h="997">
                <a:moveTo>
                  <a:pt x="0" y="771"/>
                </a:moveTo>
                <a:lnTo>
                  <a:pt x="91" y="589"/>
                </a:lnTo>
                <a:lnTo>
                  <a:pt x="545" y="0"/>
                </a:lnTo>
                <a:lnTo>
                  <a:pt x="1134" y="861"/>
                </a:lnTo>
                <a:lnTo>
                  <a:pt x="545" y="997"/>
                </a:lnTo>
                <a:lnTo>
                  <a:pt x="0" y="7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6560" y="2768760"/>
            <a:ext cx="912600" cy="660240"/>
          </a:xfrm>
          <a:custGeom>
            <a:avLst/>
            <a:gdLst/>
            <a:ahLst/>
            <a:rect l="l" t="t" r="r" b="b"/>
            <a:pathLst>
              <a:path w="575" h="416">
                <a:moveTo>
                  <a:pt x="114" y="416"/>
                </a:moveTo>
                <a:cubicBezTo>
                  <a:pt x="57" y="314"/>
                  <a:pt x="0" y="212"/>
                  <a:pt x="23" y="144"/>
                </a:cubicBezTo>
                <a:cubicBezTo>
                  <a:pt x="46" y="76"/>
                  <a:pt x="167" y="16"/>
                  <a:pt x="250" y="8"/>
                </a:cubicBezTo>
                <a:cubicBezTo>
                  <a:pt x="333" y="0"/>
                  <a:pt x="469" y="45"/>
                  <a:pt x="522" y="98"/>
                </a:cubicBezTo>
                <a:cubicBezTo>
                  <a:pt x="575" y="151"/>
                  <a:pt x="575" y="272"/>
                  <a:pt x="568" y="325"/>
                </a:cubicBezTo>
                <a:cubicBezTo>
                  <a:pt x="561" y="378"/>
                  <a:pt x="519" y="397"/>
                  <a:pt x="477" y="4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56360" y="371628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03040" y="2338560"/>
            <a:ext cx="2568600" cy="609480"/>
          </a:xfrm>
          <a:custGeom>
            <a:avLst/>
            <a:gdLst/>
            <a:ahLst/>
            <a:rect l="l" t="t" r="r" b="b"/>
            <a:pathLst>
              <a:path w="1618" h="384">
                <a:moveTo>
                  <a:pt x="76" y="369"/>
                </a:moveTo>
                <a:cubicBezTo>
                  <a:pt x="38" y="376"/>
                  <a:pt x="0" y="384"/>
                  <a:pt x="121" y="324"/>
                </a:cubicBezTo>
                <a:cubicBezTo>
                  <a:pt x="242" y="264"/>
                  <a:pt x="553" y="0"/>
                  <a:pt x="802" y="7"/>
                </a:cubicBezTo>
                <a:cubicBezTo>
                  <a:pt x="1051" y="14"/>
                  <a:pt x="1334" y="191"/>
                  <a:pt x="1618" y="369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323640" y="2923920"/>
            <a:ext cx="115236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76360" y="2923920"/>
            <a:ext cx="129528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4173600">
            <a:off x="82080" y="41004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413240"/>
            <a:ext cx="863640" cy="239760"/>
          </a:xfrm>
          <a:custGeom>
            <a:avLst/>
            <a:gdLst/>
            <a:ahLst/>
            <a:rect l="l" t="t" r="r" b="b"/>
            <a:pathLst>
              <a:path w="544" h="151">
                <a:moveTo>
                  <a:pt x="0" y="151"/>
                </a:moveTo>
                <a:cubicBezTo>
                  <a:pt x="90" y="90"/>
                  <a:pt x="181" y="30"/>
                  <a:pt x="272" y="15"/>
                </a:cubicBezTo>
                <a:cubicBezTo>
                  <a:pt x="363" y="0"/>
                  <a:pt x="453" y="30"/>
                  <a:pt x="544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03040" y="2338560"/>
            <a:ext cx="2568600" cy="609480"/>
          </a:xfrm>
          <a:custGeom>
            <a:avLst/>
            <a:gdLst/>
            <a:ahLst/>
            <a:rect l="l" t="t" r="r" b="b"/>
            <a:pathLst>
              <a:path w="1618" h="384">
                <a:moveTo>
                  <a:pt x="76" y="369"/>
                </a:moveTo>
                <a:cubicBezTo>
                  <a:pt x="38" y="376"/>
                  <a:pt x="0" y="384"/>
                  <a:pt x="121" y="324"/>
                </a:cubicBezTo>
                <a:cubicBezTo>
                  <a:pt x="242" y="264"/>
                  <a:pt x="553" y="0"/>
                  <a:pt x="802" y="7"/>
                </a:cubicBezTo>
                <a:cubicBezTo>
                  <a:pt x="1051" y="14"/>
                  <a:pt x="1334" y="191"/>
                  <a:pt x="1618" y="369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23640" y="2923920"/>
            <a:ext cx="115236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76360" y="2923920"/>
            <a:ext cx="129528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940360" y="4365720"/>
                <a:ext cx="161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rot="4173600">
            <a:off x="82080" y="41004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4413240"/>
            <a:ext cx="863640" cy="239760"/>
          </a:xfrm>
          <a:custGeom>
            <a:avLst/>
            <a:gdLst/>
            <a:ahLst/>
            <a:rect l="l" t="t" r="r" b="b"/>
            <a:pathLst>
              <a:path w="544" h="151">
                <a:moveTo>
                  <a:pt x="0" y="151"/>
                </a:moveTo>
                <a:cubicBezTo>
                  <a:pt x="90" y="90"/>
                  <a:pt x="181" y="30"/>
                  <a:pt x="272" y="15"/>
                </a:cubicBezTo>
                <a:cubicBezTo>
                  <a:pt x="363" y="0"/>
                  <a:pt x="453" y="30"/>
                  <a:pt x="544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084720" y="4365720"/>
            <a:ext cx="936720" cy="604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940360" y="458136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3:41:46Z</dcterms:created>
  <dc:creator>N Holden</dc:creator>
  <dc:description/>
  <dc:language>en-US</dc:language>
  <cp:lastModifiedBy>N Holden</cp:lastModifiedBy>
  <dcterms:modified xsi:type="dcterms:W3CDTF">2009-02-16T17:27:29Z</dcterms:modified>
  <cp:revision>8</cp:revision>
  <dc:subject/>
  <dc:title>IB Revision: Radians, Arcs, Sectors</dc:title>
</cp:coreProperties>
</file>